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7F74-ADD4-4731-95BF-2883BF734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EDAE-03A9-42F7-815E-95849A058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77F-B315-4DC3-9B2A-DEB97924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894-6D99-40D6-9577-8E42A6DE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2E8-9EA5-453A-B1F3-BDAE41BE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453-328A-44B4-9C2C-775B6812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DDF-FF3F-45DD-B7E5-6D37CA2A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117-66FC-418B-B34C-FFDB6149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1F0-1AF5-4872-AA7C-DDA1474A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F00-833C-40A0-B7A6-B9C04C25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2AB-D1D0-47FF-AF9C-22692573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ED2-99FF-4B6B-ACF5-1AEAADC1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693-F677-4739-B2B1-0EBBAB94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DBB-AFF6-4660-829B-3EB66ED2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8E9B-4EC8-4417-81AA-FD79C98484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58920" y="826920"/>
          <a:ext cx="6743520" cy="3832560"/>
        </p:xfrm>
        <a:graphic>
          <a:graphicData uri="http://schemas.openxmlformats.org/drawingml/2006/table">
            <a:tbl>
              <a:tblPr/>
              <a:tblGrid>
                <a:gridCol w="1562040"/>
                <a:gridCol w="1890720"/>
                <a:gridCol w="830160"/>
                <a:gridCol w="136800"/>
                <a:gridCol w="136440"/>
                <a:gridCol w="399960"/>
                <a:gridCol w="1008000"/>
                <a:gridCol w="779400"/>
              </a:tblGrid>
              <a:tr h="9003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chodní akademie a Střední odborná škola, gen. Fr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četnictv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nanční vztahy v UČ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i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. Krupičková Jarm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nor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SP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iny a jejich účtování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28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Rozdejte žákům pracovní list – DUM č.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Spusťte prezentaci – DUM  č.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Materiál pro dataprojektor, popř. interaktivní tabul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49" name="Skupina 3"/>
          <p:cNvGrpSpPr/>
          <p:nvPr/>
        </p:nvGrpSpPr>
        <p:grpSpPr>
          <a:xfrm>
            <a:off x="1476360" y="838080"/>
            <a:ext cx="3892680" cy="847800"/>
            <a:chOff x="1476360" y="838080"/>
            <a:chExt cx="3892680" cy="847800"/>
          </a:xfrm>
        </p:grpSpPr>
        <p:pic>
          <p:nvPicPr>
            <p:cNvPr id="50" name="Obrázek 1" descr=""/>
            <p:cNvPicPr/>
            <p:nvPr/>
          </p:nvPicPr>
          <p:blipFill>
            <a:blip r:embed="rId1"/>
            <a:stretch/>
          </p:blipFill>
          <p:spPr>
            <a:xfrm>
              <a:off x="1476360" y="838080"/>
              <a:ext cx="290484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Obrázek 2" descr=""/>
            <p:cNvPicPr/>
            <p:nvPr/>
          </p:nvPicPr>
          <p:blipFill>
            <a:blip r:embed="rId2"/>
            <a:stretch/>
          </p:blipFill>
          <p:spPr>
            <a:xfrm>
              <a:off x="4788360" y="971280"/>
              <a:ext cx="580680" cy="5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57"/>
          <p:cNvSpPr/>
          <p:nvPr/>
        </p:nvSpPr>
        <p:spPr>
          <a:xfrm>
            <a:off x="7560" y="384120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ástupný symbol pro zápatí 8"/>
          <p:cNvSpPr/>
          <p:nvPr/>
        </p:nvSpPr>
        <p:spPr>
          <a:xfrm>
            <a:off x="1258920" y="5732640"/>
            <a:ext cx="6842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5680" algn="ctr">
              <a:tabLst>
                <a:tab algn="l" pos="0"/>
                <a:tab algn="l" pos="690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808080"/>
                </a:solidFill>
                <a:latin typeface="Arial"/>
                <a:ea typeface="Arial"/>
              </a:rPr>
              <a:t>Autorem materiálu a všech jeho částí, není-li uvedeno jinak, je Ing. Jarmila Krupičková. Dostupné z Metodického portálu www.rvp.cz, ISSN: 1802-4785. Provozuje Národní ústav pro vzdělávání, školské</a:t>
            </a:r>
            <a:br>
              <a:rPr sz="1100"/>
            </a:br>
            <a:r>
              <a:rPr b="0" i="1" lang="cs-CZ" sz="1100" spc="-1" strike="noStrike">
                <a:solidFill>
                  <a:srgbClr val="808080"/>
                </a:solidFill>
                <a:latin typeface="Arial"/>
                <a:ea typeface="Arial"/>
              </a:rPr>
              <a:t>poradenské zařízení a zařízení 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. obrázek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 MUCHA, Alfons.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Wikipedia Common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[online]. [cit. 24.2.2013]. Dostupný na WWW: http://cs.wikipedia.org/wiki/Soubor:Czekhoslovakia-hradcany-1918.jp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2. obrázek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 AUTOR NEZNÁMÝ.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Wikipedia Common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[online]. [cit. 24.2.2013]. Dostupný na WWW: http://cs.wikipedia.org/wiki/Soubor:Dalnicni_znamka_2006.gi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3. obrázek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 PERNAK.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Wikimedia Common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[online]. [cit. 24.2.2013]. Dostupný na WWW: http://cs.wikipedia.org/wiki/Soubor:Kolkov%C3%A1_zn%C3%A1mka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en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átkodobý finanční majet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jí povahou nahrazují pení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ceňují se v nominální hodnotě, která je zpravidla na cenině vytištěná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upem cenin se zvyšuje majetek fir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cenin je spotřeba majet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čtujeme na účet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213 – Ceni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uhy cen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štovní znám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ka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lniční znám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Zástupný symbol pro obsah 5" descr="Czekhoslovakia-hradcany-1918.jpg"/>
          <p:cNvPicPr/>
          <p:nvPr/>
        </p:nvPicPr>
        <p:blipFill>
          <a:blip r:embed="rId1"/>
          <a:stretch/>
        </p:blipFill>
        <p:spPr>
          <a:xfrm>
            <a:off x="4140360" y="1457280"/>
            <a:ext cx="4578120" cy="2187720"/>
          </a:xfrm>
          <a:prstGeom prst="rect">
            <a:avLst/>
          </a:prstGeom>
          <a:ln w="0">
            <a:noFill/>
          </a:ln>
        </p:spPr>
      </p:pic>
      <p:sp>
        <p:nvSpPr>
          <p:cNvPr id="59" name="TextovéPole 6"/>
          <p:cNvSpPr/>
          <p:nvPr/>
        </p:nvSpPr>
        <p:spPr>
          <a:xfrm>
            <a:off x="755640" y="2205000"/>
            <a:ext cx="273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vní československá poštovní známk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25-haléřová známka s motivem Hradč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Documents and Settings\Admin\Dokumenty\DUMY\Dalnicni_znamka_2006.gif"/>
          <p:cNvPicPr/>
          <p:nvPr/>
        </p:nvPicPr>
        <p:blipFill>
          <a:blip r:embed="rId2"/>
          <a:stretch/>
        </p:blipFill>
        <p:spPr>
          <a:xfrm>
            <a:off x="3924360" y="3938760"/>
            <a:ext cx="4751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uhy cen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32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enina, která osvědču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placení správního neb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dního poplat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ven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Admin\Dokumenty\DUMY\kolek"/>
          <p:cNvPicPr/>
          <p:nvPr/>
        </p:nvPicPr>
        <p:blipFill>
          <a:blip r:embed="rId1"/>
          <a:stretch/>
        </p:blipFill>
        <p:spPr>
          <a:xfrm>
            <a:off x="5148360" y="1268280"/>
            <a:ext cx="3517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čtování nákupu cen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24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kup cenin se účtuje jako přírůstek majet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aktiv) a současně úbytek peněz (aktiv), neb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závazku (pasiv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3284640"/>
          <a:ext cx="8229600" cy="31082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 - Pokla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 - Ceni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D - nákup v hotovosti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 - Dodav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P – nákup na faktu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Line 37"/>
          <p:cNvSpPr/>
          <p:nvPr/>
        </p:nvSpPr>
        <p:spPr>
          <a:xfrm>
            <a:off x="2484360" y="4292640"/>
            <a:ext cx="431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>
            <a:off x="2340000" y="5950080"/>
            <a:ext cx="431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>
            <a:off x="2484360" y="4292640"/>
            <a:ext cx="431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čtování spotřeby cen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 účtování spotřeby cenin využíváme růz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kladové účty, v závislosti na dru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otřebované ceni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3938760"/>
          <a:ext cx="8229600" cy="1554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 - Ceni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. – Různé nákl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ÚD - Výdej cenin do spotře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3" name="Line 22"/>
          <p:cNvSpPr/>
          <p:nvPr/>
        </p:nvSpPr>
        <p:spPr>
          <a:xfrm>
            <a:off x="2484360" y="5084640"/>
            <a:ext cx="431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čtování spotřeby cen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otřeba znám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= účet  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518 – Ostatní slu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otřeba telefonních kar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= účet  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518 – Ostatní slu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otřeba dálničních znám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  538 – Ostatní daně a poplat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čtování spotřeby cen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otřeba kolk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= účet  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538 – Ostatní daně a poplat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otřeba straven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= účet  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527 – Zákonné sociální nákl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čtování spotřeby cen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cvičová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příkl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čebnice účetnictví, Ing. Pavel Štohl, I. díl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5:18:20Z</dcterms:created>
  <dc:creator>Admin</dc:creator>
  <dc:description/>
  <dc:language>en-US</dc:language>
  <cp:lastModifiedBy>Václav Jukl</cp:lastModifiedBy>
  <dcterms:modified xsi:type="dcterms:W3CDTF">2013-07-02T09:53:31Z</dcterms:modified>
  <cp:revision>51</cp:revision>
  <dc:subject/>
  <dc:title>Snímek 1</dc:title>
</cp:coreProperties>
</file>