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3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Autorem materiálu a všech jeho částí, není-li uvedeno jinak, je (jméno a příjmení autora).</a:t>
            </a:r>
            <a:br>
              <a:rPr sz="1200"/>
            </a:b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Zástupný symbol pro zápatí 4"/>
          <p:cNvSpPr/>
          <p:nvPr/>
        </p:nvSpPr>
        <p:spPr>
          <a:xfrm>
            <a:off x="755640" y="5877000"/>
            <a:ext cx="77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568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Ing. Jarmila Krupičková. Dostupn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68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z Metodického portálu www.rvp.cz ; ISSN 1802-4785. Provozuje Národní ústav pro vzdělávání, školsk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68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68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56"/>
          <p:cNvGrpSpPr/>
          <p:nvPr/>
        </p:nvGrpSpPr>
        <p:grpSpPr>
          <a:xfrm>
            <a:off x="826920" y="836640"/>
            <a:ext cx="7561440" cy="4073040"/>
            <a:chOff x="826920" y="836640"/>
            <a:chExt cx="7561440" cy="4073040"/>
          </a:xfrm>
        </p:grpSpPr>
        <p:sp>
          <p:nvSpPr>
            <p:cNvPr id="509" name="Rectangle 6"/>
            <p:cNvSpPr/>
            <p:nvPr/>
          </p:nvSpPr>
          <p:spPr>
            <a:xfrm>
              <a:off x="826920" y="836640"/>
              <a:ext cx="383436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661280" y="836640"/>
              <a:ext cx="92196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583600" y="836640"/>
              <a:ext cx="280476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bchodní akademie a Střední odborná škola, gen. Fr. Fajtla, Louny, p.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svoboditelů 380, Lou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826920" y="1881360"/>
              <a:ext cx="17341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Číslo projek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561040" y="1881360"/>
              <a:ext cx="20998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Z.1.07/1.5.00/34.005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4661280" y="1881360"/>
              <a:ext cx="10533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Číslo sad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5715000" y="1881360"/>
              <a:ext cx="6148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6329880" y="1881360"/>
              <a:ext cx="11192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Číslo D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4"/>
            <p:cNvSpPr/>
            <p:nvPr/>
          </p:nvSpPr>
          <p:spPr>
            <a:xfrm>
              <a:off x="7449480" y="1881360"/>
              <a:ext cx="938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5"/>
            <p:cNvSpPr/>
            <p:nvPr/>
          </p:nvSpPr>
          <p:spPr>
            <a:xfrm>
              <a:off x="826920" y="2071080"/>
              <a:ext cx="1734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ředmě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2561040" y="2071080"/>
              <a:ext cx="58269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Účetnictv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7"/>
            <p:cNvSpPr/>
            <p:nvPr/>
          </p:nvSpPr>
          <p:spPr>
            <a:xfrm>
              <a:off x="826920" y="2260440"/>
              <a:ext cx="1734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ematický okru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8"/>
            <p:cNvSpPr/>
            <p:nvPr/>
          </p:nvSpPr>
          <p:spPr>
            <a:xfrm>
              <a:off x="2561040" y="2260440"/>
              <a:ext cx="58269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inanční vztahy v UČ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9"/>
            <p:cNvSpPr/>
            <p:nvPr/>
          </p:nvSpPr>
          <p:spPr>
            <a:xfrm>
              <a:off x="826920" y="2449440"/>
              <a:ext cx="1734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Název materiá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0"/>
            <p:cNvSpPr/>
            <p:nvPr/>
          </p:nvSpPr>
          <p:spPr>
            <a:xfrm>
              <a:off x="2559960" y="2449440"/>
              <a:ext cx="58280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Bankovní úč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1"/>
            <p:cNvSpPr/>
            <p:nvPr/>
          </p:nvSpPr>
          <p:spPr>
            <a:xfrm>
              <a:off x="826920" y="2638800"/>
              <a:ext cx="1734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u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2"/>
            <p:cNvSpPr/>
            <p:nvPr/>
          </p:nvSpPr>
          <p:spPr>
            <a:xfrm>
              <a:off x="2561040" y="2638800"/>
              <a:ext cx="58269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g. Krupičková Jarmi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3"/>
            <p:cNvSpPr/>
            <p:nvPr/>
          </p:nvSpPr>
          <p:spPr>
            <a:xfrm>
              <a:off x="826920" y="2828160"/>
              <a:ext cx="1734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atum tvor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4"/>
            <p:cNvSpPr/>
            <p:nvPr/>
          </p:nvSpPr>
          <p:spPr>
            <a:xfrm>
              <a:off x="2561040" y="2828160"/>
              <a:ext cx="20998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Březen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5"/>
            <p:cNvSpPr/>
            <p:nvPr/>
          </p:nvSpPr>
          <p:spPr>
            <a:xfrm>
              <a:off x="4661280" y="2828160"/>
              <a:ext cx="11847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oční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6"/>
            <p:cNvSpPr/>
            <p:nvPr/>
          </p:nvSpPr>
          <p:spPr>
            <a:xfrm>
              <a:off x="5846400" y="2828160"/>
              <a:ext cx="2541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SP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7"/>
            <p:cNvSpPr/>
            <p:nvPr/>
          </p:nvSpPr>
          <p:spPr>
            <a:xfrm>
              <a:off x="826920" y="3000960"/>
              <a:ext cx="7561440" cy="75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not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Využití bankovního účtu v platebním styku.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28"/>
            <p:cNvSpPr/>
            <p:nvPr/>
          </p:nvSpPr>
          <p:spPr>
            <a:xfrm>
              <a:off x="826920" y="3747960"/>
              <a:ext cx="7561440" cy="11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todický poky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. Rozdejte žákům pracovní listy – DUM č. 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pusťte prezenta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teriál pro data projektor, popř. interaktivní tab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9"/>
            <p:cNvSpPr/>
            <p:nvPr/>
          </p:nvSpPr>
          <p:spPr>
            <a:xfrm>
              <a:off x="2561040" y="1881360"/>
              <a:ext cx="0" cy="11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0"/>
            <p:cNvSpPr/>
            <p:nvPr/>
          </p:nvSpPr>
          <p:spPr>
            <a:xfrm>
              <a:off x="4661280" y="836640"/>
              <a:ext cx="0" cy="12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1"/>
            <p:cNvSpPr/>
            <p:nvPr/>
          </p:nvSpPr>
          <p:spPr>
            <a:xfrm>
              <a:off x="4661280" y="2828160"/>
              <a:ext cx="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2"/>
            <p:cNvSpPr/>
            <p:nvPr/>
          </p:nvSpPr>
          <p:spPr>
            <a:xfrm>
              <a:off x="5715000" y="1881360"/>
              <a:ext cx="0" cy="18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3"/>
            <p:cNvSpPr/>
            <p:nvPr/>
          </p:nvSpPr>
          <p:spPr>
            <a:xfrm>
              <a:off x="5846400" y="2828160"/>
              <a:ext cx="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4"/>
            <p:cNvSpPr/>
            <p:nvPr/>
          </p:nvSpPr>
          <p:spPr>
            <a:xfrm>
              <a:off x="6329880" y="1881360"/>
              <a:ext cx="0" cy="18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5"/>
            <p:cNvSpPr/>
            <p:nvPr/>
          </p:nvSpPr>
          <p:spPr>
            <a:xfrm>
              <a:off x="7449480" y="1881360"/>
              <a:ext cx="0" cy="18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6"/>
            <p:cNvSpPr/>
            <p:nvPr/>
          </p:nvSpPr>
          <p:spPr>
            <a:xfrm>
              <a:off x="826920" y="188136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7"/>
            <p:cNvSpPr/>
            <p:nvPr/>
          </p:nvSpPr>
          <p:spPr>
            <a:xfrm>
              <a:off x="826920" y="207108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8"/>
            <p:cNvSpPr/>
            <p:nvPr/>
          </p:nvSpPr>
          <p:spPr>
            <a:xfrm>
              <a:off x="826920" y="226044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9"/>
            <p:cNvSpPr/>
            <p:nvPr/>
          </p:nvSpPr>
          <p:spPr>
            <a:xfrm>
              <a:off x="826920" y="244944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0"/>
            <p:cNvSpPr/>
            <p:nvPr/>
          </p:nvSpPr>
          <p:spPr>
            <a:xfrm>
              <a:off x="826920" y="263880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1"/>
            <p:cNvSpPr/>
            <p:nvPr/>
          </p:nvSpPr>
          <p:spPr>
            <a:xfrm>
              <a:off x="826920" y="282816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42"/>
            <p:cNvSpPr/>
            <p:nvPr/>
          </p:nvSpPr>
          <p:spPr>
            <a:xfrm>
              <a:off x="826920" y="301716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3"/>
            <p:cNvSpPr/>
            <p:nvPr/>
          </p:nvSpPr>
          <p:spPr>
            <a:xfrm>
              <a:off x="826920" y="377460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4"/>
            <p:cNvSpPr/>
            <p:nvPr/>
          </p:nvSpPr>
          <p:spPr>
            <a:xfrm>
              <a:off x="826920" y="836640"/>
              <a:ext cx="0" cy="40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45"/>
            <p:cNvSpPr/>
            <p:nvPr/>
          </p:nvSpPr>
          <p:spPr>
            <a:xfrm>
              <a:off x="8388360" y="836640"/>
              <a:ext cx="0" cy="40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826920" y="83664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>
              <a:off x="826920" y="4909680"/>
              <a:ext cx="75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Skupina 3"/>
          <p:cNvGrpSpPr/>
          <p:nvPr/>
        </p:nvGrpSpPr>
        <p:grpSpPr>
          <a:xfrm>
            <a:off x="900000" y="907920"/>
            <a:ext cx="4464000" cy="865440"/>
            <a:chOff x="900000" y="907920"/>
            <a:chExt cx="4464000" cy="865440"/>
          </a:xfrm>
        </p:grpSpPr>
        <p:pic>
          <p:nvPicPr>
            <p:cNvPr id="552" name="Obrázek 1" descr=""/>
            <p:cNvPicPr/>
            <p:nvPr/>
          </p:nvPicPr>
          <p:blipFill>
            <a:blip r:embed="rId1"/>
            <a:stretch/>
          </p:blipFill>
          <p:spPr>
            <a:xfrm>
              <a:off x="900000" y="907920"/>
              <a:ext cx="333108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Obrázek 2" descr=""/>
            <p:cNvPicPr/>
            <p:nvPr/>
          </p:nvPicPr>
          <p:blipFill>
            <a:blip r:embed="rId2"/>
            <a:stretch/>
          </p:blipFill>
          <p:spPr>
            <a:xfrm>
              <a:off x="4698000" y="1044000"/>
              <a:ext cx="666000" cy="59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68360" y="1052640"/>
          <a:ext cx="8229600" cy="5665680"/>
        </p:xfrm>
        <a:graphic>
          <a:graphicData uri="http://schemas.openxmlformats.org/drawingml/2006/table">
            <a:tbl>
              <a:tblPr/>
              <a:tblGrid>
                <a:gridCol w="574560"/>
                <a:gridCol w="1225440"/>
                <a:gridCol w="3383280"/>
                <a:gridCol w="1296720"/>
                <a:gridCol w="936720"/>
                <a:gridCol w="8128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kl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Ú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čtování 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ní vklad podnikate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razena F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davate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evod mzdy zaměstnanců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ěratelé zaplatili FA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latky za vedení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ovní úč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ahový účet aktiv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zev: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21 – Bankovní úč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hybu peněz na bankovních účtech, účtujeme zásadně podle výpisů z těchto účt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ú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900000" y="1197000"/>
          <a:ext cx="7417080" cy="5060880"/>
        </p:xfrm>
        <a:graphic>
          <a:graphicData uri="http://schemas.openxmlformats.org/drawingml/2006/table">
            <a:tbl>
              <a:tblPr/>
              <a:tblGrid>
                <a:gridCol w="3456000"/>
                <a:gridCol w="3961080"/>
              </a:tblGrid>
              <a:tr h="981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– Bankovní úč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 dáti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áteční sta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ní vkla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běry pro osobní potřeb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klady z poklad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běry do poklad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hrada pohledáv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hrady dodavatelů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ipsané úro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zdy zaměstnanců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tatní závaz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latky a nákladové úro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6836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646280"/>
                <a:gridCol w="1881000"/>
                <a:gridCol w="1409760"/>
                <a:gridCol w="1646280"/>
                <a:gridCol w="16462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1 - PÚ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– Bankovní 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áteční stav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 – Vlastní 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ní vklad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1 – Peníze na cest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klad z pokladny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6836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646280"/>
                <a:gridCol w="225360"/>
                <a:gridCol w="1420920"/>
                <a:gridCol w="234720"/>
                <a:gridCol w="432000"/>
                <a:gridCol w="977760"/>
                <a:gridCol w="1646280"/>
                <a:gridCol w="164628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 – 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- Běžn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hrada FAV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xx – Ostatní pohledáv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hrady ostatních pohledáve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 - Úro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ijaté úroky   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6836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366920"/>
                <a:gridCol w="1925640"/>
                <a:gridCol w="1315800"/>
                <a:gridCol w="1800360"/>
                <a:gridCol w="216000"/>
                <a:gridCol w="160488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- Běžn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 – Účet ind. po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běr pro osobní spotřebu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1 – Peníze na cest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běr do pokladny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 - 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hrady FAP dodavatelů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68360" y="981000"/>
          <a:ext cx="8229600" cy="5764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531800"/>
                <a:gridCol w="1758960"/>
                <a:gridCol w="1646280"/>
              </a:tblGrid>
              <a:tr h="641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- Běžn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 - 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evod mzdy na osobní úče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xx – Ostatní závaz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tba daní, pojistného, …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2 - Úro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cené úroky z úvěr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468360" y="1628640"/>
          <a:ext cx="8229600" cy="4905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47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 - Běžn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 – Ostatní finanční nák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latky bance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468360" y="1341360"/>
          <a:ext cx="8229600" cy="5370480"/>
        </p:xfrm>
        <a:graphic>
          <a:graphicData uri="http://schemas.openxmlformats.org/drawingml/2006/table">
            <a:tbl>
              <a:tblPr/>
              <a:tblGrid>
                <a:gridCol w="574560"/>
                <a:gridCol w="1225440"/>
                <a:gridCol w="3383280"/>
                <a:gridCol w="1225440"/>
                <a:gridCol w="934920"/>
                <a:gridCol w="88596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kl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Ú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čtování 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Ú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ní vklad podnikate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razena dodavateli F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evod mzdy zaměstnanců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ěratelé zaplatili FA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latky za vedení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8:27:42Z</dcterms:created>
  <dc:creator>Tereza Bížová</dc:creator>
  <dc:description>Dostupné z Metodického portálu www.rvp.cz, ISSN: 1802-4785, financovaného z ESF a státního rozpočtu ČR. Provozováno Výzkumným ústavem pedagogickým v Praze.</dc:description>
  <dc:language>en-US</dc:language>
  <cp:lastModifiedBy>krupickova</cp:lastModifiedBy>
  <dcterms:modified xsi:type="dcterms:W3CDTF">2013-06-18T08:25:35Z</dcterms:modified>
  <cp:revision>31</cp:revision>
  <dc:subject/>
  <dc:title>Název učebního materiálu</dc:title>
</cp:coreProperties>
</file>