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CBB-E84B-4952-905D-9505027B4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C26-8B00-454B-A754-D521E038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468-5AEA-4D9D-A3DB-C23499D5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2EF-BCBB-4638-9B54-CB5B3A5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19C-692A-4A02-B696-23C58460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D4E-C564-4213-B1DD-F55D52C7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A96-D98E-449D-A926-80C8613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1E6-6EE3-4753-87A0-0782B67F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5D0-6A14-4F00-B85F-B1C2923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D0E-26D6-4AC8-83FE-FB815040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9BA-6621-42B8-A754-C63959CC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FA4-3D6D-48BD-8C74-32A990B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37E-56F3-4CC6-AA04-61905AC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8B4-7E90-41C4-ABDE-305640D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A88-C6D4-4F65-8466-9906DB81D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82140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vě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řez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čtování na úvěrových účtec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dejte žákům pracovní list – DUM č.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usťte prezenta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eriál pro data projektor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57"/>
          <p:cNvSpPr/>
          <p:nvPr/>
        </p:nvSpPr>
        <p:spPr>
          <a:xfrm>
            <a:off x="7560" y="38412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7"/>
          <p:cNvSpPr/>
          <p:nvPr/>
        </p:nvSpPr>
        <p:spPr>
          <a:xfrm>
            <a:off x="1258920" y="5732640"/>
            <a:ext cx="67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  <a:ea typeface="Arial"/>
              </a:rPr>
              <a:t>Autorem materiálu a všech jeho částí, není-li uvedeno jinak, je Ing. Jarmila Krupičková. Dostupn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  <a:ea typeface="Arial"/>
              </a:rPr>
              <a:t>z Metodického portálu www.rvp.cz, ISSN: 1802-4785. Provozuje Národní ústav pro vzdělávání, školské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  <a:ea typeface="Arial"/>
              </a:rPr>
              <a:t>poradenské zařízení a zařízení pro další vzdělávání pedagogických pracovníků (NÚV)</a:t>
            </a: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látka úv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9640" y="2133720"/>
          <a:ext cx="7921800" cy="3917880"/>
        </p:xfrm>
        <a:graphic>
          <a:graphicData uri="http://schemas.openxmlformats.org/drawingml/2006/table">
            <a:tbl>
              <a:tblPr/>
              <a:tblGrid>
                <a:gridCol w="1175040"/>
                <a:gridCol w="963360"/>
                <a:gridCol w="963720"/>
                <a:gridCol w="963720"/>
                <a:gridCol w="963360"/>
                <a:gridCol w="963720"/>
                <a:gridCol w="963720"/>
                <a:gridCol w="965160"/>
              </a:tblGrid>
              <a:tr h="1523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– Bankovní 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 –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ovní  úvě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átka úvěru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átka úvěru 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 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197000"/>
          <a:ext cx="8229600" cy="5221440"/>
        </p:xfrm>
        <a:graphic>
          <a:graphicData uri="http://schemas.openxmlformats.org/drawingml/2006/table">
            <a:tbl>
              <a:tblPr/>
              <a:tblGrid>
                <a:gridCol w="585720"/>
                <a:gridCol w="4465800"/>
                <a:gridCol w="1224000"/>
                <a:gridCol w="1079280"/>
                <a:gridCol w="8748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nutí krátkodobého úvě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výpis z úvěrového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výpis z bankovního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hrada FAP přímo z bankovního úč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1. splátka krátkodobého úvě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splátka j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splátka úro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1. splátka krátkodobého úvě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splátka dlouhodobého úvě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splátka j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splátka úro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splátka dlouhodobého úvě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Úv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niky financuje své potřeby 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lastních zdroj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zích zdrojů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úvě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věry mohou bý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átkodob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 splatné do 1 ro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louhodob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platné za více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Úvě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átkodobé úvě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tujeme do účtové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řídy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u určeny především pro financování provozu – tj. mzdy, nákup zás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louhodobé úvě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tujeme do účtové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řídy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u určeny především pro financování investic k rozvoji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Čerpání úvě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erpání úvěru znamená, že ban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řipisuje povolené úvěry přímo na běžný ú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římo proplácí dodavatelské faktury dodavatelů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Úro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e cena za poskytnutí úvěru, účtujeme ho do finančních náklad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věry se splácejí z bankovního běžného ú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věry účtujeme na úč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1  - Krátkodobé bankovní úvě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61 – Bankovní úvě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03280" y="3573360"/>
          <a:ext cx="6096240" cy="2527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67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  - Krátkodobé bankovní úvě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 – Bankovní úvě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jednodušené 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skytnutí úv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133720"/>
          <a:ext cx="7848360" cy="434628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9960"/>
                <a:gridCol w="1568520"/>
                <a:gridCol w="201600"/>
                <a:gridCol w="1368360"/>
              </a:tblGrid>
              <a:tr h="946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ovní úvě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- Bankovní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←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věr připsán na účet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 - 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úvěru proplacena FAP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jednodušené schéma účt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05228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látky úvěru a úroku z úvě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989000"/>
          <a:ext cx="8064720" cy="4383360"/>
        </p:xfrm>
        <a:graphic>
          <a:graphicData uri="http://schemas.openxmlformats.org/drawingml/2006/table">
            <a:tbl>
              <a:tblPr/>
              <a:tblGrid>
                <a:gridCol w="1613160"/>
                <a:gridCol w="1612800"/>
                <a:gridCol w="1612800"/>
                <a:gridCol w="1612800"/>
                <a:gridCol w="1613160"/>
              </a:tblGrid>
              <a:tr h="107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– Bankovní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ovní úvě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átka úvěru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 - Úro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ky z úvěru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kladem pro účtování úvěrů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1602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pis z úvěrového účtu - VÚ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1602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pis z bankovního účtu – VB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160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nik nemá oba doklady současně k dispozici, proto při účtování využívá úč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61 – Peníze na ces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kytnutí úv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2133720"/>
          <a:ext cx="7921800" cy="3558960"/>
        </p:xfrm>
        <a:graphic>
          <a:graphicData uri="http://schemas.openxmlformats.org/drawingml/2006/table">
            <a:tbl>
              <a:tblPr/>
              <a:tblGrid>
                <a:gridCol w="990720"/>
                <a:gridCol w="988920"/>
                <a:gridCol w="990720"/>
                <a:gridCol w="990720"/>
                <a:gridCol w="988920"/>
                <a:gridCol w="990360"/>
                <a:gridCol w="990720"/>
                <a:gridCol w="990720"/>
              </a:tblGrid>
              <a:tr h="129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ovní  úvě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 –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– Bankovní 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sání úvěr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psání úvěr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krupickova</cp:lastModifiedBy>
  <dcterms:modified xsi:type="dcterms:W3CDTF">2013-06-18T08:44:14Z</dcterms:modified>
  <cp:revision>34</cp:revision>
  <dc:subject/>
  <dc:title>Snímek 1</dc:title>
</cp:coreProperties>
</file>