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2C2-20AE-4D1C-A520-00034273B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40B-BEB6-4434-BB6A-19829DD0A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AED-3133-49A4-B949-5FA2F4120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472-10F3-4414-A9BD-4AD3AA5A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2A4-F0D4-4B8A-ABC5-9EC4FCFE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FD3-6476-469B-AF93-DEAFF50A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271-37D3-4091-A172-6972153D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C79-CCB1-4C93-A6E0-9492EEAC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6CA-3428-41BC-903B-331BDCC5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8E4-3977-42AA-B1B2-2E5AB4D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DA1-41E6-4663-A43C-8DF53060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4E6-6440-4DC8-B24B-664BEA7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FBA-0DBF-490C-8F47-5CB8BD0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FB8-BB14-4AB8-A4C1-5EDEFF7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823-294E-4269-AD97-8C6DEC0E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06A5-23BA-4CC4-B26E-7CC6A7079F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uov.cz/statni-tesnopisny-ustav/balicek-tiskopis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382608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kladn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den 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kladna, doklady, základní po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Rozdejte žákům  pracovní listy - DUM č.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pusťte prezentaci – 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Materiál pro data projekt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popř. interaktivní tab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49"/>
          <p:cNvSpPr/>
          <p:nvPr/>
        </p:nvSpPr>
        <p:spPr>
          <a:xfrm>
            <a:off x="1258920" y="5661000"/>
            <a:ext cx="676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</a:rPr>
              <a:t>Autorem materiálu a všech jeho částí, není-li uvedeno jinak, je Ing. Jarmila Krupičková. Dostupné z Metodického portálu www.rvp.cz, ISSN: 1802-4785. Provozuje Národní ústav pro vzdělávání, školské</a:t>
            </a:r>
            <a:br>
              <a:rPr sz="1100"/>
            </a:br>
            <a:r>
              <a:rPr b="0" i="1" lang="cs-CZ" sz="1100" spc="-1" strike="noStrike">
                <a:solidFill>
                  <a:srgbClr val="808080"/>
                </a:solidFill>
                <a:latin typeface="Arial"/>
              </a:rPr>
              <a:t>poradenské zařízení a zařízení 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ladní kni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ladní kniha je analytickou eviden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účtu 211 – 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3141720"/>
          <a:ext cx="7921440" cy="2806560"/>
        </p:xfrm>
        <a:graphic>
          <a:graphicData uri="http://schemas.openxmlformats.org/drawingml/2006/table">
            <a:tbl>
              <a:tblPr/>
              <a:tblGrid>
                <a:gridCol w="792000"/>
                <a:gridCol w="1008000"/>
                <a:gridCol w="1008360"/>
                <a:gridCol w="1944360"/>
                <a:gridCol w="1079640"/>
                <a:gridCol w="936720"/>
                <a:gridCol w="115236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. čí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d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ůsta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žba za prodej výrob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okladní l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maximální částka, která smí zůst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oklad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níze převyšující tento limit firma odvede do ban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stku si určí sama firma v závislosti na pojistné smlouv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Hmotná odpověd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ladník ručí za peníze v poklad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stí-li se v pokladně manko, musí celou částku pokladník uhra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kontro poklad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enní uzávěrka pokladn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dělá pokladník po skončení pokladních ho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ávěrk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rovnává skutečný stav peněz v pokladně se zůstatkem v pokladní kniz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VARCOVÁ, J a kol.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Ekonomie – stručný přehle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2011/2012. Zlín, CEED 2011. ISBN 978-80-87301-01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ÚOV. Balíček tiskopisů [online]. [cit. 2013-01-10]. Dostupné z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uov.cz/statni-tesnopisny-ustav/balicek-tiskopi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okla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ladna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rez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ú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 pokladně evidujeme stav a pohyb peně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87640" y="2781360"/>
          <a:ext cx="5472000" cy="1170000"/>
        </p:xfrm>
        <a:graphic>
          <a:graphicData uri="http://schemas.openxmlformats.org/drawingml/2006/table">
            <a:tbl>
              <a:tblPr/>
              <a:tblGrid>
                <a:gridCol w="1373400"/>
                <a:gridCol w="1373040"/>
                <a:gridCol w="1363680"/>
                <a:gridCol w="1361880"/>
              </a:tblGrid>
              <a:tr h="43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- Pokla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říjem peně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tavíme 2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PD – Příjmový pokladní do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●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1x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 zapisujeme d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kladní kni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současně zapisujeme (účtujeme) na úč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11 – 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●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1x doklad předáme platícímu – slouží jako potvrzení o zapla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Vzor dokla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\Dokumenty\DUMY\prijmovy_pokladni_doklad_vzor (1).jpg"/>
          <p:cNvPicPr/>
          <p:nvPr/>
        </p:nvPicPr>
        <p:blipFill>
          <a:blip r:embed="rId1"/>
          <a:stretch/>
        </p:blipFill>
        <p:spPr>
          <a:xfrm>
            <a:off x="1476360" y="1000080"/>
            <a:ext cx="668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ýdej peně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tavíme 1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PD – Výdajový pokladní do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klad zapisujeme d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kladní kni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současně zapisujeme (účtujeme) na úč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11 – 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Účtenky a Faktury jsou součástí Výdajového pokladního dokla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Vzor dokla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Dokumenty\DUMY\vydajovy_pokladni_doklad_vzor.jpg"/>
          <p:cNvPicPr/>
          <p:nvPr/>
        </p:nvPicPr>
        <p:blipFill>
          <a:blip r:embed="rId1"/>
          <a:stretch/>
        </p:blipFill>
        <p:spPr>
          <a:xfrm>
            <a:off x="611280" y="981000"/>
            <a:ext cx="77612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okladní kni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ladní kniha je analytickou eviden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účtu 211 – 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3068640"/>
          <a:ext cx="7921440" cy="2806560"/>
        </p:xfrm>
        <a:graphic>
          <a:graphicData uri="http://schemas.openxmlformats.org/drawingml/2006/table">
            <a:tbl>
              <a:tblPr/>
              <a:tblGrid>
                <a:gridCol w="792000"/>
                <a:gridCol w="936720"/>
                <a:gridCol w="1008000"/>
                <a:gridCol w="2160720"/>
                <a:gridCol w="934920"/>
                <a:gridCol w="936720"/>
                <a:gridCol w="115236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. čí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d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ůsta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ladní kni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ladní kniha je analytickou eviden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účtu 211 – 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3068640"/>
          <a:ext cx="7921440" cy="2806560"/>
        </p:xfrm>
        <a:graphic>
          <a:graphicData uri="http://schemas.openxmlformats.org/drawingml/2006/table">
            <a:tbl>
              <a:tblPr/>
              <a:tblGrid>
                <a:gridCol w="720720"/>
                <a:gridCol w="936360"/>
                <a:gridCol w="1008360"/>
                <a:gridCol w="2158920"/>
                <a:gridCol w="1008000"/>
                <a:gridCol w="936720"/>
                <a:gridCol w="115236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. čí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d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ůsta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ladní kni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ladní kniha je analytickou eviden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účtu 211 – pokla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3068640"/>
          <a:ext cx="7921440" cy="2806560"/>
        </p:xfrm>
        <a:graphic>
          <a:graphicData uri="http://schemas.openxmlformats.org/drawingml/2006/table">
            <a:tbl>
              <a:tblPr/>
              <a:tblGrid>
                <a:gridCol w="792000"/>
                <a:gridCol w="936720"/>
                <a:gridCol w="1079640"/>
                <a:gridCol w="2089080"/>
                <a:gridCol w="934920"/>
                <a:gridCol w="936720"/>
                <a:gridCol w="115236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. čí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d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ůsta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Ú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5:18:20Z</dcterms:created>
  <dc:creator>Admin</dc:creator>
  <dc:description/>
  <dc:language>en-US</dc:language>
  <cp:lastModifiedBy>Václav Jukl</cp:lastModifiedBy>
  <dcterms:modified xsi:type="dcterms:W3CDTF">2013-07-02T09:49:19Z</dcterms:modified>
  <cp:revision>82</cp:revision>
  <dc:subject/>
  <dc:title>Snímek 1</dc:title>
</cp:coreProperties>
</file>