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D118-C410-4545-9F63-433875EB2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937-62A7-4371-A5E6-207E963F5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65F-6D86-4D90-8B49-8E56132A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935-CF98-4C07-8C19-458B9620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561-2B86-49E5-8EE5-AC1AC043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DAD-3D7F-400D-8EB6-D2EBA6FE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6CB-3AE0-479C-82A9-0C3E4452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5CE-5E6D-42E3-A41D-9AD5AF41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4B1-4800-4205-A5F3-C6D37FB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58B-F560-40B3-BDD7-F66AC0D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23E-3F36-433E-A868-E64E1A7B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7B1-EDA5-4FBD-AB55-97DE7A4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A69-576F-4692-A9A0-A39EF66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80B-A6FC-400D-82D1-0D52AB5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A11D-8FA1-41A0-97AC-22F3CD9C4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406584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36800"/>
                <a:gridCol w="136440"/>
                <a:gridCol w="399960"/>
                <a:gridCol w="1008000"/>
                <a:gridCol w="779400"/>
              </a:tblGrid>
              <a:tr h="900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zhotovostní platební st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řez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8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žívání bankovního účtu v platebním styku.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 Rozdejte žákům pracovní listy – DUM č.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usťte prezentaci – DUM č. 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eriál pro data projektor, popř. interaktivní tabu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ovéPole 5"/>
          <p:cNvSpPr/>
          <p:nvPr/>
        </p:nvSpPr>
        <p:spPr>
          <a:xfrm>
            <a:off x="1187280" y="5516640"/>
            <a:ext cx="698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08080"/>
                </a:solidFill>
                <a:latin typeface="Arial"/>
                <a:ea typeface="Arial"/>
              </a:rPr>
              <a:t>Autorem materiálu a všech jeho částí, není-li uvedeno jinak, je Ing. Jarmila Krupičková. Dostupné z Metodického portálu www.rvp.cz, ISSN: 1802-4785. Provozuje Národní ústav pro vzdělávání, školské poradenské zařízení a zařízení 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ÚOV. Balíček tiskopisů [online]. [cit. 2013-01-10]. Dostupné z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nuov.cz/statni-tesnopisny-ustav/balicek-tiskopi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zhotovostní platební sty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kutečňuje se prostřednictvím ba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y zřiz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ínované vklad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slouží k vytváření finančních rezer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ěžné úč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peníze mají být kdykoliv pohotově k dispozic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znik ú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a uzavře s podnikatelem smlouvu o vedení účtu. Součástí smlouvy je podpisový vz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kteristika běžného ú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et slouží k příjmu vkladů z pokladny, úhrad od odběratelů za prodané výrobky a služb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placení dodavatelům, státu, zdravotním pojišťovnám, vlastním výběrům do pokladn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placení úroků z úvěru a bankovních poplatk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ýpis z ú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písemný doklad k určitému 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uje o pohybu peněžních prostředků na ú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uje o počátečním a konečném zůstat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a jej vyhotovuje v pravidelných intervalech (denní, měsíční, 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uží k účtování na účtu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21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nkovní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ú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bní sty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a provádí platby na základě pokynů podnikat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ím může bý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říkaz k úhrad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dnorázov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◘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val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dnotliv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◘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romad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říkaz k inka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říkaz k úhradě - 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2133720"/>
          <a:ext cx="8229600" cy="2593800"/>
        </p:xfrm>
        <a:graphic>
          <a:graphicData uri="http://schemas.openxmlformats.org/drawingml/2006/table">
            <a:tbl>
              <a:tblPr/>
              <a:tblGrid>
                <a:gridCol w="1176120"/>
                <a:gridCol w="1067040"/>
                <a:gridCol w="1284120"/>
                <a:gridCol w="1174680"/>
                <a:gridCol w="1284480"/>
                <a:gridCol w="1066680"/>
                <a:gridCol w="1176480"/>
              </a:tblGrid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ika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k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ikat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í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ikat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ika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úhrad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říkaz k úhradě - vz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71640" y="1989000"/>
          <a:ext cx="7213680" cy="3764160"/>
        </p:xfrm>
        <a:graphic>
          <a:graphicData uri="http://schemas.openxmlformats.org/drawingml/2006/table">
            <a:tbl>
              <a:tblPr/>
              <a:tblGrid>
                <a:gridCol w="595080"/>
                <a:gridCol w="228600"/>
                <a:gridCol w="750960"/>
                <a:gridCol w="609840"/>
                <a:gridCol w="102960"/>
                <a:gridCol w="127080"/>
                <a:gridCol w="295200"/>
                <a:gridCol w="608040"/>
                <a:gridCol w="963720"/>
                <a:gridCol w="734760"/>
                <a:gridCol w="979560"/>
                <a:gridCol w="609840"/>
                <a:gridCol w="60804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 Ř Í K A Z   K   Ú H R A D 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BOČ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atum splat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ankovní spoje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íslo účtu plát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ód ban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 gridSpan="3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ě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ymboly plat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íslo účtu příjem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ód ban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ást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ariabil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onstant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pecifick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gridSpan="3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plňující údaj ban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údaj pro vnitřní potřebu příkaz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ísto a datum vystave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dpis(y), razítko příkaz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olení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k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 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49"/>
          <p:cNvGrpSpPr/>
          <p:nvPr/>
        </p:nvGrpSpPr>
        <p:grpSpPr>
          <a:xfrm>
            <a:off x="468360" y="1413000"/>
            <a:ext cx="8229600" cy="2660400"/>
            <a:chOff x="468360" y="1413000"/>
            <a:chExt cx="8229600" cy="2660400"/>
          </a:xfrm>
        </p:grpSpPr>
        <p:sp>
          <p:nvSpPr>
            <p:cNvPr id="67" name="Rectangle 4"/>
            <p:cNvSpPr/>
            <p:nvPr/>
          </p:nvSpPr>
          <p:spPr>
            <a:xfrm>
              <a:off x="468360" y="1413000"/>
              <a:ext cx="1176120" cy="266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dnika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1644480" y="1413000"/>
              <a:ext cx="1067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výp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2711520" y="1413000"/>
              <a:ext cx="1366920" cy="266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an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dnika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>
              <a:off x="4078440" y="1413000"/>
              <a:ext cx="3443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říkaz k inkas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7521480" y="1413000"/>
              <a:ext cx="1176480" cy="266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dnika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4078440" y="1844640"/>
              <a:ext cx="10918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5170320" y="1844640"/>
              <a:ext cx="12844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6454800" y="1844640"/>
              <a:ext cx="10666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>
              <a:off x="1644480" y="1844640"/>
              <a:ext cx="10670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z úč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1644480" y="2216160"/>
              <a:ext cx="10670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4"/>
            <p:cNvSpPr/>
            <p:nvPr/>
          </p:nvSpPr>
          <p:spPr>
            <a:xfrm>
              <a:off x="4078440" y="2216160"/>
              <a:ext cx="10918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5170320" y="2216160"/>
              <a:ext cx="12844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6454800" y="2216160"/>
              <a:ext cx="10666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7"/>
            <p:cNvSpPr/>
            <p:nvPr/>
          </p:nvSpPr>
          <p:spPr>
            <a:xfrm>
              <a:off x="1644480" y="2587680"/>
              <a:ext cx="10670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4078440" y="2587680"/>
              <a:ext cx="10918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9"/>
            <p:cNvSpPr/>
            <p:nvPr/>
          </p:nvSpPr>
          <p:spPr>
            <a:xfrm>
              <a:off x="5170320" y="2587680"/>
              <a:ext cx="1284480" cy="148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an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dnikate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0"/>
            <p:cNvSpPr/>
            <p:nvPr/>
          </p:nvSpPr>
          <p:spPr>
            <a:xfrm>
              <a:off x="6454800" y="2587680"/>
              <a:ext cx="10666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1"/>
            <p:cNvSpPr/>
            <p:nvPr/>
          </p:nvSpPr>
          <p:spPr>
            <a:xfrm>
              <a:off x="1644480" y="2959200"/>
              <a:ext cx="10670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2"/>
            <p:cNvSpPr/>
            <p:nvPr/>
          </p:nvSpPr>
          <p:spPr>
            <a:xfrm>
              <a:off x="4078440" y="2959200"/>
              <a:ext cx="10918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část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3"/>
            <p:cNvSpPr/>
            <p:nvPr/>
          </p:nvSpPr>
          <p:spPr>
            <a:xfrm>
              <a:off x="6454800" y="2959200"/>
              <a:ext cx="10666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výp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>
              <a:off x="1644480" y="3330720"/>
              <a:ext cx="106704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ouh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5"/>
            <p:cNvSpPr/>
            <p:nvPr/>
          </p:nvSpPr>
          <p:spPr>
            <a:xfrm>
              <a:off x="4078440" y="3330720"/>
              <a:ext cx="109188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6"/>
            <p:cNvSpPr/>
            <p:nvPr/>
          </p:nvSpPr>
          <p:spPr>
            <a:xfrm>
              <a:off x="6454800" y="3330720"/>
              <a:ext cx="106668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z úč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1644480" y="3701880"/>
              <a:ext cx="10670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8"/>
            <p:cNvSpPr/>
            <p:nvPr/>
          </p:nvSpPr>
          <p:spPr>
            <a:xfrm>
              <a:off x="4078440" y="3701880"/>
              <a:ext cx="10918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9"/>
            <p:cNvSpPr/>
            <p:nvPr/>
          </p:nvSpPr>
          <p:spPr>
            <a:xfrm>
              <a:off x="6454800" y="3701880"/>
              <a:ext cx="10666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1644480" y="1413000"/>
              <a:ext cx="0" cy="26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1"/>
            <p:cNvSpPr/>
            <p:nvPr/>
          </p:nvSpPr>
          <p:spPr>
            <a:xfrm>
              <a:off x="2711520" y="1413000"/>
              <a:ext cx="0" cy="26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2"/>
            <p:cNvSpPr/>
            <p:nvPr/>
          </p:nvSpPr>
          <p:spPr>
            <a:xfrm>
              <a:off x="4078440" y="1413000"/>
              <a:ext cx="0" cy="26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3"/>
            <p:cNvSpPr/>
            <p:nvPr/>
          </p:nvSpPr>
          <p:spPr>
            <a:xfrm>
              <a:off x="5170320" y="258768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4"/>
            <p:cNvSpPr/>
            <p:nvPr/>
          </p:nvSpPr>
          <p:spPr>
            <a:xfrm>
              <a:off x="6454800" y="258768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7521480" y="1413000"/>
              <a:ext cx="0" cy="26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5170320" y="2587680"/>
              <a:ext cx="128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>
              <a:off x="468360" y="1413000"/>
              <a:ext cx="0" cy="26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>
              <a:off x="8697960" y="1413000"/>
              <a:ext cx="0" cy="26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9"/>
            <p:cNvSpPr/>
            <p:nvPr/>
          </p:nvSpPr>
          <p:spPr>
            <a:xfrm>
              <a:off x="468360" y="1413000"/>
              <a:ext cx="11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0"/>
            <p:cNvSpPr/>
            <p:nvPr/>
          </p:nvSpPr>
          <p:spPr>
            <a:xfrm>
              <a:off x="2711520" y="1413000"/>
              <a:ext cx="13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1"/>
            <p:cNvSpPr/>
            <p:nvPr/>
          </p:nvSpPr>
          <p:spPr>
            <a:xfrm>
              <a:off x="7521480" y="1413000"/>
              <a:ext cx="117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2"/>
            <p:cNvSpPr/>
            <p:nvPr/>
          </p:nvSpPr>
          <p:spPr>
            <a:xfrm>
              <a:off x="468360" y="4073400"/>
              <a:ext cx="11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3"/>
            <p:cNvSpPr/>
            <p:nvPr/>
          </p:nvSpPr>
          <p:spPr>
            <a:xfrm>
              <a:off x="2711520" y="4073400"/>
              <a:ext cx="13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4"/>
            <p:cNvSpPr/>
            <p:nvPr/>
          </p:nvSpPr>
          <p:spPr>
            <a:xfrm>
              <a:off x="5170320" y="4073400"/>
              <a:ext cx="128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5"/>
            <p:cNvSpPr/>
            <p:nvPr/>
          </p:nvSpPr>
          <p:spPr>
            <a:xfrm>
              <a:off x="7521480" y="4073400"/>
              <a:ext cx="117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ovéPole 4"/>
          <p:cNvSpPr/>
          <p:nvPr/>
        </p:nvSpPr>
        <p:spPr>
          <a:xfrm>
            <a:off x="468360" y="443700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povolení jiné firmě, aby z mého účtu vybrala určitou čás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atel A dá souhlas s inkasem podnikatel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nikatel B dá příkaz k inkasu do banky podnikate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Úroky a poplat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řijaté úroky jsou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ý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roky jsou zdaňová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rokovou sazbu může banka mě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běžném účtu se účtují i úroky z termínovaných vklad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né úroky z úvěru jsou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á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latky za vedení účtu jsou ná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5:18:20Z</dcterms:created>
  <dc:creator>Admin</dc:creator>
  <dc:description/>
  <dc:language>en-US</dc:language>
  <cp:lastModifiedBy>krupickova</cp:lastModifiedBy>
  <dcterms:modified xsi:type="dcterms:W3CDTF">2013-06-18T08:16:55Z</dcterms:modified>
  <cp:revision>36</cp:revision>
  <dc:subject/>
  <dc:title>Snímek 1</dc:title>
</cp:coreProperties>
</file>