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4EBA-AEB7-4A2D-A227-7CE1ABAFC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65CC-C5E8-4272-A7F1-E6D4BB83D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EF9-2A7F-4449-9584-4A238A5F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0A1-3274-4AD5-88AD-90EB2342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303-31BA-4217-B0C4-87749503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E27-1DB0-49CD-BEBC-503BEB46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DCA-5C5D-4C64-B7CA-70B81B8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EA0-1E00-452A-9164-7AEF1648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625-B90D-4745-A441-0C78C398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B1D-3E2D-475E-9F25-7211753B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518-A172-4685-B1FE-F313EA91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B00-44A3-4ED8-931F-6131D215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B20-BC0E-4566-A834-AEA325A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911-D805-45EA-A03D-C9BD342C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1B57-93E1-4949-A989-F7E49EB47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58920" y="826920"/>
          <a:ext cx="6743520" cy="3638880"/>
        </p:xfrm>
        <a:graphic>
          <a:graphicData uri="http://schemas.openxmlformats.org/drawingml/2006/table">
            <a:tbl>
              <a:tblPr/>
              <a:tblGrid>
                <a:gridCol w="1562040"/>
                <a:gridCol w="1890720"/>
                <a:gridCol w="830160"/>
                <a:gridCol w="136800"/>
                <a:gridCol w="136440"/>
                <a:gridCol w="399960"/>
                <a:gridCol w="1008000"/>
                <a:gridCol w="779400"/>
              </a:tblGrid>
              <a:tr h="900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chodní akademie a Střední odborná škola, gen. Fr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četnic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nanční vztahy v UČ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vody mezi finančními úč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. Krupičková Jar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no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S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 261 -  Peníze na cestě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Rozdejte žákům  pracovní listy - DUM č.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Spusťte prezentaci – 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Materiál pro data projekt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popř. interaktivní tabu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9" name="Skupina 3"/>
          <p:cNvGrpSpPr/>
          <p:nvPr/>
        </p:nvGrpSpPr>
        <p:grpSpPr>
          <a:xfrm>
            <a:off x="1476360" y="838080"/>
            <a:ext cx="3892680" cy="847800"/>
            <a:chOff x="1476360" y="838080"/>
            <a:chExt cx="3892680" cy="847800"/>
          </a:xfrm>
        </p:grpSpPr>
        <p:pic>
          <p:nvPicPr>
            <p:cNvPr id="50" name="Obrázek 1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48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rázek 2" descr=""/>
            <p:cNvPicPr/>
            <p:nvPr/>
          </p:nvPicPr>
          <p:blipFill>
            <a:blip r:embed="rId2"/>
            <a:stretch/>
          </p:blipFill>
          <p:spPr>
            <a:xfrm>
              <a:off x="4788360" y="971280"/>
              <a:ext cx="58068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ovéPole 5"/>
          <p:cNvSpPr/>
          <p:nvPr/>
        </p:nvSpPr>
        <p:spPr>
          <a:xfrm>
            <a:off x="1258920" y="5516640"/>
            <a:ext cx="6769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08080"/>
                </a:solidFill>
                <a:latin typeface="Arial"/>
                <a:ea typeface="Arial"/>
              </a:rPr>
              <a:t>Autorem materiálu a všech jeho částí, není-li uvedeno jinak, je Ing. Jarmila Krupičková. Dostupné z Metodického portálu www.rvp.cz, ISSN: 1802-4785. Provozuje Národní ústav pro vzdělávání, školské poradenské zařízení a zařízení 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vod peněz z pokladny do ba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Tabulka 3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7851960" cy="221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íze na ces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280" y="1341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ýběr peněz z banky do pokladny a odvod peněz z pokladny do banky se povinně účtuje prostřednictvím úč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261 – Peníze na ces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čet slouží k překlenutí časového nesouladu mezi účtováním o pohybu peněz v hotovosti a účtováním o pohybu peněz na běžném ú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užívá se i při převodu peněz mezi dvěma bankovními úč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ýběr peněz z banky do poklad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1280" y="2901960"/>
          <a:ext cx="7967520" cy="2743200"/>
        </p:xfrm>
        <a:graphic>
          <a:graphicData uri="http://schemas.openxmlformats.org/drawingml/2006/table">
            <a:tbl>
              <a:tblPr/>
              <a:tblGrid>
                <a:gridCol w="1593720"/>
                <a:gridCol w="1593720"/>
                <a:gridCol w="1594080"/>
                <a:gridCol w="1592280"/>
                <a:gridCol w="1593720"/>
              </a:tblGrid>
              <a:tr h="788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- Bankovní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 – Poklad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   9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běr peně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Line 40"/>
          <p:cNvSpPr/>
          <p:nvPr/>
        </p:nvSpPr>
        <p:spPr>
          <a:xfrm>
            <a:off x="2411280" y="5300640"/>
            <a:ext cx="431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ýběr peněz z banky do poklad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2637000"/>
          <a:ext cx="7993080" cy="2666880"/>
        </p:xfrm>
        <a:graphic>
          <a:graphicData uri="http://schemas.openxmlformats.org/drawingml/2006/table">
            <a:tbl>
              <a:tblPr/>
              <a:tblGrid>
                <a:gridCol w="1295280"/>
                <a:gridCol w="865080"/>
                <a:gridCol w="935280"/>
                <a:gridCol w="900000"/>
                <a:gridCol w="1000080"/>
                <a:gridCol w="907920"/>
                <a:gridCol w="1090800"/>
                <a:gridCol w="99864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– Bankov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 - Peníze na cest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 - Pokla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  9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B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Line 40"/>
          <p:cNvSpPr/>
          <p:nvPr/>
        </p:nvSpPr>
        <p:spPr>
          <a:xfrm>
            <a:off x="2484360" y="450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0"/>
          <p:cNvSpPr/>
          <p:nvPr/>
        </p:nvSpPr>
        <p:spPr>
          <a:xfrm>
            <a:off x="5364000" y="450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krácený záp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ýběr peněz z banky do poklad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abulka 3" descr=""/>
          <p:cNvPicPr/>
          <p:nvPr/>
        </p:nvPicPr>
        <p:blipFill>
          <a:blip r:embed="rId1"/>
          <a:stretch/>
        </p:blipFill>
        <p:spPr>
          <a:xfrm>
            <a:off x="609480" y="2419200"/>
            <a:ext cx="7851960" cy="221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krácený záp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ýběr peněz z banky do poklad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Tabulka 3" descr=""/>
          <p:cNvPicPr/>
          <p:nvPr/>
        </p:nvPicPr>
        <p:blipFill>
          <a:blip r:embed="rId1"/>
          <a:stretch/>
        </p:blipFill>
        <p:spPr>
          <a:xfrm>
            <a:off x="755640" y="2567160"/>
            <a:ext cx="7851960" cy="221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vod peněz z pokladny do ba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1280" y="2492280"/>
          <a:ext cx="7967520" cy="2743200"/>
        </p:xfrm>
        <a:graphic>
          <a:graphicData uri="http://schemas.openxmlformats.org/drawingml/2006/table">
            <a:tbl>
              <a:tblPr/>
              <a:tblGrid>
                <a:gridCol w="1593720"/>
                <a:gridCol w="1593720"/>
                <a:gridCol w="1594080"/>
                <a:gridCol w="1592280"/>
                <a:gridCol w="1593720"/>
              </a:tblGrid>
              <a:tr h="788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 - Pokla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- Bankovní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   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vod peně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3" name="Line 40"/>
          <p:cNvSpPr/>
          <p:nvPr/>
        </p:nvSpPr>
        <p:spPr>
          <a:xfrm>
            <a:off x="2484360" y="4869000"/>
            <a:ext cx="431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éma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vod peněz z pokladny do ba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2492280"/>
          <a:ext cx="8064360" cy="3384720"/>
        </p:xfrm>
        <a:graphic>
          <a:graphicData uri="http://schemas.openxmlformats.org/drawingml/2006/table">
            <a:tbl>
              <a:tblPr/>
              <a:tblGrid>
                <a:gridCol w="1306440"/>
                <a:gridCol w="873000"/>
                <a:gridCol w="943200"/>
                <a:gridCol w="907920"/>
                <a:gridCol w="1009800"/>
                <a:gridCol w="915840"/>
                <a:gridCol w="1100160"/>
                <a:gridCol w="1008000"/>
              </a:tblGrid>
              <a:tr h="1244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 – Pokla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 - Peníze na cest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- Bankov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  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B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7" name="Line 40"/>
          <p:cNvSpPr/>
          <p:nvPr/>
        </p:nvSpPr>
        <p:spPr>
          <a:xfrm>
            <a:off x="2411280" y="5157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0"/>
          <p:cNvSpPr/>
          <p:nvPr/>
        </p:nvSpPr>
        <p:spPr>
          <a:xfrm>
            <a:off x="5364000" y="5229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krácený záp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vod peněz z pokladny do ba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Tabulka 3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7851960" cy="221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5:18:20Z</dcterms:created>
  <dc:creator>Admin</dc:creator>
  <dc:description/>
  <dc:language>en-US</dc:language>
  <cp:lastModifiedBy>krupickova</cp:lastModifiedBy>
  <dcterms:modified xsi:type="dcterms:W3CDTF">2013-06-18T08:07:34Z</dcterms:modified>
  <cp:revision>23</cp:revision>
  <dc:subject/>
  <dc:title>Snímek 1</dc:title>
</cp:coreProperties>
</file>