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62B-4C31-489F-A48E-FB06C884CD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ADD6-ABCC-4A1C-8BFD-D9EA5C456B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4D4-9C70-493D-B748-13FF0D2A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F26-39BA-4CDB-A533-ED63402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483-99BE-4105-9C16-8C2081B4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A00-1FEE-4514-8F71-7DBDC78A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53E-923C-48B0-9778-A2A52EA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A70-3B84-4E3D-81D0-2F20069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43C-50B6-49E6-9901-283A3251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8A3-0131-4FCE-9694-C15B0AE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0A5-B85B-4148-9942-F0D1DB4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214-B040-4CFC-80E0-66798D4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B99-FB03-4E27-9D64-3BD184F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EF2-7215-4253-A2F5-3765393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E3D-4535-48A4-B989-82F6D599D8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8920" y="826920"/>
          <a:ext cx="6743520" cy="3826080"/>
        </p:xfrm>
        <a:graphic>
          <a:graphicData uri="http://schemas.openxmlformats.org/drawingml/2006/table">
            <a:tbl>
              <a:tblPr/>
              <a:tblGrid>
                <a:gridCol w="1562040"/>
                <a:gridCol w="1890720"/>
                <a:gridCol w="830160"/>
                <a:gridCol w="136800"/>
                <a:gridCol w="136440"/>
                <a:gridCol w="399960"/>
                <a:gridCol w="1008000"/>
                <a:gridCol w="779400"/>
              </a:tblGrid>
              <a:tr h="900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r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čet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vztahy v UČ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nanční maje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. Krupičková Jar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d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S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vysvětluje základní pojmy ve vazbě na účetní osnovu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 Rozdejte žákům pracovní listy – DUM č. 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pusťte prezentaci – 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Materiál pro data projektor, popř. interaktivní tabu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9" name="Skupina 3"/>
          <p:cNvGrpSpPr/>
          <p:nvPr/>
        </p:nvGrpSpPr>
        <p:grpSpPr>
          <a:xfrm>
            <a:off x="1476360" y="838080"/>
            <a:ext cx="3892680" cy="847800"/>
            <a:chOff x="1476360" y="838080"/>
            <a:chExt cx="3892680" cy="847800"/>
          </a:xfrm>
        </p:grpSpPr>
        <p:pic>
          <p:nvPicPr>
            <p:cNvPr id="50" name="Obrázek 1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48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ázek 2" descr=""/>
            <p:cNvPicPr/>
            <p:nvPr/>
          </p:nvPicPr>
          <p:blipFill>
            <a:blip r:embed="rId2"/>
            <a:stretch/>
          </p:blipFill>
          <p:spPr>
            <a:xfrm>
              <a:off x="4788360" y="971280"/>
              <a:ext cx="58068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50"/>
          <p:cNvSpPr/>
          <p:nvPr/>
        </p:nvSpPr>
        <p:spPr>
          <a:xfrm>
            <a:off x="529272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/>
          <p:cNvSpPr/>
          <p:nvPr/>
        </p:nvSpPr>
        <p:spPr>
          <a:xfrm>
            <a:off x="1258920" y="5589720"/>
            <a:ext cx="6697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08080"/>
                </a:solidFill>
                <a:latin typeface="Arial"/>
              </a:rPr>
              <a:t>Autorem materiálu a všech jeho částí, není-li uvedeno jinak, je Ing. Jarmila Krupičková. Dostupné z Metodického portálu www.rvp.cz, ISSN: 1802-4785. Provozuje Národní ústav pro vzdělávání, školské</a:t>
            </a:r>
            <a:br>
              <a:rPr sz="1100"/>
            </a:br>
            <a:r>
              <a:rPr b="0" i="1" lang="cs-CZ" sz="1100" spc="-1" strike="noStrike">
                <a:solidFill>
                  <a:srgbClr val="808080"/>
                </a:solidFill>
                <a:latin typeface="Arial"/>
              </a:rPr>
              <a:t>poradenské zařízení a zařízení 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2"/>
          <p:cNvSpPr/>
          <p:nvPr/>
        </p:nvSpPr>
        <p:spPr>
          <a:xfrm>
            <a:off x="2535120" y="5392800"/>
            <a:ext cx="53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ční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majetek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finanční majetek zahr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poklad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5" descr="Peníze.jpg"/>
          <p:cNvPicPr/>
          <p:nvPr/>
        </p:nvPicPr>
        <p:blipFill>
          <a:blip r:embed="rId1"/>
          <a:stretch/>
        </p:blipFill>
        <p:spPr>
          <a:xfrm>
            <a:off x="5076720" y="4581360"/>
            <a:ext cx="2448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ční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majetek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finanční majetek zahr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poklad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5" descr="ČNB.JPG"/>
          <p:cNvPicPr/>
          <p:nvPr/>
        </p:nvPicPr>
        <p:blipFill>
          <a:blip r:embed="rId1"/>
          <a:stretch/>
        </p:blipFill>
        <p:spPr>
          <a:xfrm>
            <a:off x="4788000" y="4653000"/>
            <a:ext cx="27939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ční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majetek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finanční majetek zahr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poklad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Zástupný symbol pro obsah 5" descr="Czekhoslovakia-hradcany-1918.jpg"/>
          <p:cNvPicPr/>
          <p:nvPr/>
        </p:nvPicPr>
        <p:blipFill>
          <a:blip r:embed="rId1"/>
          <a:stretch/>
        </p:blipFill>
        <p:spPr>
          <a:xfrm>
            <a:off x="4500720" y="4581360"/>
            <a:ext cx="4392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ční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majetek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= evidován v účtové třídě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ý finanční majetek zahr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poklad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 v 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né papíry k obchod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4" descr="Hromadná_akcie1.JPG"/>
          <p:cNvPicPr/>
          <p:nvPr/>
        </p:nvPicPr>
        <p:blipFill>
          <a:blip r:embed="rId1"/>
          <a:stretch/>
        </p:blipFill>
        <p:spPr>
          <a:xfrm>
            <a:off x="6012000" y="4581360"/>
            <a:ext cx="288756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ceňová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finančního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ominální hodnot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peníze, cen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řizovací ceno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cenné papí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tová třída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  - Krátkodobý finanční majetek a krátkodobé ú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9000"/>
            <a:ext cx="8291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hrnuje tyto skupi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 –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2 – Účty v ban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3 – Krátkodobé bankovní úvě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 – Krátkodobé cenné papí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 – Převody mezi finančními úč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 obrázk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ázek peníz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:BRUGER:TWID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wikipedia.or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[online]. [cit. 5.6.2013]. Dostupný na WWW: http://cs.wikipedia.org/wiki/Soubor:Euromoenterogsedler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ázek ban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KLAMO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wikipedia.or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[online]. [cit. 5.6.2013]. Dostupný na WWW: http://cs.wikipedia.org/wiki/Soubor:CBNod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ázek cenin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CHA, Alfons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Wikipedia Common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[online]. [cit. 24.2.2013]. Dostupný na WWW: http://cs.wikipedia.org/wiki/Soubor:Czekhoslovakia-hradcany-191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ázek akc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ĚK, René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wikipedia.or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[online]. [cit. 5.6.2013]. Dostupný na WWW: http://cs.wikipedia.org/wiki/Soubor:Hromadn%C3%A1_akcie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Václav Jukl</cp:lastModifiedBy>
  <dcterms:modified xsi:type="dcterms:W3CDTF">2013-07-02T09:45:09Z</dcterms:modified>
  <cp:revision>89</cp:revision>
  <dc:subject/>
  <dc:title>Snímek 1</dc:title>
</cp:coreProperties>
</file>