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C85B-3095-4653-BF54-D986859F69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CE19-1219-45DF-882D-30FD9923D8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937D-C2F2-42D9-B16F-AC46C0D6EB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6B63-1C5B-4D4D-BA13-145BB6E80D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E70D-B15C-4937-A78E-492BCDEBC3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50A4-0E8C-4B18-8862-C89A2D443C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F9E6-0F19-4710-B67A-D1F49DF82D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A30E-C66E-4DBD-80B4-2D28DF7C4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AE58-C32F-4304-BD3D-6B3698CF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2E25-8188-41BD-A251-723A4344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CF04-E89E-4830-9A9D-6DD0DC839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2753-ABE3-40CF-9E4E-3EF8F563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8E2B-AE73-4553-9124-25F94263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6EA5-7564-40EB-B344-33C4F0E6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BD9F-005A-4306-AEA8-1A15CBA3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B538-D399-4B2C-9FDD-10DBC397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E0C1-94D8-469A-A9BB-A49A1E94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242D-F4E3-4CC5-BFDC-BEDEBCAB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71C4-B3E6-420D-B827-B813209D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F1D9-2DFB-4AED-B124-A28BD023620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141B-E364-4160-96B6-028314B5E5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258920" y="826920"/>
          <a:ext cx="6743520" cy="3760920"/>
        </p:xfrm>
        <a:graphic>
          <a:graphicData uri="http://schemas.openxmlformats.org/drawingml/2006/table">
            <a:tbl>
              <a:tblPr/>
              <a:tblGrid>
                <a:gridCol w="1562040"/>
                <a:gridCol w="1890720"/>
                <a:gridCol w="830160"/>
                <a:gridCol w="106560"/>
                <a:gridCol w="108000"/>
                <a:gridCol w="458640"/>
                <a:gridCol w="1008000"/>
                <a:gridCol w="779400"/>
              </a:tblGrid>
              <a:tr h="101772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chodní akademie a Střední odborná škola, gen. Fr. Fajtla, Louny, p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svoboditelů 380, Lou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íslo proje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7/1.5.00/34.00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íslo sa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íslo D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ředmě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Účetnictv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4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matický okru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nanční vztahy v UČ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zev materiá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Účtování poklad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u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g. Krupičková Jarmi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um tvor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den 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č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SP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 gridSpan="8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čtování jednotlivých účetních případů při hotovostním placení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6920">
                <a:tc gridSpan="8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todický poky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Rozdejte žákům  pracovní listy -  viz DUM č. 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 Spusťte prezentaci – výkl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 Materiál pro data projektor, popř. interaktivní tabu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49" name="Skupina 3"/>
          <p:cNvGrpSpPr/>
          <p:nvPr/>
        </p:nvGrpSpPr>
        <p:grpSpPr>
          <a:xfrm>
            <a:off x="1476360" y="838080"/>
            <a:ext cx="3892680" cy="847800"/>
            <a:chOff x="1476360" y="838080"/>
            <a:chExt cx="3892680" cy="847800"/>
          </a:xfrm>
        </p:grpSpPr>
        <p:pic>
          <p:nvPicPr>
            <p:cNvPr id="50" name="Obrázek 1" descr=""/>
            <p:cNvPicPr/>
            <p:nvPr/>
          </p:nvPicPr>
          <p:blipFill>
            <a:blip r:embed="rId1"/>
            <a:stretch/>
          </p:blipFill>
          <p:spPr>
            <a:xfrm>
              <a:off x="1476360" y="838080"/>
              <a:ext cx="290484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Obrázek 2" descr=""/>
            <p:cNvPicPr/>
            <p:nvPr/>
          </p:nvPicPr>
          <p:blipFill>
            <a:blip r:embed="rId2"/>
            <a:stretch/>
          </p:blipFill>
          <p:spPr>
            <a:xfrm>
              <a:off x="4788360" y="971280"/>
              <a:ext cx="580680" cy="58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Zástupný symbol pro zápatí 5"/>
          <p:cNvSpPr/>
          <p:nvPr/>
        </p:nvSpPr>
        <p:spPr>
          <a:xfrm>
            <a:off x="1187280" y="5732640"/>
            <a:ext cx="6840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808080"/>
                </a:solidFill>
                <a:latin typeface="Arial"/>
                <a:ea typeface="Arial"/>
              </a:rPr>
              <a:t>Autorem materiálu a všech jeho částí, není-li uvedeno jinak, je Ing. Jarmila Krupičková. Dostupné z Metodického portálu www.rvp.cz, ISSN: 1802-4785. Provozuje Národní ústav pro vzdělávání, školské</a:t>
            </a:r>
            <a:br>
              <a:rPr sz="1100"/>
            </a:br>
            <a:r>
              <a:rPr b="0" i="1" lang="cs-CZ" sz="1100" spc="-1" strike="noStrike">
                <a:solidFill>
                  <a:srgbClr val="808080"/>
                </a:solidFill>
                <a:latin typeface="Arial"/>
                <a:ea typeface="Arial"/>
              </a:rPr>
              <a:t>poradenské zařízení a zařízení 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y účt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1628640"/>
          <a:ext cx="8596080" cy="3497400"/>
        </p:xfrm>
        <a:graphic>
          <a:graphicData uri="http://schemas.openxmlformats.org/drawingml/2006/table">
            <a:tbl>
              <a:tblPr/>
              <a:tblGrid>
                <a:gridCol w="615960"/>
                <a:gridCol w="581400"/>
                <a:gridCol w="216000"/>
                <a:gridCol w="556200"/>
                <a:gridCol w="182160"/>
                <a:gridCol w="399600"/>
                <a:gridCol w="401400"/>
                <a:gridCol w="181800"/>
                <a:gridCol w="366840"/>
                <a:gridCol w="650520"/>
                <a:gridCol w="856080"/>
                <a:gridCol w="216000"/>
                <a:gridCol w="684000"/>
                <a:gridCol w="395280"/>
                <a:gridCol w="347760"/>
                <a:gridCol w="870480"/>
                <a:gridCol w="181800"/>
                <a:gridCol w="554760"/>
                <a:gridCol w="338040"/>
              </a:tblGrid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V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hotovosti zaplacen inzerá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lad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tatní služ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1. VÚ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000,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. V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3. P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000,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4. V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y účt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24000" y="1628640"/>
          <a:ext cx="8569080" cy="4105440"/>
        </p:xfrm>
        <a:graphic>
          <a:graphicData uri="http://schemas.openxmlformats.org/drawingml/2006/table">
            <a:tbl>
              <a:tblPr/>
              <a:tblGrid>
                <a:gridCol w="618840"/>
                <a:gridCol w="584280"/>
                <a:gridCol w="668520"/>
                <a:gridCol w="191880"/>
                <a:gridCol w="465120"/>
                <a:gridCol w="403200"/>
                <a:gridCol w="182520"/>
                <a:gridCol w="368640"/>
                <a:gridCol w="653760"/>
                <a:gridCol w="858960"/>
                <a:gridCol w="182520"/>
                <a:gridCol w="182520"/>
                <a:gridCol w="505080"/>
                <a:gridCol w="285480"/>
                <a:gridCol w="460440"/>
                <a:gridCol w="700200"/>
                <a:gridCol w="341280"/>
                <a:gridCol w="573120"/>
                <a:gridCol w="342720"/>
              </a:tblGrid>
              <a:tr h="420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V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hotovosti zaplacen inzerá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lad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tatní služ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1. VÚ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000,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. V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3. P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000,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4. V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y účt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24000" y="1628640"/>
          <a:ext cx="8570880" cy="3911760"/>
        </p:xfrm>
        <a:graphic>
          <a:graphicData uri="http://schemas.openxmlformats.org/drawingml/2006/table">
            <a:tbl>
              <a:tblPr/>
              <a:tblGrid>
                <a:gridCol w="617400"/>
                <a:gridCol w="388440"/>
                <a:gridCol w="216000"/>
                <a:gridCol w="307440"/>
                <a:gridCol w="685800"/>
                <a:gridCol w="329400"/>
                <a:gridCol w="402480"/>
                <a:gridCol w="550080"/>
                <a:gridCol w="182160"/>
                <a:gridCol w="1227240"/>
                <a:gridCol w="182160"/>
                <a:gridCol w="284040"/>
                <a:gridCol w="503640"/>
                <a:gridCol w="744120"/>
                <a:gridCol w="182520"/>
                <a:gridCol w="188280"/>
                <a:gridCol w="668520"/>
                <a:gridCol w="572040"/>
                <a:gridCol w="339120"/>
              </a:tblGrid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7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V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hotovosti zaplacena faktura dodavat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lad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davatel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1. VÚ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000,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. V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 24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7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3. P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000,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4. V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7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5. V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y účt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24000" y="1628640"/>
          <a:ext cx="8621640" cy="3880080"/>
        </p:xfrm>
        <a:graphic>
          <a:graphicData uri="http://schemas.openxmlformats.org/drawingml/2006/table">
            <a:tbl>
              <a:tblPr/>
              <a:tblGrid>
                <a:gridCol w="615960"/>
                <a:gridCol w="216000"/>
                <a:gridCol w="387360"/>
                <a:gridCol w="181800"/>
                <a:gridCol w="181800"/>
                <a:gridCol w="569160"/>
                <a:gridCol w="318960"/>
                <a:gridCol w="181800"/>
                <a:gridCol w="216000"/>
                <a:gridCol w="181800"/>
                <a:gridCol w="387360"/>
                <a:gridCol w="181800"/>
                <a:gridCol w="1107360"/>
                <a:gridCol w="679320"/>
                <a:gridCol w="396720"/>
                <a:gridCol w="181800"/>
                <a:gridCol w="692280"/>
                <a:gridCol w="181800"/>
                <a:gridCol w="181800"/>
                <a:gridCol w="672840"/>
                <a:gridCol w="570240"/>
                <a:gridCol w="337680"/>
              </a:tblGrid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88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V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hotovosti zaplacena faktura dodavat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lad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davatel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1. VÚ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000,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000,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. VP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 24 000,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3. PP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000,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0,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4. VP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8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000,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5. VP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000,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y účt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24000" y="1628640"/>
          <a:ext cx="8596080" cy="4545000"/>
        </p:xfrm>
        <a:graphic>
          <a:graphicData uri="http://schemas.openxmlformats.org/drawingml/2006/table">
            <a:tbl>
              <a:tblPr/>
              <a:tblGrid>
                <a:gridCol w="713160"/>
                <a:gridCol w="216000"/>
                <a:gridCol w="216000"/>
                <a:gridCol w="299520"/>
                <a:gridCol w="482400"/>
                <a:gridCol w="253800"/>
                <a:gridCol w="398160"/>
                <a:gridCol w="399960"/>
                <a:gridCol w="181080"/>
                <a:gridCol w="365760"/>
                <a:gridCol w="648720"/>
                <a:gridCol w="853560"/>
                <a:gridCol w="387720"/>
                <a:gridCol w="500760"/>
                <a:gridCol w="439560"/>
                <a:gridCol w="300960"/>
                <a:gridCol w="181080"/>
                <a:gridCol w="513720"/>
                <a:gridCol w="338760"/>
                <a:gridCol w="568800"/>
                <a:gridCol w="336600"/>
              </a:tblGrid>
              <a:tr h="3682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P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hotovosti osobní vklad podnikat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čet individuálního podnikate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lad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1. VÚ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000,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000,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. VP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8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3. PP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000,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0,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4. VP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8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000,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6. PP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000,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000,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5. VP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84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y účt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24000" y="1413000"/>
          <a:ext cx="8621640" cy="4917960"/>
        </p:xfrm>
        <a:graphic>
          <a:graphicData uri="http://schemas.openxmlformats.org/drawingml/2006/table">
            <a:tbl>
              <a:tblPr/>
              <a:tblGrid>
                <a:gridCol w="613800"/>
                <a:gridCol w="388440"/>
                <a:gridCol w="216000"/>
                <a:gridCol w="811440"/>
                <a:gridCol w="181440"/>
                <a:gridCol w="181440"/>
                <a:gridCol w="181440"/>
                <a:gridCol w="216000"/>
                <a:gridCol w="216000"/>
                <a:gridCol w="309240"/>
                <a:gridCol w="230760"/>
                <a:gridCol w="986400"/>
                <a:gridCol w="514440"/>
                <a:gridCol w="216000"/>
                <a:gridCol w="495720"/>
                <a:gridCol w="184680"/>
                <a:gridCol w="784440"/>
                <a:gridCol w="181440"/>
                <a:gridCol w="181440"/>
                <a:gridCol w="181440"/>
                <a:gridCol w="181440"/>
                <a:gridCol w="262080"/>
                <a:gridCol w="568440"/>
                <a:gridCol w="337680"/>
              </a:tblGrid>
              <a:tr h="3823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P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hotovosti osobní vklad podnikat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čet individuálního podnikate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lad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1. VÚ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000,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. V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9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3. P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000,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4. V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8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6. P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5. V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3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y účt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79280" y="1628640"/>
          <a:ext cx="8805960" cy="4319640"/>
        </p:xfrm>
        <a:graphic>
          <a:graphicData uri="http://schemas.openxmlformats.org/drawingml/2006/table">
            <a:tbl>
              <a:tblPr/>
              <a:tblGrid>
                <a:gridCol w="632160"/>
                <a:gridCol w="616320"/>
                <a:gridCol w="216000"/>
                <a:gridCol w="676080"/>
                <a:gridCol w="403200"/>
                <a:gridCol w="181800"/>
                <a:gridCol w="300240"/>
                <a:gridCol w="448560"/>
                <a:gridCol w="181800"/>
                <a:gridCol w="1036440"/>
                <a:gridCol w="440640"/>
                <a:gridCol w="216000"/>
                <a:gridCol w="519840"/>
                <a:gridCol w="181800"/>
                <a:gridCol w="759960"/>
                <a:gridCol w="181800"/>
                <a:gridCol w="181800"/>
                <a:gridCol w="415800"/>
                <a:gridCol w="284760"/>
                <a:gridCol w="584280"/>
                <a:gridCol w="34668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 P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běratel zaplatil v hotovosti pohledáv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5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běratel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lad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 6</a:t>
                      </a: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1. VÚ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000,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. V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84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3. P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000,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4. V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84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6. P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5. V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7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5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7. P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5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y účt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24000" y="1628640"/>
          <a:ext cx="8570880" cy="4186440"/>
        </p:xfrm>
        <a:graphic>
          <a:graphicData uri="http://schemas.openxmlformats.org/drawingml/2006/table">
            <a:tbl>
              <a:tblPr/>
              <a:tblGrid>
                <a:gridCol w="618840"/>
                <a:gridCol w="316080"/>
                <a:gridCol w="268200"/>
                <a:gridCol w="860400"/>
                <a:gridCol w="182520"/>
                <a:gridCol w="282600"/>
                <a:gridCol w="403200"/>
                <a:gridCol w="452520"/>
                <a:gridCol w="182520"/>
                <a:gridCol w="1041480"/>
                <a:gridCol w="388800"/>
                <a:gridCol w="365400"/>
                <a:gridCol w="253800"/>
                <a:gridCol w="250920"/>
                <a:gridCol w="795240"/>
                <a:gridCol w="182520"/>
                <a:gridCol w="182520"/>
                <a:gridCol w="285840"/>
                <a:gridCol w="341280"/>
                <a:gridCol w="573120"/>
                <a:gridCol w="34308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kl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 P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běratel zaplatil v hotovosti pohledáv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5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běratel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lad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 65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1. VÚ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000,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. V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3. P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000,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4. V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6. P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5. V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55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5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7. P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5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y účt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24000" y="1628640"/>
          <a:ext cx="8596080" cy="4278600"/>
        </p:xfrm>
        <a:graphic>
          <a:graphicData uri="http://schemas.openxmlformats.org/drawingml/2006/table">
            <a:tbl>
              <a:tblPr/>
              <a:tblGrid>
                <a:gridCol w="618480"/>
                <a:gridCol w="316080"/>
                <a:gridCol w="268200"/>
                <a:gridCol w="740880"/>
                <a:gridCol w="583920"/>
                <a:gridCol w="402840"/>
                <a:gridCol w="182520"/>
                <a:gridCol w="368640"/>
                <a:gridCol w="653400"/>
                <a:gridCol w="859680"/>
                <a:gridCol w="216000"/>
                <a:gridCol w="686880"/>
                <a:gridCol w="396720"/>
                <a:gridCol w="349200"/>
                <a:gridCol w="182520"/>
                <a:gridCol w="764640"/>
                <a:gridCol w="182520"/>
                <a:gridCol w="483840"/>
                <a:gridCol w="33912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kl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 V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up osobního počítače v hotov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lad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ostatné movité vě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1. VÚ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000,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. V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6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3. P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000,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4. V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6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6. P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5. V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7. P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5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8. V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24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y účt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24000" y="1197000"/>
          <a:ext cx="8640720" cy="5707080"/>
        </p:xfrm>
        <a:graphic>
          <a:graphicData uri="http://schemas.openxmlformats.org/drawingml/2006/table">
            <a:tbl>
              <a:tblPr/>
              <a:tblGrid>
                <a:gridCol w="619920"/>
                <a:gridCol w="585360"/>
                <a:gridCol w="216000"/>
                <a:gridCol w="620280"/>
                <a:gridCol w="182160"/>
                <a:gridCol w="342000"/>
                <a:gridCol w="403200"/>
                <a:gridCol w="183960"/>
                <a:gridCol w="368640"/>
                <a:gridCol w="656640"/>
                <a:gridCol w="860400"/>
                <a:gridCol w="376560"/>
                <a:gridCol w="182520"/>
                <a:gridCol w="338400"/>
                <a:gridCol w="411480"/>
                <a:gridCol w="182160"/>
                <a:gridCol w="182160"/>
                <a:gridCol w="182160"/>
                <a:gridCol w="747000"/>
                <a:gridCol w="182160"/>
                <a:gridCol w="479160"/>
                <a:gridCol w="338400"/>
              </a:tblGrid>
              <a:tr h="395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6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 V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up osobního počítače v hotov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lad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ostatné movité vě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1. VÚ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000,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. V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3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3. P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000,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4. V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3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6. P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5. V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3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7. P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5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8. V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Calibri"/>
              </a:rPr>
              <a:t>Účtování poklad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Účet pokladna využíváme v případě placení v hotovos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Účet   211 – Pokladna je účet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rozvahový - aktiv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chéma účt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116000" y="3500280"/>
          <a:ext cx="6840720" cy="2187720"/>
        </p:xfrm>
        <a:graphic>
          <a:graphicData uri="http://schemas.openxmlformats.org/drawingml/2006/table">
            <a:tbl>
              <a:tblPr/>
              <a:tblGrid>
                <a:gridCol w="2279520"/>
                <a:gridCol w="1140120"/>
                <a:gridCol w="1141200"/>
                <a:gridCol w="2279880"/>
              </a:tblGrid>
              <a:tr h="541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á dá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 Poklad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áteční sta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pokladna se zvyšu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pokladna se snižu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P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Calibri"/>
              </a:rPr>
              <a:t>Účtování poklad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24000" y="1628640"/>
          <a:ext cx="8621640" cy="4081680"/>
        </p:xfrm>
        <a:graphic>
          <a:graphicData uri="http://schemas.openxmlformats.org/drawingml/2006/table">
            <a:tbl>
              <a:tblPr/>
              <a:tblGrid>
                <a:gridCol w="615240"/>
                <a:gridCol w="581040"/>
                <a:gridCol w="235080"/>
                <a:gridCol w="735480"/>
                <a:gridCol w="347400"/>
                <a:gridCol w="216000"/>
                <a:gridCol w="219600"/>
                <a:gridCol w="363240"/>
                <a:gridCol w="659520"/>
                <a:gridCol w="1256040"/>
                <a:gridCol w="216000"/>
                <a:gridCol w="637560"/>
                <a:gridCol w="497160"/>
                <a:gridCol w="216000"/>
                <a:gridCol w="579240"/>
                <a:gridCol w="909000"/>
                <a:gridCol w="338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   Poklad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1. VÚ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000,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000,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. VP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3. PP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000,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0,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4. VP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6. PP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000,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000,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5. VP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7. PP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500,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000,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8. VP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6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500,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ečný zůsta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Zkrácené účtování poklad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39640" y="1268280"/>
          <a:ext cx="8229600" cy="4175280"/>
        </p:xfrm>
        <a:graphic>
          <a:graphicData uri="http://schemas.openxmlformats.org/drawingml/2006/table">
            <a:tbl>
              <a:tblPr/>
              <a:tblGrid>
                <a:gridCol w="1235160"/>
                <a:gridCol w="3527280"/>
                <a:gridCol w="1584360"/>
                <a:gridCol w="1008360"/>
                <a:gridCol w="8744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kl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VÚ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čtování PS z rozva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000,- 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VP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up materiálu za hotov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000,- 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PP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žba za poskytnuté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000,- 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VP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tově zaplacen inzerá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0,- 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VP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hotovosti  zaplacena faktura dodavate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000,- 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PP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vklad podnikate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000,- 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 PP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běratel zaplatil v hotovosti pohledáv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500,- 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 VP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up osobního počítač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000,- 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Domácí cvič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 příkladu vytvoř pokladní knih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y účt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229600" cy="4154400"/>
        </p:xfrm>
        <a:graphic>
          <a:graphicData uri="http://schemas.openxmlformats.org/drawingml/2006/table">
            <a:tbl>
              <a:tblPr/>
              <a:tblGrid>
                <a:gridCol w="2743200"/>
                <a:gridCol w="1371600"/>
                <a:gridCol w="1371600"/>
                <a:gridCol w="274320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á dá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 - Pokladn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áteční sta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pokladna se zvyšu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pokladna se snižu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 tržby z prodeje výrobk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nákup zboží, výrobků v hotov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 tržby z prodeje služe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ákup služeb v hotov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  úhrada pohledávek od odběratel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otovosti zaplaceny závazky dodavatelů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  osobní vklad podnikat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ově vyplaceny mzdy zaměstnanců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  výběr peněz z banky do poklad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ýběry pro osobní potřebu podnikat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ad peněz z pokladny do ban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y účt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24000" y="1628640"/>
          <a:ext cx="8596080" cy="3224520"/>
        </p:xfrm>
        <a:graphic>
          <a:graphicData uri="http://schemas.openxmlformats.org/drawingml/2006/table">
            <a:tbl>
              <a:tblPr/>
              <a:tblGrid>
                <a:gridCol w="618840"/>
                <a:gridCol w="533520"/>
                <a:gridCol w="911160"/>
                <a:gridCol w="182520"/>
                <a:gridCol w="182520"/>
                <a:gridCol w="182880"/>
                <a:gridCol w="320400"/>
                <a:gridCol w="308160"/>
                <a:gridCol w="243000"/>
                <a:gridCol w="836280"/>
                <a:gridCol w="677880"/>
                <a:gridCol w="403200"/>
                <a:gridCol w="182880"/>
                <a:gridCol w="309240"/>
                <a:gridCol w="285840"/>
                <a:gridCol w="460440"/>
                <a:gridCol w="182520"/>
                <a:gridCol w="517680"/>
                <a:gridCol w="341280"/>
                <a:gridCol w="573120"/>
                <a:gridCol w="34272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VÚ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čtování počátečního stavu z rozva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Ú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lad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1. VÚ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y účt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24000" y="1616040"/>
          <a:ext cx="8604000" cy="3254400"/>
        </p:xfrm>
        <a:graphic>
          <a:graphicData uri="http://schemas.openxmlformats.org/drawingml/2006/table">
            <a:tbl>
              <a:tblPr/>
              <a:tblGrid>
                <a:gridCol w="618480"/>
                <a:gridCol w="316080"/>
                <a:gridCol w="268200"/>
                <a:gridCol w="859680"/>
                <a:gridCol w="365040"/>
                <a:gridCol w="182880"/>
                <a:gridCol w="320400"/>
                <a:gridCol w="182520"/>
                <a:gridCol w="368640"/>
                <a:gridCol w="908640"/>
                <a:gridCol w="604440"/>
                <a:gridCol w="330480"/>
                <a:gridCol w="182520"/>
                <a:gridCol w="182520"/>
                <a:gridCol w="216000"/>
                <a:gridCol w="285480"/>
                <a:gridCol w="460080"/>
                <a:gridCol w="182520"/>
                <a:gridCol w="517320"/>
                <a:gridCol w="341280"/>
                <a:gridCol w="572760"/>
                <a:gridCol w="338040"/>
              </a:tblGrid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6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VÚ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čtování počátečního stavu z rozva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Ú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lad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1. VÚ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y účt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24000" y="1628640"/>
          <a:ext cx="8596080" cy="3224520"/>
        </p:xfrm>
        <a:graphic>
          <a:graphicData uri="http://schemas.openxmlformats.org/drawingml/2006/table">
            <a:tbl>
              <a:tblPr/>
              <a:tblGrid>
                <a:gridCol w="615960"/>
                <a:gridCol w="531000"/>
                <a:gridCol w="216000"/>
                <a:gridCol w="725040"/>
                <a:gridCol w="363240"/>
                <a:gridCol w="182160"/>
                <a:gridCol w="318960"/>
                <a:gridCol w="181800"/>
                <a:gridCol w="366840"/>
                <a:gridCol w="650520"/>
                <a:gridCol w="856080"/>
                <a:gridCol w="216000"/>
                <a:gridCol w="219600"/>
                <a:gridCol w="464400"/>
                <a:gridCol w="284400"/>
                <a:gridCol w="458280"/>
                <a:gridCol w="181800"/>
                <a:gridCol w="515160"/>
                <a:gridCol w="339840"/>
                <a:gridCol w="570240"/>
                <a:gridCol w="33876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V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up materiálu za hotov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lad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1. VÚ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000,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. V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2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y účt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24000" y="1628640"/>
          <a:ext cx="8596080" cy="3224520"/>
        </p:xfrm>
        <a:graphic>
          <a:graphicData uri="http://schemas.openxmlformats.org/drawingml/2006/table">
            <a:tbl>
              <a:tblPr/>
              <a:tblGrid>
                <a:gridCol w="618480"/>
                <a:gridCol w="583920"/>
                <a:gridCol w="812160"/>
                <a:gridCol w="182520"/>
                <a:gridCol w="230040"/>
                <a:gridCol w="182880"/>
                <a:gridCol w="320400"/>
                <a:gridCol w="182520"/>
                <a:gridCol w="368640"/>
                <a:gridCol w="653400"/>
                <a:gridCol w="859680"/>
                <a:gridCol w="216000"/>
                <a:gridCol w="182520"/>
                <a:gridCol w="182520"/>
                <a:gridCol w="322200"/>
                <a:gridCol w="468000"/>
                <a:gridCol w="277920"/>
                <a:gridCol w="182520"/>
                <a:gridCol w="699840"/>
                <a:gridCol w="182520"/>
                <a:gridCol w="549000"/>
                <a:gridCol w="33840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V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up materiálu za hotov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lad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1. VÚ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000,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. V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y účt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24000" y="1628640"/>
          <a:ext cx="8621640" cy="3224520"/>
        </p:xfrm>
        <a:graphic>
          <a:graphicData uri="http://schemas.openxmlformats.org/drawingml/2006/table">
            <a:tbl>
              <a:tblPr/>
              <a:tblGrid>
                <a:gridCol w="616680"/>
                <a:gridCol w="388080"/>
                <a:gridCol w="216000"/>
                <a:gridCol w="810360"/>
                <a:gridCol w="182160"/>
                <a:gridCol w="329040"/>
                <a:gridCol w="402120"/>
                <a:gridCol w="182160"/>
                <a:gridCol w="367560"/>
                <a:gridCol w="651600"/>
                <a:gridCol w="857520"/>
                <a:gridCol w="389520"/>
                <a:gridCol w="182160"/>
                <a:gridCol w="182160"/>
                <a:gridCol w="216000"/>
                <a:gridCol w="424080"/>
                <a:gridCol w="277200"/>
                <a:gridCol w="182160"/>
                <a:gridCol w="515520"/>
                <a:gridCol w="340200"/>
                <a:gridCol w="571320"/>
                <a:gridCol w="338040"/>
              </a:tblGrid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P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ijatá tržba v hotovosti za poskytnuté služ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žby z prodeje služe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lad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1. VÚ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000,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. V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3. P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000,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y účt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24000" y="1628640"/>
          <a:ext cx="8596080" cy="3498840"/>
        </p:xfrm>
        <a:graphic>
          <a:graphicData uri="http://schemas.openxmlformats.org/drawingml/2006/table">
            <a:tbl>
              <a:tblPr/>
              <a:tblGrid>
                <a:gridCol w="615960"/>
                <a:gridCol w="458280"/>
                <a:gridCol w="216000"/>
                <a:gridCol w="797760"/>
                <a:gridCol w="462960"/>
                <a:gridCol w="401400"/>
                <a:gridCol w="181800"/>
                <a:gridCol w="366840"/>
                <a:gridCol w="650520"/>
                <a:gridCol w="856080"/>
                <a:gridCol w="216000"/>
                <a:gridCol w="363240"/>
                <a:gridCol w="320760"/>
                <a:gridCol w="466200"/>
                <a:gridCol w="276840"/>
                <a:gridCol w="181800"/>
                <a:gridCol w="617760"/>
                <a:gridCol w="237240"/>
                <a:gridCol w="570240"/>
                <a:gridCol w="338400"/>
              </a:tblGrid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P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ijatá tržba v hotovosti za poskytnuté služ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žby z prodeje služe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lad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1. VÚ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000,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. V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000,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3. P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000,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3T15:26:12Z</dcterms:created>
  <dc:creator>Admin</dc:creator>
  <dc:description/>
  <dc:language>en-US</dc:language>
  <cp:lastModifiedBy>Václav Jukl</cp:lastModifiedBy>
  <dcterms:modified xsi:type="dcterms:W3CDTF">2013-07-02T09:51:02Z</dcterms:modified>
  <cp:revision>69</cp:revision>
  <dc:subject/>
  <dc:title>Snímek 1</dc:title>
</cp:coreProperties>
</file>