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CCF0-DDDE-48AC-ACF0-6F0E30A6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EE9-6406-401B-8E3E-3AFC7324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5883-AB9E-4C25-ACB1-98D59647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5DB8-133B-40C4-BD88-FE80C9E0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FC5E-F93A-4534-8D94-B42E2B63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CB0E-4319-4A90-AB1F-BD888EC6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1227-CA7C-4101-8669-364C6E01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8B2-BEA6-4914-A3D6-C7D25018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E66-6C45-4F20-816E-15EA2A12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EF5-2954-459E-9819-A6F48C4D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089-3530-4E70-8CC2-5E5947B2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5FD1-E38A-4026-B74B-8A62BD5A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671F-43BE-4BF5-BC45-C5E9FDB387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480360" cy="3404880"/>
        </p:xfrm>
        <a:graphic>
          <a:graphicData uri="http://schemas.openxmlformats.org/drawingml/2006/table">
            <a:tbl>
              <a:tblPr/>
              <a:tblGrid>
                <a:gridCol w="1249560"/>
                <a:gridCol w="1512720"/>
                <a:gridCol w="908280"/>
                <a:gridCol w="182520"/>
                <a:gridCol w="182520"/>
                <a:gridCol w="182520"/>
                <a:gridCol w="880920"/>
                <a:gridCol w="1381320"/>
              </a:tblGrid>
              <a:tr h="601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ský jazyk a litera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era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tři Čapkov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Petra Karfíkov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4.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3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– život a tvorba Karla a Josefa Čapkových,  na závěr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15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i se seznámí prostřednictvím prezentace s životem a tvorbou bratří Čapků, v závěru opakovací otáz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2" name="Obrázek 2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603000" cy="58104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2448000" cy="674640"/>
          </a:xfrm>
          <a:prstGeom prst="rect">
            <a:avLst/>
          </a:prstGeom>
          <a:ln w="0">
            <a:noFill/>
          </a:ln>
        </p:spPr>
      </p:pic>
      <p:sp>
        <p:nvSpPr>
          <p:cNvPr id="44" name="Obdélník 8"/>
          <p:cNvSpPr/>
          <p:nvPr/>
        </p:nvSpPr>
        <p:spPr>
          <a:xfrm>
            <a:off x="1403280" y="5445000"/>
            <a:ext cx="6697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gr. Petra  Karfíková.</a:t>
            </a:r>
            <a:br>
              <a:rPr sz="1100"/>
            </a:br>
            <a:r>
              <a:rPr b="0" i="1" lang="cs-CZ" sz="1100" spc="-1" strike="noStrike">
                <a:solidFill>
                  <a:srgbClr val="898989"/>
                </a:solidFill>
                <a:latin typeface="Calibri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Čapek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1890 – 193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rozen v Malých Svatoňovicí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ětství strávil v Úpi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sokoškolská studia v Praze, Berlíně a Paříž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vní předseda československého PEN klubu  (svaz spisovatelů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anželka – herečka Olga Scheinpflugová (napsala paměti o K. Čapkovi – Český romá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tel T. G. Masaryka – scházeli se každý pátek v Čapkově vile – „pátečníci“  (T. G. Masaryk, F. Peroutka, 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emřel o Vánocích 1938  na plicní edém (několik měsíců před plánovaným zatčením gestapem ). Přispělo k tomu i vyčerpání z boje za mír (snažil se varovat světové státníky před válko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ÍL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Calibri"/>
              </a:rPr>
              <a:t>Čapek noviná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daktor Národních listů, od roku 1921 Lidových novin    – psal fejetony, sloupky, reportáž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oubory textů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AHRADNÍKŮV R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MĚL JSEM PSA A KOČ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ád cestoval  s bratrem po Evrop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z cest psal črty vydané v soubore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ITALSKÉ LISTY, ANGLICKÉ LISTY, VÝLET DO ŠPANĚ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snaží se postihnout povahu národa pomocí vtipných postřehů, glosuje a přibližuje místní obyvate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i="1" lang="cs-CZ" sz="2800" spc="-1" strike="noStrike">
                <a:solidFill>
                  <a:srgbClr val="000000"/>
                </a:solidFill>
                <a:latin typeface="Calibri"/>
              </a:rPr>
              <a:t>Čapek prozai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rilogie o možnostech poznání prav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 HORDUBAL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smrt sedláka, který se vrátil po letech z Ameri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VĚTROŇ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poznání neznámého z výpovědí jeptišky, jasnovidce a básní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BYČEJNÝ ŽIVOT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vyprávění o životě drážního úřední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tektivní povíd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VÍDKY Z JEDNÉ KAPSY, POVÍDKY Z DRUHÉ KAP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vídky o biblických tématech –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NIHA APOKRYF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vídky o smyslu existence –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TRAPNÉ POVÍD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tiválečné romá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TOVÁRNA NA ABSOLUTNO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objev, který rozbíjí atomy, ale uvolňuje absolutno. Tato síla mění lidi a vyvolává v nich fanatismus – to vede k vál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RAKATIT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vynálezci třaskaviny je ukradeno jeho dílo, on po něm pátrá a prochází všemi možnými vrstvami lidí, aby došel k názoru, že je lepší dělat drobné věci pro dobré li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ÁLKA S MLOKY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utopie o nekontrolovatelném množení mloků, které vede k vál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1" i="1" lang="cs-CZ" sz="2600" spc="-1" strike="noStrike">
                <a:solidFill>
                  <a:srgbClr val="000000"/>
                </a:solidFill>
                <a:latin typeface="Calibri"/>
              </a:rPr>
              <a:t>Čapek dramat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LÁSKY HRA OSUDNÁ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– 1. drama – napsané s bratrem Josefe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LOUPEŽNÍK –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omedie o zamilovaném studentovi a mezigeneračních rozdíle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R.U.R.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(Rossum’s Universal Robots) – příběh robotů, u kterých se objeví jako porucha 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ZE ŽIVOTA HMYZU 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- napsáno s bratrem Josefem – alegorie o životě lidí, ale ve zvířecí říši – nakonec je mravenec jako vůdce zneškodně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protiválečná dram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BÍLÁ NEMOC 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- příběh doktora Galéna, který jediný má lék proti bílé nemoci – svou léčbu podmíní zastavením války,  ale dav jej nakonec i s lékem ušlap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MATKA 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– osud matky, jejíž synové a manžel umírají ve válce a ona nakonec vloží pušku do ruky i nejmladšímu synovi Tonimu když zjistí, že se ve válce zabíjejí i malé dě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d) další Čapkova tvor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nihy pro děti –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DEVATERO POHÁD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DÁŠEŇKA ČILI ŽIVOT ŠTĚNĚ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tologie francouzských překlad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FRANCOUZSKÁ POEZIE NOVÉ DOB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HOVORY S T. G. MASARYKEM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svědectví o našem prezidento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losofické dílo –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RAGMATISMUS ČILI FILOSOFIE PRAKTICKÉHO ŽIV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gmatismus = pravdivé je to poznání, které se shoduje s naší zkušen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Josef Čapek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1887 – 194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tvarník, umělecký kritik a teoretik, spisovat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polupracoval jako jevištní výtvarník s několika divad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acoval jako novinář v Národních listech a Lidových noviná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yl členem několika výtvarných skupin (např. Tvrdošíjn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ho výtvarná díla byla ovlivněna kubismem, tvořil karikatury, knižní grafi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 protifašistickou činnost byl během celé války vězněn v koncentračních táborech, nakonec umírá v polovině dubna 1945 v Bergen-Belsenu na tyf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ílo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STÍN KAPRADINY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příběh o vraždě myslivce, kterého zabijí dva pytlá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KULHAVÝ POUTNÍK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próza  - meditace o živo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OVÍDÁNÍ O PEJSKOVY A KOČIČC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- pro dě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BÁSNĚ Z KONCENTRAČNÍHO TÁB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do byli „pátečníci“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o si představíte pod pojmem Čapek – cestovate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terými díly K. Čapek bojoval proti vál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se u bratří Čapků projevila tvorba pro dět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ím se tvorba Josefa Čapka lišila od tvorby jeho bratr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bsluha</cp:lastModifiedBy>
  <dcterms:modified xsi:type="dcterms:W3CDTF">2013-04-08T20:22:50Z</dcterms:modified>
  <cp:revision>16</cp:revision>
  <dc:subject/>
  <dc:title>Snímek 1</dc:title>
</cp:coreProperties>
</file>