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6424-68ED-4A39-A5C1-7E3E2538F1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E86B-366D-4517-A7D6-7CFB38D76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8696-CF04-443D-817D-B6620D15C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499A-09ED-407E-98B7-FC4BD201B3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ADF1-9AEC-400C-8F0E-53CF28A455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196A-43DB-4203-B914-DB8D579190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A095-2975-4DDB-8FF6-F74B30130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BDD1-417D-45DD-96B0-4E4F78A70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30C4-5AA3-48B6-9A55-670DECEDC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9753-01B9-476D-89EC-25D6C8195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426A-0CF5-4CAE-9FE4-E51E00D96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50C6-DF74-4353-9A7D-4A7BE0948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874476-0EFC-4CC2-B5E6-96D147DCB1E6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332000" y="1474920"/>
          <a:ext cx="6480000" cy="3911400"/>
        </p:xfrm>
        <a:graphic>
          <a:graphicData uri="http://schemas.openxmlformats.org/drawingml/2006/table">
            <a:tbl>
              <a:tblPr/>
              <a:tblGrid>
                <a:gridCol w="1439640"/>
                <a:gridCol w="1322640"/>
                <a:gridCol w="907920"/>
                <a:gridCol w="182520"/>
                <a:gridCol w="182520"/>
                <a:gridCol w="182520"/>
                <a:gridCol w="881280"/>
                <a:gridCol w="1380960"/>
              </a:tblGrid>
              <a:tr h="761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chodn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kademie a Středn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odborn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la, gen. F. Fajtla, Louny, p.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 projekt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 sad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 D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eský jazyk a literatu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v materi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adlo mezi válkam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r. Petra Karf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 6. 20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čn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ročn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zentace meziválečného divadla – seznámení s oficiálními, neoficiálními  divadly. Osvobozené divadlo – ukázka a úkoly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i se seznámí s nejvýznamnějšími divadly meziválečného období  Přečtou ukázku a splní úkoly.formou skupinové práce. Pomůcky – papíry do skupin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36"/>
          <p:cNvSpPr/>
          <p:nvPr/>
        </p:nvSpPr>
        <p:spPr>
          <a:xfrm>
            <a:off x="1476360" y="5734080"/>
            <a:ext cx="633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1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 Mgr. Petra  Karfíková.</a:t>
            </a:r>
            <a:br>
              <a:rPr sz="1100"/>
            </a:br>
            <a:r>
              <a:rPr b="0" i="1" lang="cs-CZ" sz="1100" spc="-1" strike="noStrike">
                <a:solidFill>
                  <a:srgbClr val="898989"/>
                </a:solidFill>
                <a:latin typeface="Arial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Obrázek 1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2448000" cy="674640"/>
          </a:xfrm>
          <a:prstGeom prst="rect">
            <a:avLst/>
          </a:prstGeom>
          <a:ln w="0">
            <a:noFill/>
          </a:ln>
        </p:spPr>
      </p:pic>
      <p:pic>
        <p:nvPicPr>
          <p:cNvPr id="44" name="Obrázek 2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6033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50560" y="620640"/>
            <a:ext cx="856908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est pocket revue (Malá kapesní revue) (19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moking revue, Go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0. léta – politická satira, protifašistická dí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aesar, Osel a stín, Kat a blázen, Balada z hadrů, Rub a líc, Těžká Barb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vaznost na commedii dell arte (improvizované dialo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bíny = dialogy před oponou (=předscény) – na aktuální té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ísně –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bička Mary, David a Goliáš, Klobouk ve křoví, Ezop a mraven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6840" y="836640"/>
            <a:ext cx="82263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38 – divadlo úředně zavř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V + W a J. Ježek emigrovali do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45 – návrat do Č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uvedli muzikál Divotvorný hrn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948 – J. Voskovec emig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J. Werich v divadle ABC spolupracuje s Miroslavem Horníč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né filmy –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udr a benzín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1931),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ej rup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1934),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vět patří ná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19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6840" y="404280"/>
            <a:ext cx="8226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kázka z hry V + W  Rub a líc – Výbušný gulá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líko: Konzervy se neodmykají. Konzervy se otevírají. Čí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ev: Klíčem. Máte h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líko: Teď jsem se ptal vás, jestli ho máte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Zvedne víko bedničky na stole. Krev pohlédne dovnitř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é, to jsou divný konzervy. Takový příruční!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Vyjme z bedničky válcovitý ruční granát s rukovětí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líko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bere mu granát z ruky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kažte, to budou ty nový, turistický. To se asi takhle opíká nad ohně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ev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bere mu granát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ůjčte to sem. To se asi musí za tohle zatáhnout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Zatáhne za šňůrku a odtrhne ji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ic se neotevř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líko: Neteče z toho olej?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Přiblíží granát k uchu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m něco syčí! Ta bude asi zkaže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ev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poslouchá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 ten olej kvasí.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řepe granátem a znovu naslouchá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é, teďka!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Dává granát Mlíkovi k uch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líko: Teď to tam burácí! Je to ale štěstí, že jsme si toho  všimli. Vždyť to je zdraví nebezpečn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549360"/>
            <a:ext cx="8226360" cy="55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k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čtěte si ukáz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ste pokračovat v psaní – jak asi V + W vyřešili problém s ručním graná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skupinová prá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Dočtěte si ukázku z čítan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764640"/>
            <a:ext cx="822636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it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RTINKOVÁ, Věra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Čítanka pro 3. ročník středních ško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3. vyd. Praha: Trizonia, 1995, s. 337-338. ISBN 80855731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ivadlo mezi válka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iv moderního světového drama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CHAT – Moskevské umělecké divad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otevřeno v roce 189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zakladatel Stanislavsk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užívali nov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uváděny premiéry – hlavně Antona Pavloviče Čech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ficiální diva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menná divadla s klasickým repertoá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Národní divadlo, Divadlo na Vinohrad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žiséři – Jaroslav Kvap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erci – Eduard Vojan, Eduard Kohout, Zdeněk Štěpánek, Hugo Haas, Saša Rašil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549360"/>
            <a:ext cx="8226360" cy="55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utoři divadelních 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roslav Kvapil – Princezna pampeli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 oživlé dívce – květině, kterou rozfouká podzimní vít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Rusalk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libreto k opeře A. Dvořá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ráňa Šrámek – Léto, Měsíc nad řek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lius Zeyer – Radúz a Mahu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el Čapek – Loupežník, Ze života hmy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iváleč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RUR, Bílá nemoc, Mat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rantišek Langer – Jízdní hl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udolf Medek – Plukovník Šv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ry Aloise Jirá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oficiální diva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ivadlo Vlasty Buria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lo v roce 1925 v sále hotelu Adrie na Václavském námě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očátku hry stavěly na osobnosti Vlasty Buriana, postupně byl soubor obohacen o výrazné osobnosti – Martinem Fričem, Jindřichem Plachtou, Jaroslavem Marvanem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 her byla zařazena improvizace a aktuální 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 zatčení V. Buriana v roce 1945 divadlo ukončilo svou čin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6840" y="980640"/>
            <a:ext cx="82263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céna D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la v roce 19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 Osvobozeného divadla se oddělila skupina kolem J. Frejky a E. F. Bur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užívali ve svých představeních tanec, sborový zpěv či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ůsobili v prostorech Umělecké bes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980640"/>
            <a:ext cx="82263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ivadlo D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loženo v letech 1933–4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číslo se měnilo podle sezó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kladatel – Emil František Burian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1904 – 195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riginální adaptace klasi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cénické realizace poezie (Máj Švejk, Krysa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ali „voice band“ – hlasovou kap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764640"/>
            <a:ext cx="822636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abaret Červená sed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l ze studentské skupiny v Hradci Králové v roce 19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govalo v letech 1910 – 1922 v Praze – nejprve v divadle Rokoko, poté  v hotelu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kladatel a skladatel písní – Jiří Červe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agonista a uvaděč – Eduard B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epertoáru byla směs písní, kupletů , hraných scén, pásem  básní a  literárních a divadelních parod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ou činnost ukončil pro nezájem publ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vantgardní divad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svobozené divad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lo v roce 192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vobozené = snaha osvobodit se o divadelních konven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ivněno poetismem a dadaismem, lidovou zábavou, cirkusem, klaunstv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utorský typ diva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žiséři – Jiří Frejka, Jiří Honz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utoři – Jiří Voskovec, Jan Wer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udba  a klavír – Jaroslav Jež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bsluha</cp:lastModifiedBy>
  <dcterms:modified xsi:type="dcterms:W3CDTF">2013-06-20T20:41:2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