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11D8-8E88-4ABB-B5F3-6405CD52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BD6A-24CD-4CF3-85A3-5989CEDA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348-5729-40D3-A156-84478E48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751-78FD-4C82-82A6-381F7F15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6D5-D62E-441E-9D36-EA95204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97F-5703-47A5-81B8-988D7015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432-051B-43D3-B0BB-A1D5EA5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6C7-288D-4431-A3D2-5EDBBF27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82B-DBB7-4714-A971-38C90286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935-F940-450D-8BEC-9FACD803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09A-5D47-4B29-B575-DA3CE86C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A09-30C3-44A7-85F7-BEB88C0A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919D-4D4A-49CC-8ECF-820B4B9EC95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32000" y="1479600"/>
          <a:ext cx="6480000" cy="3906720"/>
        </p:xfrm>
        <a:graphic>
          <a:graphicData uri="http://schemas.openxmlformats.org/drawingml/2006/table">
            <a:tbl>
              <a:tblPr/>
              <a:tblGrid>
                <a:gridCol w="1249200"/>
                <a:gridCol w="1513080"/>
                <a:gridCol w="907920"/>
                <a:gridCol w="182520"/>
                <a:gridCol w="182520"/>
                <a:gridCol w="182520"/>
                <a:gridCol w="881280"/>
                <a:gridCol w="1380960"/>
              </a:tblGrid>
              <a:tr h="76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kovská pró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6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zástupců venkovské prózy v 30. letech 20. století. Otázky k textům z historie ruralistů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s nejvýznamnějšími zástupci venkovské prózy ve 30. letech 20. století. K textu z historie ruralismu otázky s vypracovanými odpověďm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" name="Obrázek 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48000" cy="67464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2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603360" cy="58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6"/>
          <p:cNvSpPr/>
          <p:nvPr/>
        </p:nvSpPr>
        <p:spPr>
          <a:xfrm>
            <a:off x="1219320" y="5562720"/>
            <a:ext cx="6476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enkovská próza - ruralis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ralis = venk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nkov je jistota, záruka mravnosti a čistoty – proti zhoubnému vlivu města a technické civi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dice rodiny, zvyků, vazby s přírod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ý úděl venkova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utoři věznění v 50. le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osef Knap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00 – 19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terární a divadelní kr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al v Národním muzeu a Památníku národního písemnic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má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éva na zdi, Muži a h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bor povídek –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aváté šlépě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František Křelina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03 – 19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ůsobil jako učitel, po návratu z vězení jako děl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u tohoto autora je venkovská próza spojena s katolickou ví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ubená lé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bor povídek 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las koře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lší autoři venkovské próz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áclav Prokůp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jtěch Martí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. C . 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Zdeněk Kalista, velký přítel Josefa Knapa, v mládí tíhl k levici, byl spíše kosmopolitně zaměřen, ovládal několik světových jazyků, byl ovlivněn především moderní francouzskou poezií, kterou také překládal. Pocházel z učitelské rodiny, kdežto Josef Knap byl jedno z deseti selských dět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Ve dnech 2. – 4. července 1952 se konal v Brně proces s Václavem Prokůpkem, Josefem Knapem, Františkem Křelinou a dalšími spisovateli katolické orientace, kteří byli souzeni v případu Zelené internacionály jako její takzvaní přisluhovači, kteří se měli pokoušet založit mezinárodní agrární organ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táz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li se autoři Zdeněk Kalista aJan Kn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ý vztah měl Zdeněk Kalista k moderní francouzské poezi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yl nějaký rozdíl v původu obou autorů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ý politický proces se odehrával v červenci 1952  v Brn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o byl v tomto případu souz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o, znali se, měli přátelský vzt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eněk Kalista si velmi oblíbil moderní francouzskou poezii a dokonce ji i překlád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o. Zdeněk Kalista pocházel z učitelské rodiny, Josef Knap byl jedním z deseti dětí v selské rodi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litický proces v případu Zelené internacioná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uralisté a katolíci, především VáclavProkůpek Josef Knap, František Křelina a další spisovatelié katolické orient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itace tex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LDIŠOVÁ, Martina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Josef Knap – neumlčený ruralista z Jičíns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Praha, 2007. Diplomová práce. Univerzita Karlova v Praze, Pedagogická fakulta. s. 49, 56. Vedoucí práce PhDr. Roman Ferst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sluha</cp:lastModifiedBy>
  <dcterms:modified xsi:type="dcterms:W3CDTF">2013-06-08T22:33:0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