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A50F-DE9A-4DBE-8D76-731C8944E5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B03C-B627-4431-8FA2-C98A1438C6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E4B-79CE-477B-8DAB-5ADA214F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77C-AD29-4846-B04E-01324B7B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16E-D428-4C67-9B31-7B551E53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71FD-FC53-4D8F-804D-3D5D9B6E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1498-B8F4-4CD3-948B-FB99616D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79D5-29F4-42A2-AA9B-CA02D393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8185-B70A-438D-BA3F-545817E6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769-0BDF-469B-A0E2-73C69075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D93-46F8-4FAB-88F9-51E0B85B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1DFD-2BE4-4D85-B737-61AF8DC5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F97-9CF1-49A0-A3C4-6F4803B3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9F66-5D87-4B81-8158-D704D4CA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40DD-CC92-4D03-95ED-B7EDA6EF6C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D8E1-B117-45A5-9214-F8276668B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brázek 1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3133440" cy="86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523880" y="1397160"/>
          <a:ext cx="6720120" cy="3243240"/>
        </p:xfrm>
        <a:graphic>
          <a:graphicData uri="http://schemas.openxmlformats.org/drawingml/2006/table">
            <a:tbl>
              <a:tblPr/>
              <a:tblGrid>
                <a:gridCol w="1562400"/>
                <a:gridCol w="1888920"/>
                <a:gridCol w="830160"/>
                <a:gridCol w="136800"/>
                <a:gridCol w="136440"/>
                <a:gridCol w="399960"/>
                <a:gridCol w="1008000"/>
                <a:gridCol w="757440"/>
              </a:tblGrid>
              <a:tr h="9331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chodní akademie a Střední odborná škola, gen. F. Fajtla, Louny, p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svoboditelů 380, Lou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Z.1.07/1.5.00/34.00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sa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íslo D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ředmě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ský jazyk a 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matický okr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teratura v 1. polovině 20. stolet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ázev materiá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ěmecky psaná literatura v Čechá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u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gr. Petra Karfíkov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um tvor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. 02. 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 roční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ezentace tématu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ěmecky psaná literatura v Čechách v 1. polovině 20. století. R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zbor ukázek F. Kafky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Proces, Proměna)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R. M. Rilkeh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Básník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todický poky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omocí projektoru studenti sledují výklad učitele dle prezentace a rozebírají texty  autorů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0" name="Obrázek 2" descr=""/>
          <p:cNvPicPr/>
          <p:nvPr/>
        </p:nvPicPr>
        <p:blipFill>
          <a:blip r:embed="rId2"/>
          <a:stretch/>
        </p:blipFill>
        <p:spPr>
          <a:xfrm>
            <a:off x="5148360" y="1557360"/>
            <a:ext cx="603000" cy="58104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zápatí 4"/>
          <p:cNvSpPr/>
          <p:nvPr/>
        </p:nvSpPr>
        <p:spPr>
          <a:xfrm>
            <a:off x="1619280" y="6021360"/>
            <a:ext cx="576108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898989"/>
                </a:solidFill>
                <a:latin typeface="Calibri"/>
              </a:rPr>
              <a:t>Autorem materiálu a všech jeho částí, není-li uvedeno jinak, je  Mgr. Petra  Karfíková.</a:t>
            </a:r>
            <a:br>
              <a:rPr sz="1100"/>
            </a:br>
            <a:r>
              <a:rPr b="0" lang="cs-CZ" sz="1100" spc="-1" strike="noStrike">
                <a:solidFill>
                  <a:srgbClr val="898989"/>
                </a:solidFill>
                <a:latin typeface="Calibri"/>
              </a:rPr>
              <a:t>Dostupné z Metodického portálu www.rvp.cz ; ISSN 1802-4785. 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INER MARIA RILK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75 – 1926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ažský rodák,  po vojenské škole studoval práva, filozofii, dějiny umění a literatu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íky matčině přecitlivělosti měl plachou a samotářskou povah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ačal  cestovat po Evropě, nakonec zůstal ve Švýcars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jeho básně propojují citlivé vidění světa a víru v Bo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íl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básnické sbír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IHA HODINE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5) – meditace a rozhovory s Bo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ETY ORFEOVI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6840" y="476280"/>
            <a:ext cx="82184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ner Maria Ril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ás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étáš, hodino básníkov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vým krutým křídlem jsem zasa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 co zmohou mé zpěvy? Slov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 rty a ústa? Má noc a d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z lásky toulám se po kra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lastním ani dům,  ani díl zem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ěci, jimž vzdávám se, naleznou ve m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hatství, které zas rozdaj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ázky k tex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é jsou básníkovy poci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 má báseň slok, verš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ýmují se verše v básni – o jaké druhy rýmů se jedná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skytují se v básni básnické výraz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jdi příklad pro kontrast, personifika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NZ WERFE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90 – 1945)</a:t>
            </a: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arozen v Praze jako syn tovární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echtěl převzít obchod po otci, proto se vyhýbal studiu a vedl bohémský živ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e 27 letech se odstěhoval do Vídně, v roce 1938 emigroval do U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íl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TYŘICET DNŮ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33) -  příběh z 1. světové války – pokus turecké armády vyhladit arménský nár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VĚZDA NENAROZENÝCH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sci-fi předpovídající degeneraci lidstva, které přišlo o morálku, lásku a víru v Bo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GON ERWIN KISCH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85 – 1948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cházel z rodiny zámožného židovského obchodníka s textilním zboží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yl novinářem – psal pro německy píšící Prager Tagbla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žil v Praze,, Berlíně, Paříži, USA , zemřel v Pra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yl nazýván „zuřivým reportérem“ – jeho heslem bylo „být při tom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nal  vlivné lidi i spodinu – v jeho reportážích se objevuje výborná hovorová češt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íl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bory próza a reportáží –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ŽSKÁ DOBRODRUŽSTVÍ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), Z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ŘIVÝ REPORTÉR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24),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ŽSKÝ PITAVAL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a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TINKOVÁ, Věra.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ítanka pro 3. ročník středních šk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3. vyd. Praha: Trizonia, 1995, s. 28, 100. ISBN 80-855-7315-6.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ěmecky psaná literatura v Čechách</a:t>
            </a:r>
            <a:br>
              <a:rPr sz="36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ři se v Čechách narodili, žili, ale za Čechy nikdy nebyli považová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y – židovská národ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říslušnost k německé menš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NZ KAFKA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883 – 1924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arozen v Praze v židovské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tec byl obchodníkem a nutil syna, aby v jeho podnikání pokračoval – ten odmítal a trpěl pocitem méněcennosti a ztrátou sebedůvě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tudoval práva a pracoval v pojišťov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yl 3x zasnouben, ale nikdy se neožen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mírá na tuberkuló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í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ětšinu díla vydal po Kafkově smrti Max Brod, organizátor kulturního života v Pra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často využívá fantaz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erespektují časovou posloup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ronizuje byrokracii (sám byl prý pečlivým úředník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ětšině postav chybí příjm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án –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S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v den svých 30. narozenin byl Josef K. obviněn neznámým soudem z neznámého prohřešku. Rok je Josef K. vyslýchán a pak je popraven z neznámých důvod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án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MEK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marná snaha zeměměřiče K. překonat byrokracii a dosáhnout přijetí do zámec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á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MERIK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původní název Nezvěstn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estnáctiletý chlapec je za trest poslán do Ameriky, kde se má sám o sebe postar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ídka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ĚN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úředník Řehoř Samsa se jednoho dne vzbudí a jeho tělo je proměněno v brouka- popsán psychický boj, nakonec dobrovolně umír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6836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předvečer jeho jedenatřicátých narozenin – bylo asi 9 hodin večer, doba, kdy ulice ztichly – přišli ke K. do bytu dva páni. V šosatých kabátech, bledí a otylí, s cylindry, jež by byly jako přirostlé k hlavě. U dveří bytu chvíli obřadně rokovali o tom, který z nich má vejít první, a ještě obřadněji si počínali přede dveřmi pokoje. Ačkoli návštěva nebyla předem hlášena, seděl K., rovněž v černém, na židli poblíž dveří, seděl, jako když očekáváme hosty, a pomalu si natahoval nové rukavice, které mu těsně obepínaly prsty. Ihned vstal a zadíval se zvědavě na pány. „Vás tedy určili pro mne?“ ptal se. Pánové přikývl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ázky k tex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jmenuje hlavní hrdin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byl obleč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do asi byli ti dva pánové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á atmosféra na vás z ukázky dýchá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charakterizujete jazyk použitý v ukáz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mě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„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Řehoř Samsa jednou ráno probudil z nepokojných snů, shledal, že se v posteli proměnil v jakýsi nestvůrný hmyz. Ležel na hřbetě tvrdém jak pancíř, a když trochu nadzvedl hlavu, uviděl své vyklenuté, hnědé břicho rozdělené obloukovitými výztuhami, na jehož vrcholu se sotva ještě držela přikrývka a tak tak, že úplně nesklouzla dolů. Jeho četné, vzhledem k ostatnímu objevu žalostně tenké nohy se mu bezmocně komíhaly před oči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se mu to stalo? Pomyslel si. Nebyl to sen.“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ázky k tex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se stalo Řehoři Samsov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ište jeho zevnějš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kážete si ho představit? Zkuste ho namalovat na tabul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byste se cítili vy, kdyby se vám něco podobného stal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fikova</cp:lastModifiedBy>
  <dcterms:modified xsi:type="dcterms:W3CDTF">2013-05-14T12:14:53Z</dcterms:modified>
  <cp:revision>21</cp:revision>
  <dc:subject/>
  <dc:title>Snímek 1</dc:title>
</cp:coreProperties>
</file>