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85AC-F604-4C4D-9200-1665F52CB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5164-6575-409A-8D83-BE15933B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1D2C-D25C-4423-8ACB-7AF6C211B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4975-7536-40B5-AFB6-A2B9EDF2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801B-972B-4C2C-8A07-2C40BF24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FCFE-3542-49AD-9502-147556AD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2449-D50E-4FBE-8D25-32E2AB7E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BED4-AE95-4C30-BEFB-DDEA1559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96C5-6126-422C-B5B9-FE952B02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9A7F-514B-4357-9154-56ABE8FF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D30E-0286-4ECC-91C1-5408BE35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30B0-E5BC-4F96-ACD7-F4EE07D1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7C05-A2EB-408D-9BCC-978DE4C6F7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7160"/>
          <a:ext cx="6480360" cy="3504960"/>
        </p:xfrm>
        <a:graphic>
          <a:graphicData uri="http://schemas.openxmlformats.org/drawingml/2006/table">
            <a:tbl>
              <a:tblPr/>
              <a:tblGrid>
                <a:gridCol w="1249560"/>
                <a:gridCol w="1512720"/>
                <a:gridCol w="908280"/>
                <a:gridCol w="182520"/>
                <a:gridCol w="182520"/>
                <a:gridCol w="182520"/>
                <a:gridCol w="880920"/>
                <a:gridCol w="1381320"/>
              </a:tblGrid>
              <a:tr h="601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chodní akademie a Střední odborná škola, gen. F. Fajtla, Louny, p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voboditelů 380, Lou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Z.1.07/1.5.00/34.00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sa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D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eský jazyk a litera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ý okru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era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 materiá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adislav Vanč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Petra Karfíkov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tvor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 4. 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č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roč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36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– život a tvorba Vladislava Vančury, na závěr ukázka z Rozmarného léta  s rozborem textu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156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Metodický poky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i se seznámí prostřednictvím prezentace s životem a tvorbou Vladislava Vančury. V závěru je uvedena ukázka z Rozmarného léta, rozbor textu pomocí otázek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Obdélník 4"/>
          <p:cNvSpPr/>
          <p:nvPr/>
        </p:nvSpPr>
        <p:spPr>
          <a:xfrm>
            <a:off x="1908000" y="5516640"/>
            <a:ext cx="5670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 Mgr. Petra  Karfíková.</a:t>
            </a:r>
            <a:br>
              <a:rPr sz="1100"/>
            </a:br>
            <a:r>
              <a:rPr b="0" i="1" lang="cs-CZ" sz="1100" spc="-1" strike="noStrike">
                <a:solidFill>
                  <a:srgbClr val="898989"/>
                </a:solidFill>
                <a:latin typeface="Calibri"/>
              </a:rPr>
              <a:t>Dostupné z Metodického portálu www.rvp.cz ; ISSN 1802-4785. 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rázek 1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2448000" cy="674640"/>
          </a:xfrm>
          <a:prstGeom prst="rect">
            <a:avLst/>
          </a:prstGeom>
          <a:ln w="0">
            <a:noFill/>
          </a:ln>
        </p:spPr>
      </p:pic>
      <p:pic>
        <p:nvPicPr>
          <p:cNvPr id="44" name="Obrázek 2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60300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ladislav Vančura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891 – 194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rozen v Háji u Opavy, dětství strávil v Pra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ystudoval lékařskou fakultu K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ěkolik let byl lékařem na Zbraslavi, pak se až do konce života věnoval literatuř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předseda sdružení Devěts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 roce 1929 vystoupil z komunistické str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 roce 1942 byl zatčen gestapem a zastř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ysy Vančurova díl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áliba v historii – to se projevuje i ve slovní zásobě a způsobu psaní – archaismy, knižní výrazy, složité větné vaz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avy – nekomplikované, jasně čitelné – loupežníci, vrazi, milenci, dobráci, podivíni, sníl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ypravěč často vstupuje do dě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mán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ekař Jan Marhoul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1924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běh dobráka, kterého ostatní využívají. Nakonec skončí jako dělník v původně vlastní pekárně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vela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Rozmarné léto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192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idylu lázeňského městečka Krokovy Vary naruší příjezd kouzelníka Arnoštka s krásnou Annou. Na několik dní poruší stereotyp, ale nakonec kouzelník odjíždí a vše se dostává do zaběhnutých kolejí. Anna poblouzní plavčíka Důru, kanovníka Rocha a majora Hug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poetický jazy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6840" y="692280"/>
            <a:ext cx="8218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storický romá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rkéta Lazarová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93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příběh středověké loupežnické lásky – Markéty (dcera Lazara) a Mikoláše (syna Kozlíka). Markéta je unesena a prožívá lásku i boj – vše intenzivně a napl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má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le orná a válečná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92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několik lidských příběhu lidí postižených 1. sv. válk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odsouzení absurdity vál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dokončené trojdílné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razy z dějin národa českéh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achycení významných okamžiků české histor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ramat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Jezero Ukereve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ama z afrického lékařského prostřed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Josefina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kus o vzdělání chudé dív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lmové scénář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lm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řed maturit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dět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Kubula a Kuba Kubikula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– příběh o medvědáři, medvědovi a strašidlu Barbuchov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zpívav svoji písničku, veliký Antonín složil ruce na zádech a dýchal na kuličku teploměru. Sloupec téměř neúplatný sotva se pohnul a Důra znamenaje tuto řádnost měl několik myšlenek, jež se vystřídaly v sledu míšených kar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ento způsob léta,“ děl vposled odvraceje se od přístroje Celsiova, „zdá se mi poněkud nešťastným. „Je chladno a můj dech, jakkoliv jsem nepozřel vody, je mrazivý. Který měsíc nám zbývá, jestliže ani červen není dost vhodný, abychom pečovali o zdraví a o tělesnou čistotu?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Úko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kuste odvodit, z které knihy je uvedená ukáz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dtrhněte slova, která nepatří do současné češti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m byste zařadili podtržená slov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kuste převézt tento text do současné češti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Citac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ARTINKOVÁ, Věra. </a:t>
            </a:r>
            <a:r>
              <a:rPr b="0" i="1" lang="cs-CZ" sz="2000" spc="-1" strike="noStrike">
                <a:solidFill>
                  <a:srgbClr val="000000"/>
                </a:solidFill>
                <a:latin typeface="Calibri"/>
              </a:rPr>
              <a:t>Čítanka pro 3. ročník středních škol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. 3. vyd. Praha: Trizonia, 1995, s. 142. ISBN 80 85573-15-6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rfikova</cp:lastModifiedBy>
  <dcterms:modified xsi:type="dcterms:W3CDTF">2013-04-26T06:20:13Z</dcterms:modified>
  <cp:revision>9</cp:revision>
  <dc:subject/>
  <dc:title>Snímek 1</dc:title>
</cp:coreProperties>
</file>