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5EF-8FED-48CF-8A60-ECBF8E42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210-DDF5-46D4-8933-95E059EF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43D-A07D-40DB-9C5F-E713E8CE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B2FE-9F73-492C-A7E9-AD8A2539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FAB-C116-4AB6-BB96-F7142E01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D819-DFD0-46C4-B975-1F147A7B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393-BA85-4685-A651-6A37CF30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550F-F49E-470A-AA6B-93E6FD12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DB9-30CA-4C5B-92A6-14E9CF9A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1FC-7E3F-4AE8-B2DE-58913596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7C2-D589-4027-8C54-978E2D9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9F17-C21D-4A08-B45D-58737339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BA41-011F-4426-A8BB-2DE857F7B0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JySbj-UP6Y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16000" y="1484280"/>
          <a:ext cx="6719760" cy="3757680"/>
        </p:xfrm>
        <a:graphic>
          <a:graphicData uri="http://schemas.openxmlformats.org/drawingml/2006/table">
            <a:tbl>
              <a:tblPr/>
              <a:tblGrid>
                <a:gridCol w="1562040"/>
                <a:gridCol w="1889280"/>
                <a:gridCol w="830160"/>
                <a:gridCol w="182520"/>
                <a:gridCol w="182520"/>
                <a:gridCol w="308160"/>
                <a:gridCol w="1008000"/>
                <a:gridCol w="757080"/>
              </a:tblGrid>
              <a:tr h="93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8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ý jazyk a literatur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v 1. polovině 20. století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gionářská literatur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gr. Petra Karfíková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02. 2013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ročník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atika legionářské literatury – prezentace a rozbor textu (F. Langer – Železný vlk)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8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mocí projektoru studenti sledují výklad učitele dle prezentace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na závěr rozbor textu.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2" name="Obrázek 2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603360" cy="58104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313380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7"/>
          <p:cNvSpPr/>
          <p:nvPr/>
        </p:nvSpPr>
        <p:spPr>
          <a:xfrm>
            <a:off x="971640" y="5661000"/>
            <a:ext cx="741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gr. Petra  Karfíková.</a:t>
            </a:r>
            <a:br>
              <a:rPr sz="1200"/>
            </a:b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Legionářsk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GIONÁŘ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 voják, který bojoval během 1. světové války na východní fron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matika zahraničního odboje proti Rakousku  a Němec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utoři o legiích psali, případně v legiích sami působi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de o vzpomínky založené na skutečných událost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známější autoř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udolf Mede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legionář z ruské fro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osef Kopt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legionář z ruské fro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rantišek Langer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lékař z ruské fron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aroslav Kratochvíl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ůstojník ruských legi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Rudolf Medek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1890 – 194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v 1. světové válce bojoval na ruské frontě, zúčastnil se Bitvy u Zborova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 válce oceněn mnoha válečnými řády – v Británii, Francii a hodností generála – po podepsání Mnichovské dohody vyznamenání vrát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 válce - ředitel Památníku odboje a Památníku nár. osvoboz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zemřel na zánět pobřišn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Dílo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báseň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ZBOROV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– oslavná báse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románová pentalogie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 ANABÁZE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– historický záznam konce 1. světové vál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ragédie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PLUKOVNÍK ŠVEC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– zachycuje skutečnou událost – sebevraždu velitele jednot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Josef Kopta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1894 – 196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rodák z Libochovic, povoláním bankovní úřední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během 1. světové války byl legionářem v Rus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po návratu z války se stal redaktorem Lidových nov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Díl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trilogie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TŘETÍ ROTA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– osudy vojáků jedné roty v Rusku (psychologie postav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Třetí rota, Třetí rota na magistrále, Třetí rota dom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román 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HLÍDAČ  č. 47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traťový hlídač je považován za vraha  Ferdy, který mu má chodit za ženou  (ten však spáchal sebevraždu). Hlídač Douša  na čas ohluchne a když se mu vrátí sluch, předstírá hluchotu a dozví se, co si o něm lidé myslí. Nakonec je zabit Ferdovým kamarád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- zfilmováno v roce 2008 – ukázka: </a:t>
            </a:r>
            <a:r>
              <a:rPr b="0" lang="cs-CZ" sz="19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youtube.com/watch?v=MJySbj-UP6Y</a:t>
            </a:r>
            <a:r>
              <a:rPr b="0" lang="cs-CZ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František Langer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1888 – 19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tudoval medicínu a v ruských legiích byl lékař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roveň psal do novin, byl kulturně činný, pracoval jako dramaturg Divadla na Vinohrad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letech 1939 – 45 emigroval do Francie a Ang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 válce mu byl udělen titul brigádního generá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í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vadelní hra oslavující legie 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ÍZDNÍ HLÍD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bor povídek o legionářích -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ELEZNÝ V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 válce psal komedie –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ELBLOUD UCHEM JEHL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příběh bohatého mladíka, kterého převychová láska a prá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al loutkové hry pro dě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Calibri"/>
              </a:rPr>
              <a:t>Jaroslav Kratochvíl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1885 – 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mítl bojovat proti Rudé armádě – byl zajat a přešel k legi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mpatizoval s Ruskem, byl redaktorem Nové Rusk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 2. světové války byl v březnu 1945 zatčen gestapem za odbojovou činnost a zemřel v Terezíně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íl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mán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MEN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dvoudílný román, který měl být úvodem k historii legionářství, zobrazoval složité poměry v Rus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kázk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rodil se na poletajevském nádraží ze dvou plochých nákladních platforem, které dříve vozily rudu a uhlí, a ze staré dýchavičné lokomotivy. Byl nejprve neohrabaným štěnětem, jehož útočné zbraně, zuby i drápy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e zuby i kůže byly tehdy jen mléčné, a proto vše zase dorostlo. Hlavně kůže. Tu obdržel tentokráte z železných amerických vagónů – uhláků, ze kterých se později rodily všechny pancéřové vlak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. Langer – Železný vlk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tázky k ukáz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 popisuje celá ukázk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ím byl tento stroj důležitý pro legionář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jdi v ukázce příklady personifika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vuje se v ukázce knižní čeština? Kd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it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ANGER, František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lezný vlk: příběhy z naší anabáz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Praha: Mladá fronta, 1994, s. 101. ISBN 8020404619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6:54:20Z</dcterms:created>
  <dc:creator>obsluha</dc:creator>
  <dc:description/>
  <dc:language>en-US</dc:language>
  <cp:lastModifiedBy>Václav Jukl</cp:lastModifiedBy>
  <dcterms:modified xsi:type="dcterms:W3CDTF">2013-05-22T11:49:31Z</dcterms:modified>
  <cp:revision>21</cp:revision>
  <dc:subject/>
  <dc:title>Snímek 1</dc:title>
</cp:coreProperties>
</file>