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54090-9D12-467F-9924-3071095EF0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17CBA-9FD8-496C-9400-648DEDCEDD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20DED-697D-4B2C-A2D7-0AFA063673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F41CC-0757-4B5E-B500-CC41BD1865A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8509C-7C2A-448D-B0BF-6C634C96874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CFDFB-A83B-4FC2-9740-AC6519B954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5376A-D209-49B6-85FC-46873E49E8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DB788-EB67-42AE-9C11-BF5CDEA69C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36CEB-79DF-4609-8055-41681F0FE2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590DA-00C9-4883-9C23-8C386DCE56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0E6DF-902E-41FA-8C7E-906D47B4AD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51066-7594-483A-B6E2-4F0A18BD25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E6DEBDB-FCDB-4B5E-B3F1-98D7586012E8}" type="slidenum">
              <a:rPr b="0" lang="cs-CZ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332000" y="1474920"/>
          <a:ext cx="6480000" cy="3911400"/>
        </p:xfrm>
        <a:graphic>
          <a:graphicData uri="http://schemas.openxmlformats.org/drawingml/2006/table">
            <a:tbl>
              <a:tblPr/>
              <a:tblGrid>
                <a:gridCol w="1368360"/>
                <a:gridCol w="1393920"/>
                <a:gridCol w="907920"/>
                <a:gridCol w="182520"/>
                <a:gridCol w="182520"/>
                <a:gridCol w="182520"/>
                <a:gridCol w="881280"/>
                <a:gridCol w="1380960"/>
              </a:tblGrid>
              <a:tr h="739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bchodn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í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akademie a Středn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í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odborn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á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ola, gen. F. Fajtla, Louny, p.o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svoboditelů 380, Loun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Č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í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lo projektu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Z.1.07/1.5.00/34.005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Č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í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lo sad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Č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í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lo DUM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ředmě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Český jazyk a literatur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matický okruh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teratur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á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ev materi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á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u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Ženy spisovatelk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uto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gr. Petra Karf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í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ov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á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tum tvorb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 6. 2011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očn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í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 ročn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í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20640"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cs-CZ" sz="1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Anot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ezentace čtyř zástupkyň žen spisovatelek v 1. polovině 20. století – M. Majerová, M. Pujmanová, B. Benešová a A. M. Tilschová – otázky k ukázkám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6520"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cs-CZ" sz="1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Metodický poky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udenti se seznámí s nejvýznamnějšími zástupkyněmi žen spisovatelek v 1. polovině 20. století. Otázky k ukázkám (B. Benešová – Don Pablo, don Pedro a Věra Lukášová a A. M. Tilschová – Haldy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2" name="Rectangle 636"/>
          <p:cNvSpPr/>
          <p:nvPr/>
        </p:nvSpPr>
        <p:spPr>
          <a:xfrm>
            <a:off x="1476360" y="5734080"/>
            <a:ext cx="63356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cs-CZ" sz="1100" spc="-1" strike="noStrike">
                <a:solidFill>
                  <a:srgbClr val="898989"/>
                </a:solidFill>
                <a:latin typeface="Arial"/>
              </a:rPr>
              <a:t>Autorem materiálu a všech jeho částí, není-li uvedeno jinak, je  Mgr. Petra  Karfíková.</a:t>
            </a:r>
            <a:br>
              <a:rPr sz="1100"/>
            </a:br>
            <a:r>
              <a:rPr b="0" i="1" lang="cs-CZ" sz="1100" spc="-1" strike="noStrike">
                <a:solidFill>
                  <a:srgbClr val="898989"/>
                </a:solidFill>
                <a:latin typeface="Arial"/>
              </a:rPr>
              <a:t>Dostupné z Metodického portálu www.rvp.cz ; ISSN 1802-4785. Provozuje Národní ústav pro vzdělávání, školské poradenské zařízení a zařízení pro další vzdělávání pedagogických pracovníků (NÚV)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Obrázek 1" descr=""/>
          <p:cNvPicPr/>
          <p:nvPr/>
        </p:nvPicPr>
        <p:blipFill>
          <a:blip r:embed="rId1"/>
          <a:stretch/>
        </p:blipFill>
        <p:spPr>
          <a:xfrm>
            <a:off x="1371600" y="1523880"/>
            <a:ext cx="2448000" cy="674640"/>
          </a:xfrm>
          <a:prstGeom prst="rect">
            <a:avLst/>
          </a:prstGeom>
          <a:ln w="0">
            <a:noFill/>
          </a:ln>
        </p:spPr>
      </p:pic>
      <p:pic>
        <p:nvPicPr>
          <p:cNvPr id="44" name="Obrázek 2" descr=""/>
          <p:cNvPicPr/>
          <p:nvPr/>
        </p:nvPicPr>
        <p:blipFill>
          <a:blip r:embed="rId2"/>
          <a:stretch/>
        </p:blipFill>
        <p:spPr>
          <a:xfrm>
            <a:off x="4267080" y="1523880"/>
            <a:ext cx="603360" cy="5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6840" y="907920"/>
            <a:ext cx="822636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it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ARTINKOVÁ, Věra.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Čítanka pro 3. ročník středních škol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 3. vyd. Praha: Trizonia, 1995, 133, 137. ISBN 808557315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Ženy spisovatelk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ženy se jako autorky začínají prosazovat až v polovině 19. století, kdy jim bylo umožněno vzděl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hlavními hrdinkami jsou že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pisují vztahy mezi ženami a muži ženskýma oči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éma postavení žen ve společ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Marie Majerová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(1882 – 196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267920"/>
            <a:ext cx="8226360" cy="485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cházela z chudých poměrů na Kladensku, sloužila v Budapeš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edaktorka Rudého práva – psala pro dě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edstavitelka socialistického realis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ngažovala se v politice v 50. lete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í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ívčí román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Robinsonk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omán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Siréna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– názorový vývoj rodiny Hudců (vznik a vývoj KSČ na hornickém Kladensk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alší romány –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Mučenky, Panenstv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Marie Pujmanová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(1893 – 195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cházela z vyšších kruh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ěkolikrát navštívila Sovětský svaz, což ji velmi ovlivni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dchla se pro KSČ, v 50. letech se zapojila do politických proces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íl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ovela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ředtucha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– o dospív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alší romány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od křídly, Pacientka doktora Heg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ománová trilogie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Lidé na křižovatce, Hra s ohněm, Život proti smr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braz společnosti po 1. sv. válce až po hospodářskou krizi, osudy velkopodnikatele a intelektuá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Božena Benešová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(1873 – 193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- autorka psychologické prózy, píše o mladý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í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ovela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Don Pablo, don Pedro a Věra Lukášová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– střet světa mladých a dospělých – hlavní hrdinka Věra Lukášová (13 let) se svěřuje svým dvěma balonkům (Don Pedro a don Pabl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nihy povídek –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Myšky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– téma útlaku ž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68000" y="404640"/>
            <a:ext cx="8226360" cy="57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kázka: Don Pablo, don Pedro a Věra Lukášov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Usedla na jednu ze zvlhlých klád proti vysoké zdi. Po pravici měla zelené houští staré zahrady, plné dlouhých prutů s drobounkými lístky (říká se jim rozcuchaná nevěsta a je jich teď všude plno), ale ona jim říkala „ochranná okrasa“, protože tak krásně bránily pohledu sem. A té vysoké škaredé zdi říkala „ochrana olbří“ a těm kládám „odpočinek osamělých“. Jak krásně se tu sedí! Duj, větře, zahálej, školo, volej, babičko, hledej si, Háčinko, já jsem v oblasti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tázk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ak se cítí hlavní hrdinka Věra Lukášová – dolož na ukáz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ed kým se skrývá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Anna Marie Tilschová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  </a:t>
            </a:r>
            <a:br>
              <a:rPr sz="44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(1873 – 195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cházela z měšťanské společ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sala psychologickou prózu – obraz pražské společ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íl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omán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Orlí hnízdo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– osudy rodiny Mánes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omán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aldy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– příběh z Ostravs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6840" y="404280"/>
            <a:ext cx="822636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kázka: Hal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Muži roztřískali holemi výklady a vytloukli, co mohli. A rozlícené ženy se hrnuly do obchodu. Zpočátku se probíraly s lakovou chutí v rýži, která jim zase pršela mezi prsty na podlahu, ale on, ten malý, zavalitý a lysý Ripper, si klekl na poslední pytel rýže. A tam se modlil své pravověrné židovské modlitby a zase křičel ze strach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Enem si, ludičky, poberte všecko – peníze i tovar – tylko mě nechte při životě!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A tu jakýsi mladý zuřivec popadl metlu, která visela na zdi v krámku vedle bičiště, a šlehal ho přes plešatou lebku a ke každému šlehu řv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Ty žide pajchlatý! Ty žebráku! Ty svině vyblyštěná – tak ty okrádáš národ? Šak už to teď nebudeš dělat, my tě tu musíme zabít!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6840" y="691920"/>
            <a:ext cx="8226360" cy="54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tázk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aký vztah mají lidé k židovské populaci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e celá ukázka psaná spisovnou češtinou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jděte slova nespisovná – pokuste se je nahradit spisovnou češtino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obsluha</cp:lastModifiedBy>
  <dcterms:modified xsi:type="dcterms:W3CDTF">2013-06-20T20:45:44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