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C9B-3F76-4E6F-A2DC-E8F93819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FFD-12F7-4205-8102-D97F286B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204-95C0-4476-A02B-3A6688F9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D63-2403-4133-A85B-939855DF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E82-7795-4369-8017-D9F6DFC1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E4D-063F-4F96-812F-DFA2AEE6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234-834C-439A-919E-0F5FC825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563-A6B6-42B3-BDBA-D09E5D14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0C9-82FC-4C11-9A2B-C302F886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0E0-76B8-4475-8A60-7496B0FB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046-8B07-4737-BF7A-443FD29B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4F2-03D7-45CC-92A2-F92F5C74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3254-9D79-49E8-96BA-599FF16C1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1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2904840" cy="847800"/>
          </a:xfrm>
          <a:prstGeom prst="rect">
            <a:avLst/>
          </a:prstGeom>
          <a:ln w="0">
            <a:noFill/>
          </a:ln>
        </p:spPr>
      </p:pic>
      <p:pic>
        <p:nvPicPr>
          <p:cNvPr id="42" name="Obrázek 2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581040" cy="581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66720" y="1590840"/>
            <a:ext cx="2762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6720" y="1590840"/>
            <a:ext cx="660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998720" y="1590840"/>
          <a:ext cx="6480000" cy="3676320"/>
        </p:xfrm>
        <a:graphic>
          <a:graphicData uri="http://schemas.openxmlformats.org/drawingml/2006/table">
            <a:tbl>
              <a:tblPr/>
              <a:tblGrid>
                <a:gridCol w="1249200"/>
                <a:gridCol w="1513080"/>
                <a:gridCol w="907920"/>
                <a:gridCol w="182520"/>
                <a:gridCol w="182520"/>
                <a:gridCol w="182520"/>
                <a:gridCol w="881280"/>
                <a:gridCol w="1380960"/>
              </a:tblGrid>
              <a:tr h="761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eský jazyk a 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resionism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r. Petra Karfík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 3.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ace – expresionismus v Čechách – pojem, osobnosti a dílo, texty a úko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udenti se seznámí prostřednictvím prezentace s pojmem expresionismus a jeho vlivem na osobnosti v Čechách. Po přečtení textů vypracují odpovědi na otázk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600200" y="5562720"/>
            <a:ext cx="72388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Autorem materiálu a všech jeho částí, není-li uvedeno jinak, je  Mgr. Petra  Karfíková.</a:t>
            </a:r>
            <a:br>
              <a:rPr sz="1100"/>
            </a:br>
            <a:r>
              <a:rPr b="0" i="1" lang="cs-CZ" sz="1100" spc="-1" strike="noStrike">
                <a:solidFill>
                  <a:srgbClr val="898989"/>
                </a:solidFill>
                <a:latin typeface="Arial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ion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chází z pocitu krize civilizace – důsledek rozpadu všech hodnot a odcizení vlivem vál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chycuje bezprostřední, rozumem nekontrolovatelné vnitřní st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ho rysy jsou autentičnost, bezprostřed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a psaní – zachycení toku myšlenek, vnitřních poci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xpresionismus v Čechá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něnská skupina Literární skupina – zformovaná kolem časopisu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kládající člen – František Gö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lší představitelé – Lev Blatný, Zdeněk Ka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 zformulován ve stati Několik slov o našem vynání uměleckém a sociálním (19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nifest expresionismu – Naše naděje, víra a práce (19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ichard Wein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884 – 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r, který se během války na srbské frontě psychicky zhroutil, což zanechalo na jeho psychice následky na celý ž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 válce žil v Paříži a stal se dopisovatelem Lidových nov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Prahy se vrátil rok před smr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í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 tvorbě se odráží jeho zážitky z války – hrůza, beznaděje, nedůvěra v roz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mi náročné texty, nesoudržná dějová linie, vnitřní pocity, s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ově velmi složité texty, experimenty s logikou i větnou soudržnost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bor povídek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Líti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916)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Škle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óza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azební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1929) – text plný symboliky, tajemství, š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ochopil jsem, že nikoliv na něm jsem se provinil, nýbrž že trest, jenž mě stihnul, byl za ono velké mé Provinění, které nemá vztahu k věcem a lidem, které plodí zlo ne skrze předměty, nýbrž bezprostředně skrze sebe sama, zlo utajené a neplodné, kletba mého života.“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Škl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áz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kroužkujte slova zastaral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trhněte zastaralé větné vaz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 je tím Proviněním – zkuste ústně vlastními slovy popsat pocit, který je charakteristický pro všechny expresionis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Ladislav Klím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1878 – 19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ěhem studií byl pro urážku habsburské monarchie vyloučen ze všech škol R-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mítal vykonávat občanská povolání, celý život se věnoval filosofii a nechával se finančně podporovat od příbuzných a znám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spěch v praktikování vlastní filosofie ho vedl k alkoholis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losofie: silou své vůle chtěl dojít k maximální svobod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já = Já = Bůh = Voln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Dí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mi složité texty plné obrazotvornosti, fantazie, psychopatologických jevů, halucinací, hororových pasáž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maneto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trpení knížete Sternenho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utrpení manželského páru v světě viděného jako žalá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bor povídek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lavná Nemesis a jiné příbě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táceje se přistoupil k oknu, otevřel 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chod se silně, příšerně bělal a zdálo se, že jižjiž musí dole zruměnit. V královské osamocenosti třpytila se na něm denice, magicky tichá a vlídná, démantová, jak tvář Etermina, - zvědavý pohled slunce, oklikou chtějícího vidět, jak vypadá země v noci. Hory, děsivější než jindy v mrtvolné své bělosti, hrozivě se na nebi probouzely. Z černého dosud lůna éteru duchově zněly dva ostýchavé ptačí hlásky.“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lavná Nemesis a jiné příbě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k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uste svými slovy zachytit to, co popisuje L. Klí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lší expresionist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Jan Weis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1892 – 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 legionářem, úředníkem na ministerstvu veřejných p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íl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tří k zakladatelům sci-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jeho textech se objevují zrůdné obrazy, halucinace, chorobné v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má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ům o tisíci patr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říběh zvráceného upíra, který si zotročí celý svět prostřednictvím soustavy zrcadel v obrovském mrakodra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Josef Vách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884 – 19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oval stará náboženství, magii, sám byl členem několika s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ho tvorba je ovlivněna satanismem a okultis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í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y jsou plné mystifikací, ironie, nadsáz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á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vavý romá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24)– pokus o ho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ám ho vytiskl v 17 exemplářích, k tomu vytvořil vlastní dřevory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bor povíde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řírodopis straši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KEŠ, Emil, Vladimír FORST a Jiří HOLÝ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Čítanka české a slovenské literatu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Praha: Státní pedagogick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kladatelství, c1992, 33 - 34, 68. ISBN 80-04-25929-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itel_trida</cp:lastModifiedBy>
  <dcterms:modified xsi:type="dcterms:W3CDTF">2013-03-22T08:24:1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