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3EC-B3F7-4800-AF7F-B665BC67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C1F-CD1C-4B48-A26D-E9C82526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B6F8-4EE2-4667-AABF-8BFC91B6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4F3A-D646-47E5-8748-3FE27F91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D222-7682-4D6E-897E-886DA3CC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F02-F569-44A7-8860-DD6D9E98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3B9-5A41-4122-B833-12100F3A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34C-C222-4281-A874-8D80F5BF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202-E3FB-401B-AD08-3FFB3596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2BE3-1D6E-4E11-B958-3766E659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2D35-12D3-4537-9231-A84F6CF3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5A05-AE51-4E79-ACAB-8B1B2EF2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967B-7818-4401-A33D-F0F30170BF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1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2905200" cy="8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1523880" y="1790640"/>
          <a:ext cx="6096240" cy="3165480"/>
        </p:xfrm>
        <a:graphic>
          <a:graphicData uri="http://schemas.openxmlformats.org/drawingml/2006/table">
            <a:tbl>
              <a:tblPr/>
              <a:tblGrid>
                <a:gridCol w="1406520"/>
                <a:gridCol w="1703520"/>
                <a:gridCol w="741240"/>
                <a:gridCol w="106560"/>
                <a:gridCol w="106200"/>
                <a:gridCol w="208080"/>
                <a:gridCol w="860400"/>
                <a:gridCol w="963720"/>
              </a:tblGrid>
              <a:tr h="777960">
                <a:tc gridSpan="2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7680" marR="67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ý jazyk a 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3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880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el Poláč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3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Petra Karfík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4.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720">
                <a:tc gridSpan="8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o životě a díle Karla Poláčka, ukázka z knihy Bylo nás pět, otázky za text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600">
                <a:tc gridSpan="8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i se seznámí s životem a dílem Karla Poláčka. Přečtou si  ukázku z Poláčkovy knihy, okusí se interpretovat text a odpovědět na otázky za text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3" name="Obrázek 2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581040" cy="581040"/>
          </a:xfrm>
          <a:prstGeom prst="rect">
            <a:avLst/>
          </a:prstGeom>
          <a:ln w="0">
            <a:noFill/>
          </a:ln>
        </p:spPr>
      </p:pic>
      <p:sp>
        <p:nvSpPr>
          <p:cNvPr id="44" name="Obdélník 7"/>
          <p:cNvSpPr/>
          <p:nvPr/>
        </p:nvSpPr>
        <p:spPr>
          <a:xfrm>
            <a:off x="1547640" y="5445000"/>
            <a:ext cx="6120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gr. Petra  Karfíková.</a:t>
            </a:r>
            <a:br>
              <a:rPr sz="1100"/>
            </a:br>
            <a:r>
              <a:rPr b="0" i="1" lang="cs-CZ" sz="1100" spc="-1" strike="noStrike">
                <a:solidFill>
                  <a:srgbClr val="898989"/>
                </a:solidFill>
                <a:latin typeface="Calibri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Poláček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1892 – 194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- novinář, humorista a prozaik židovského původ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- narozen v Rychnově nad Kněžn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- pracoval jako úředník a novinář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do Lidových novin psal své soudničky a fejeto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je považován za tvůrce sloupku – kurzívou otištěný text na titulní straně (zamyšlení na aktuální tém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- za okupace pracoval pro Židovskou náboženskou obe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- v roce 1943 byl odvlečen transportem přes Terezín do Osvětimi, kde zemřel v plynové komoř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Humoristická próz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MUŽI V OFSID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karikatura fotbalových fanoušků Viktorky Žižkov (p. Habásko) a Slávie (p. Načerad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OSTINEC U KAMENNÉHO STOL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vypravování o figurkách – hostech venkovských láz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za války vyšlo pod jménem  ilustrátora Vlastimila Rady kvůli Poláčkovu židovskému původ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ŮM NA PŘEDMĚST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příběh o nesnášenlivém majiteli činžovního domu, který vydírá své podnájemní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Protiměšťácká pentalog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KRESNÍ MĚSTO, HRDINOVÉ TÁHNOU DO BOJE, PODZEMNÍ MĚSTO, VYPRODÁNO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átý díl se nedochoval) – kritika typických figurek měšťácké společ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Literatura pro dět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DUARD A FRANCIMOR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moderní pohádka pro dě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YLO NÁS PĚT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popisuje svět svého mládí viděný dětskýma oč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Když nám pan učitel rozdával vysvědčení, tak nás vyvolával jednoho po druhém a byl celý jinačí, protože ve svátečním. Žáci byli taky ve svátečním. Zilvar chudobince měl kalhoty po tatínkovi a čepici mu půjčil pan Stádník, co bydlí taky v chudobinci. aby Zilvar byl taky ve svátečním. Kabát měl po bráchovi, co šel na vojnu, a rukávy mu byly dlouhé, ale on si z toho nic nedělal a utíral si do nich nos. Otakárek Soumarů byl v námořnickém a přivedla ho slečna. Édovi Kemlinkovi vrzaly botky a on byl rád. Bejval Antonín měl modrou kravatu a dal se ostříhat mašinkou. Já jsem měl hodinky, ale nesměl jsem je otevřít, kdybysem se chtěl podívat na kolečk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Úkoly k tex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které Poláčkovy knihy je ukázk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jmenujte kamarády hlavního aktéra Petra Bajzy a charakterizujte je na základě tex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pište jazykovou a syntaktickou stránku tex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jděte slova, která nepatří do spisovné češti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ita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UPCOVÁ, Helena a Jana ČEŇKOVÁ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íběhy: texty k literární výchově pro 6.-9. ročník ZŠ a nižší třídy víceletých gymnázi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2. vyd. Praha: Scientia, 1994, s. 75. Učebnice pro základní školy (Scientia). ISBN 80-85827-30-1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bsluha</cp:lastModifiedBy>
  <dcterms:modified xsi:type="dcterms:W3CDTF">2013-04-16T20:00:13Z</dcterms:modified>
  <cp:revision>11</cp:revision>
  <dc:subject/>
  <dc:title>Snímek 1</dc:title>
</cp:coreProperties>
</file>