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B23-9BC5-4DFE-98E7-75B7B7D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E9BB-BE32-49F7-A732-66EC887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A40-5218-4E08-9789-415CAD63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70D1-B6EB-49E2-A700-C5394B5C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461-5584-4EBF-91A0-CD2EFEF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D1A-63BD-4ED2-8C52-2E75D36E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2E4-6C5D-42D1-812E-B29FAFC5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52D-A4E2-4376-BD5F-94DF65EA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A34-A8C5-41F0-9272-4470815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BE2-E343-4FD1-9206-4769891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0D6-4573-49D0-8D0F-BB5CDDE3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068-9CEE-4A41-8386-62E32BA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A797-3AF7-4917-BFD4-96C2D336C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480360" cy="3900240"/>
        </p:xfrm>
        <a:graphic>
          <a:graphicData uri="http://schemas.openxmlformats.org/drawingml/2006/table">
            <a:tbl>
              <a:tblPr/>
              <a:tblGrid>
                <a:gridCol w="1249560"/>
                <a:gridCol w="1512720"/>
                <a:gridCol w="908280"/>
                <a:gridCol w="182520"/>
                <a:gridCol w="182520"/>
                <a:gridCol w="182520"/>
                <a:gridCol w="880920"/>
                <a:gridCol w="1381320"/>
              </a:tblGrid>
              <a:tr h="76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an Olbrac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 4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82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– život a tvorba Ivana Olbrachta,  na závěr ukázka z Nikoly Šuhaje loupežníka s otázkami k text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prostřednictvím prezentace s životem a tvorbou Ivana Olbrachta.V závěru je uvedena ukázka z Nikoly Šuhaje loupežníka a rozbor textu pomocí otáze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" name="Obrázek 1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2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603000" cy="581040"/>
          </a:xfrm>
          <a:prstGeom prst="rect">
            <a:avLst/>
          </a:prstGeom>
          <a:ln w="0">
            <a:noFill/>
          </a:ln>
        </p:spPr>
      </p:pic>
      <p:sp>
        <p:nvSpPr>
          <p:cNvPr id="44" name="Obdélník 4"/>
          <p:cNvSpPr/>
          <p:nvPr/>
        </p:nvSpPr>
        <p:spPr>
          <a:xfrm>
            <a:off x="1908000" y="5516640"/>
            <a:ext cx="567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ita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ARTINKOVÁ, Věra.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Čítanka pro 3. ročník středních škol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3. vyd. Praha: Trizonia, 1995, s. 146. ISBN 80 85573-15-6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Ivan Olbracht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882 – 195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jméno – Kamil Zeman, syn spisovatele Antala Stašla (A. Zema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coval jako novinář v levicově zaměřených denících (Dělnické listy, Rudé práv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coval pro KSČ – kvůli tomu byl během 1. republiky vězně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 2. světové válce se stal poslancem za KS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 30. letech často pobýval na Podkarpatské Ukraji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ypické rysy Olbrachtovy tvor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kloubení reality s mýtem, legend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nost je věnována vyjímečným osobnostem, které odporují společnosti – silné os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literaturu objevil Podkarpatskou 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še o židov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6840" y="404280"/>
            <a:ext cx="8218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20. Lé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povídky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zlých samotáříc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říběhy tuláka, kočovníka a komedianta, které popisují snahu dostat se ze svízelné životní situace  - beznaděj se projevuje z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Žalář nejtemnější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osud bývalého policejního komisaře, který oslepl. Svou ženu týrá žárlivostí a sobeckostí, neboť jí nedůvěřuj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divné přátelství herce Jesenina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91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přátelství spořádaného Jiřího Jesenia a živelného Jana Vesel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amřížované zrcadlo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93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kombinace s reportáží o osudech 3 vězňů a dozorce (vlastní zážitk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6840" y="62028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30. léta – zájem o Podkarpatskou R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emě beze jména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3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reportáž z Podkarpatské Ru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ikola Šuhaj loupežn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3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běh loupežníka, který bohatým bral a chudým dával. V Koločavě měl svou ženu Eržiku. Nakonec ho zradí vlastní přáte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povídky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olet v údol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3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golet = židovská ob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vídky – O smutných očích Hany Karadžič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zrak s Julč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dálost v mik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620280"/>
            <a:ext cx="821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Další díl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nna Proletářk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stěžejní román komunistické strany – příběh Anny, která jde do Prahy sloužit, ale stává se z ní kovaná komunist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nihy pro dě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iblické příběh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39)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racování příběhů Starého zá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e starých letopis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40) -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aré české mýty a legen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 mudrci Bidpajovi a jeho zvířátká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47)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úprava staroindických baj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kázk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y, Rusíne,“ řekla jednou při večeři baba Nikolovi, ty budeš slavným mužem své země, budou se tě bát vojska a generálové,“ a nabírala přitom ze společné mísy kolečka kvašených okurek s cibulí a říkala to tak, jako by mluvila o zákolníku nebo o došcích na střechu. „Chci, aby sis vzal mou dceru Vasju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bys oslepla, myslil si Šuhaj, ví tedy všechno, to je mrzuté. A řekl: „Co by ne?“ A pak, chytaje se poslední naděje: „A co když mě zítra zastřelí?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aba ni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Otázky k ukáz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ak znělo proroctví staré bab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lnilo se toto proroctv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 bylo podmínkou splnění proroctv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těl si Nikola babinu dceru Vasju vzít za žen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 asi věděla baba – proč mu chtěla dát svou dcer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fikova</cp:lastModifiedBy>
  <dcterms:modified xsi:type="dcterms:W3CDTF">2013-05-22T13:06:08Z</dcterms:modified>
  <cp:revision>16</cp:revision>
  <dc:subject/>
  <dc:title>Snímek 1</dc:title>
</cp:coreProperties>
</file>