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E04-E9E7-4325-8755-63706532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21B-8B1A-4799-B7CD-1F639BCD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0795-EE4F-4F1A-9A65-AE76ABE3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93D-5309-4436-A153-C4D2A6FF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A1A-82B6-4969-8C25-263B7E29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F41-B89E-4BB6-BC01-7DAE1937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A7C9-9B69-493C-ACE9-27BE8CAB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DC8-84AC-4D12-9D05-BB8187E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104-DE66-492E-8301-9EC338CC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72D-BB97-43BF-BB6D-922576A2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5933-1E3B-4090-876C-CF0074B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FFB-F9CD-467C-8923-F29998B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C26B-CF66-49A5-BEFC-75A26E2D0F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332000" y="1479600"/>
          <a:ext cx="6480000" cy="3908520"/>
        </p:xfrm>
        <a:graphic>
          <a:graphicData uri="http://schemas.openxmlformats.org/drawingml/2006/table">
            <a:tbl>
              <a:tblPr/>
              <a:tblGrid>
                <a:gridCol w="1249200"/>
                <a:gridCol w="1513080"/>
                <a:gridCol w="907920"/>
                <a:gridCol w="182520"/>
                <a:gridCol w="182520"/>
                <a:gridCol w="182520"/>
                <a:gridCol w="881280"/>
                <a:gridCol w="1380960"/>
              </a:tblGrid>
              <a:tr h="76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tolický pro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5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tří zástupců katolické prózy – J. Demla, J. Durycha a J. Čepa. Rozbor textů Moji přátelé (J. Deml) a Bloudění (J. Durych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6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s nejvýznamnějšími zástupci katolické prózy 1. poloviny 20. století. Rozbor textů – vše pomocí projektoru. K rozboru Bloudění je potřeba slovník cizích sl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" name="Obrázek 1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2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603360" cy="58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6"/>
          <p:cNvSpPr/>
          <p:nvPr/>
        </p:nvSpPr>
        <p:spPr>
          <a:xfrm>
            <a:off x="1219320" y="5562720"/>
            <a:ext cx="6476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it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RTINKOVÁ, Věra.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ítanka pro 3. ročník středních ško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3. vyd. Praha: Trizonia, 1995, 186 - 188. ISBN 80855731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atolický pr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isovatelé, které spojuje hluboká víra v Boha, pok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zervatismus v tvorbě (žádné experimen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spirace v období českého baro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blikovali v časopisech Řád a Ak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 komunismu  byli většinou vězně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kub Deml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78 – 196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tolický kněz, který byl z církve vyloučen pro své volnomyšlenkářství, konec života strávil v rodném Taso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átelil se s Otokarem Břez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sal 26 svazků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Šlépějí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1917 – 41)– zde uveřejňoval vše, co vytvořil – básně, prózy, recenze, dopisy, deníky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ásně v próze –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oji přátelé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básně v próze – oslovování kvě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mán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Zapomenuté světlo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osamělý básník bloudí Tasovem a prožívá pocit ma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Ukázky z knihy Moji přátel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kol – pokuste se přiřadit názvy květi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PRETINA, JITROCEL, ZVO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ěžký jest kalich tvůj, ______, příliš jsi jej nalil modří ocele, spravedlivče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kuji ti za pozdravení, sestro _______, srdce tvé je zlaté a ostatní tělo tvé je tělo těch nejmenších andělíčků – nezapomeň na mne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________, nebývá ti smutno o polednách tam nahoře v tvém minaretě?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roslav Durych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886 – 196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puštěn z kněžského seminá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l jako vojenský léka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divoval baroko (kontrasty – světlo a tma, ošklivost a krá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román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loud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Velká valdštejnská trilogie) –  čistá láska v době 30tileté války, hledání ví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vídková trilogie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kvie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alá valdštejnská trilogie) – osudy Albrechta z Valdštej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ovíd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dmikrás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mystika a tajem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ázka z knihy Bloudě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í Veličenstvo dalo jí znamení, aby přistoupila blíže. Dívka sklonila koleno, zdvihla se a šla kolem vznešených rouch, límců a krajek, které se obracely ve směru jejích kroků. Drsně šedivé vlasy starých paní zdrženlivě se ježily nad laskavými čely a bledé rty diskrétně zamrzaly blahosklonným úsměvem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okaj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čněli podle zdí, mladí dveřníci svítili očima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livrejemi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sař zvážněl otcovskou  láskou. Panna opětoval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verenc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kud pocházíš?“ ptalo se Její Veličenstvo. Panstvo v pozorné lhostejnosti zatajilo de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y k tex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3 kontrasty v tex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Pomocí slovníku cizích slov vysvětlete slo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KA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VRE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VERENCE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né řeše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as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žily se nad laskavými č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rzaly blahosklonným úsměv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zorné lhostej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KAJ = slouží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VREJ – uniforma slouží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VERENCE – úcta, vážnost, důstoj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Jan Čep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1902 – 19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kladatel z několika jazy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1948 emigroval do Fran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upracoval se Svobodnou Evrop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í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jazyk  - epická stříd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oubory povídek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eměžluč, Let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6-20T20:47:2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