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25CE2-E912-4356-B1A5-FA49967A97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66F34-C1A0-4472-8C98-4BA5BF57B6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072F-A252-4204-9CBB-2536D9307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EB5B-EDE6-4F28-B019-409E87AF1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7C22-E3CE-4474-8D0E-2C6C5EEAD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C9A0-D7CE-4256-8D95-ACFE6B172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91D6-4D79-4475-9FF0-74472EEA6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A563-74C1-4312-844E-188784E16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2C26-180A-4234-BB21-77873B03F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112F-A41D-433B-B697-0A606C731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CD8F-E015-4A6E-AE22-8760EEEFA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29EC-001C-4E82-9EA2-42DD548E3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1E5B-4B40-4BA9-9692-89D601353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C7F0-2377-47E3-81C9-83A275C0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8BBB-65E1-469B-8711-1FE997BAB923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187280" y="826920"/>
          <a:ext cx="7059600" cy="4633560"/>
        </p:xfrm>
        <a:graphic>
          <a:graphicData uri="http://schemas.openxmlformats.org/drawingml/2006/table">
            <a:tbl>
              <a:tblPr/>
              <a:tblGrid>
                <a:gridCol w="1634040"/>
                <a:gridCol w="1980000"/>
                <a:gridCol w="871920"/>
                <a:gridCol w="155520"/>
                <a:gridCol w="155520"/>
                <a:gridCol w="392040"/>
                <a:gridCol w="1054800"/>
                <a:gridCol w="815760"/>
              </a:tblGrid>
              <a:tr h="816120">
                <a:tc gridSpan="2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UNESCO heri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p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284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800">
                <a:tc gridSpan="8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1000">
                <a:tc gridSpan="8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1476360" y="838080"/>
            <a:ext cx="3889440" cy="844560"/>
            <a:chOff x="1476360" y="838080"/>
            <a:chExt cx="3889440" cy="8445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196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78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lomou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second largest conservation of the Czec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y Trinity Column - decorated with many fine religious Baroque sculp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3456000"/>
            <a:ext cx="4643640" cy="324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2000" y="6256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2644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ost valuable urban conservation in 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cludes the urban complex of Prague Cast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adcany, Lesser Town, Charles Bridge,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wn, Josefov – Jewish Town, New Tow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yšehr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08360" y="3887640"/>
            <a:ext cx="3887640" cy="280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8320" y="6191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l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880" y="6119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square with a unique complex of historical houses in the Renaissance and Baroque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large Renaissance chateau complex with an interesting layout garden and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11280" y="3687840"/>
            <a:ext cx="640872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řebí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816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Jewish quarter and St Prokop basilica is the only Jewish monument outside Israel, which is registered on the list of UN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re left 123 houses built in different architectural styles, two synagogues and a Jewish ceme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3640" y="6119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44720" y="3587760"/>
            <a:ext cx="5400720" cy="31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Žďár na Sázav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Pilgrimage Church of St. John of Nepomuk at Zelená 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ost original example of the Baroque Gothic by the Bohemian architect Jan Santini Aic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68360" y="3600360"/>
            <a:ext cx="4643640" cy="2894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0360" y="6264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 and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me the Czech UNESCO mon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ich one can be the old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ich one is the young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oose one of them and describ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ch architectural styles to the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mane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t Nouv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ot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roque Got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0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th – 13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0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7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3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4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5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- 16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mane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ot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ro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roque Got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t Nouv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3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4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5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7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8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0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0</a:t>
            </a:r>
            <a:r>
              <a:rPr b="0" lang="cs-CZ" sz="3200" spc="-1" strike="noStrike" baseline="33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 UNESCO. Wikipedia, The Free Encyc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1945. vyd. [cit. 2013-08-15]. Dostupný pod licencí Creative Commons na : http://en.wikipedia.org/wiki/File:UNESCO.sv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2 FIŠER, Daniel. Wikipedie, Otevřená wikipedie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7-04-29. [cit. 2013-08-15]. Dostupný pod licencí Creative Commons na: http://cs.wikipedia.org/wiki/Soubor:Villa_Tugendhat-20070429.jpe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3 STRZELECKI, Jerzy. Wikipedie Otevřená encyklopedie. Wikipedie [online]. 2013-07-31. [cit. 2014-01-01]. Dostupný pod licencí Creative Commons na: http://cs.wikipedia.org/wiki/Soubor:Krumlov20(js)panorami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4 FIALA, Miloš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8. vyd. [cit. 2013-08-15]. Dostupný pod licencí Creative Commons na: http://cs.wikipedia.org/wiki/Soubor:Hola%C5%A1ovice3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5 P.MATEL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7-07-08. [cit. 2013-08-15]. Dostupný pod licencí Public Domain na: http://cs.wikipedia.org/wiki/Soubor:Flower_Garden_Kromeriz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6 PUDELEK, (Marcin Szala)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8-08. [cit. 2013-08-15]. Dostupný pod licencí Creative Commons na : http://cs.wikipedia.org/wiki/Soubor:Arcibiskupsk%C3%BD_z%C3%A1mek_Krom%C4%9B%C5%99%C3%AD%C5%BE_-1.jp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7 STRZELECKI, Jerzy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7-12-21. [cit. 2013-08-15]. Dostupný pod licencí Creatice Commons na: http://cs.wikipedia.org/wiki/Soubor:KUTNA_HORA_(js)_11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8 ZP. Wikipedie Otevřená encyklopedie. Wikipedie [online]. 2005-07-26. [cit. 2014-01-01]. Dostupný pod licencí Creative Commons na : http://cs.wikipedia.org/wiki/Soubor:Z%C3%A1mek_Lednic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9 LOUČ, Michal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8-07-20. [cit. 2013-08-15]. Dostupný pod licencí Creative Commons na: http://cs.wikipedia.org/wiki/Soubor:Z%C3%A1mek_Litomy%C5%A1l_1.JP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0 TEFERT, Dominik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9-02-07. [cit. 2013-08-15]. Dostupný pod licencí Creative Commons na: http://cs.wikipedia.org/wiki/Soubor:Olm%C3%BCtz_hauptplatz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1 ESTEC CO.LTD, Prague Hotel Operator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9-06-18. [cit. 2013-08-15]. Dostupný pod licencí Creative Commons na: http://cs.wikipedia.org/wiki/Soubor:Prague_old_town_tower_view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2 WEINGARTZ, Hans. Wikipedie Otevřená encyklopedie. Wikipedie [online]. 2009-07-08. [cit. 2014-01-01]. Dostupný pod licencí Creatice Commons na: http://cs.wikipedia.org/wiki/Soubor:Telc10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3 HALBE, Christof. Wikipedie Otevřená encyklopedie. Wikipedie [online]. 2001. vyd. [cit. 2014-01-01]. Dostupné pod licencí Creative Commons na: http://cs.wikipedia.org/wiki/Soubor:T%C5%99eb%C3%AD%C4%8D_Basilika_Jihlava_Ghett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14 PROKOPOVÁ, Anna. Wikipedie, Otevřená encyklopedi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09-01-16. [cit. 2013-08-15]. Dostupný pod licencí Creative Commons na: http://cs.wikipedia.org/wiki/Soubor:Church_of_St_John_of_Nepomuk_at_Zelena_aora_CZ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N organization for education, science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unded in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ats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reates the conditions for dialogue among civilizations, cultures and peo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627640" cy="268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92920" y="460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rno - Tugendhat V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 unique example the functionalist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uilt 1928, rebuilt in 2010-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signed as a cultural UNESCO heritage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5321160" cy="253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6184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Český Krumlov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istorical down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84000"/>
            <a:ext cx="82281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edieval city center - urban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rrounded by the meandering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e of the most important goals of foreign tou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0520" y="3757680"/>
            <a:ext cx="8124840" cy="2157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3280" y="6119640"/>
            <a:ext cx="1246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lašovic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village re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15880"/>
            <a:ext cx="82278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47200" indent="-546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unique medieval „folk Baroque“ complex of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20 buildings – farmhouses, barns, stables, mang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ge, inn and chap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0" indent="-546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 July "Rustic Festival" traditional Czech fair 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ch traditional arts and craf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03640" y="4176720"/>
            <a:ext cx="4572000" cy="2766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6880" y="6327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roměří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6920" y="1600200"/>
            <a:ext cx="51116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chbishop chateau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chly decorated inte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quipp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mporary furn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ylish pa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ometrically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92600" y="3887640"/>
            <a:ext cx="300996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80000" y="360360"/>
            <a:ext cx="2376720" cy="330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40200" y="6119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11960" y="3168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utná 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former royal city associated with the minin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lver and minting of c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historic center with a late-Gothic church of 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rbara - uniquely preserved medieval urba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9280" y="3673440"/>
            <a:ext cx="5040360" cy="2949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1600" y="625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dnice- Valti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611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5480" y="1368360"/>
            <a:ext cx="822816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2960" indent="-551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ne of the treasures of the world cultural and natu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eri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960" indent="-551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 complex of historical buildings, garden architectur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akes and a network of bicycle ro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960" indent="-551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onsidered the largest man-made ​​area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32000" y="3994200"/>
            <a:ext cx="4824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itomy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7280" y="1599840"/>
            <a:ext cx="86407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Renaissance chateau  from the 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f the 16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unique example of an arcade castle Italian 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birthplace of Bedřich Sme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11600" y="3832200"/>
            <a:ext cx="4100400" cy="2863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6327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3-08-15T08:35:01Z</dcterms:modified>
  <cp:revision>8</cp:revision>
  <dc:subject/>
  <dc:title>Snímek 1</dc:title>
</cp:coreProperties>
</file>