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2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C9C0E-5A26-4569-8452-093DA2DA0DC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9D4DD-3990-4B91-8E54-486A54C351F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DA826-1439-4B97-BBE8-8A801D57D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31A25-AE84-47A8-A3AB-02553B1BC1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B4443-349A-4131-BDB2-9FF767FBA2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DCF5E-8D08-485C-9D53-B5653320D7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29E24-48DE-4E85-9747-CF5A1C4F00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6456F-EBFD-4BDA-A481-41C19A204B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0CA2D-D701-4146-B86C-30199576B7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36142-C704-4B31-A228-6027C450D0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F3BA7-9E99-46B0-A041-6FB1C60A2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194A8-2ABC-4529-9FDC-C445E4B265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BAB69-A581-43E3-B7CF-220211A364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3DF5E-F960-4347-86AE-BB95EA347F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A464D-19C4-4CF4-BBE3-93B7BFF17827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187280" y="826920"/>
          <a:ext cx="7059600" cy="6414840"/>
        </p:xfrm>
        <a:graphic>
          <a:graphicData uri="http://schemas.openxmlformats.org/drawingml/2006/table">
            <a:tbl>
              <a:tblPr/>
              <a:tblGrid>
                <a:gridCol w="1634040"/>
                <a:gridCol w="1980000"/>
                <a:gridCol w="871920"/>
                <a:gridCol w="155520"/>
                <a:gridCol w="155520"/>
                <a:gridCol w="392040"/>
                <a:gridCol w="1054800"/>
                <a:gridCol w="815760"/>
              </a:tblGrid>
              <a:tr h="803880">
                <a:tc gridSpan="2"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52560" bIns="0" anchor="ctr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68760" rIns="68760" tIns="52560" bIns="0" anchor="ctr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chodní akademie a Střední odborná škola, gen. F. Fajtla, Louny, p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voboditelů 380, Lou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240">
                <a:tc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52560" bIns="0" anchor="ctr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Z.1.07/1.5.00/34.00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760" rIns="68760" tIns="52560" bIns="0" anchor="ctr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sa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52560" bIns="0" anchor="ctr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52560" bIns="0" anchor="ctr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D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28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440">
                <a:tc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glický jazyk - konverz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600">
                <a:tc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ý okru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eská republika, Evropská un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600">
                <a:tc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 materiá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t´s go to Prag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840">
                <a:tc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g. Helena Zikmundov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600">
                <a:tc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tvor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pen 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čník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52560" bIns="0" anchor="t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et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0840">
                <a:tc gridSpan="8"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k seznámení se s nejvýznamějšími pražskými památkami a zajímavostm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61120">
                <a:tc gridSpan="8"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odický poky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4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Před spuštěním prezentace vyzvěte studenty, aby ve skupinách shromáždili informace o Praze a sdíleli je s    ostatní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4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Spusťte prezentaci , vysvětlete jednotlivé snímky a nechte studenty zakreslit památky do map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4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Vyzvěte studenty, aby  připravili exkurzi po pro své anglicky mluvící přáte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4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Nechte studenty prezentovat připravené exkur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9680">
                <a:tc>
                  <a:txBody>
                    <a:bodyPr lIns="0" rIns="0" tIns="1512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>
                  <a:txBody>
                    <a:bodyPr lIns="0" rIns="0" tIns="1512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>
                  <a:txBody>
                    <a:bodyPr lIns="0" rIns="0" tIns="1512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>
                  <a:txBody>
                    <a:bodyPr lIns="0" rIns="0" tIns="1512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>
                  <a:txBody>
                    <a:bodyPr lIns="0" rIns="0" tIns="1512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>
                  <a:txBody>
                    <a:bodyPr lIns="0" rIns="0" tIns="1512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>
                  <a:txBody>
                    <a:bodyPr lIns="0" rIns="0" tIns="1512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>
                  <a:txBody>
                    <a:bodyPr lIns="0" rIns="0" tIns="1512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</a:tr>
            </a:tbl>
          </a:graphicData>
        </a:graphic>
      </p:graphicFrame>
      <p:grpSp>
        <p:nvGrpSpPr>
          <p:cNvPr id="52" name=""/>
          <p:cNvGrpSpPr/>
          <p:nvPr/>
        </p:nvGrpSpPr>
        <p:grpSpPr>
          <a:xfrm>
            <a:off x="1476360" y="838080"/>
            <a:ext cx="3887640" cy="843120"/>
            <a:chOff x="1476360" y="838080"/>
            <a:chExt cx="3887640" cy="843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476360" y="838080"/>
              <a:ext cx="2900520" cy="8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4788000" y="97164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>
            <a:off x="1258920" y="6093000"/>
            <a:ext cx="684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 Ing. Helena Zikmundová. Dostupné z Metodického portálu www.rvp.cz, ISSN: 1802-4785. 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etřín Lookout T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99240" y="61912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68000"/>
            <a:ext cx="47275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7280" indent="-557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major tourist at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7280" indent="-557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ften described as a small version of the Eiffel T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7280" indent="-557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you can use a funi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8720" indent="0">
              <a:spcBef>
                <a:spcPts val="799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 get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7280" indent="-557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he tower has an elev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7280" indent="-557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n the lowest level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8720" indent="0">
              <a:spcBef>
                <a:spcPts val="799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small exhibition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407200" y="1584360"/>
            <a:ext cx="2944800" cy="45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dur="indefinite" fill="hold">
                      <p:stCondLst>
                        <p:cond delay="indefinite"/>
                      </p:stCondLst>
                      <p:childTnLst>
                        <p:par>
                          <p:cTn id="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ague Z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7280" indent="-557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as become the most visited tourist destination in the Czech Re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7280" indent="-557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vides many educational programs for schools and the general publ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379600" y="3757680"/>
            <a:ext cx="4460760" cy="2863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08000" y="6191280"/>
            <a:ext cx="863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dur="indefinite" fill="hold">
                      <p:stCondLst>
                        <p:cond delay="indefinite"/>
                      </p:stCondLst>
                      <p:childTnLst>
                        <p:par>
                          <p:cTn id="1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7280" indent="-557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raw all mentioned sightseeing on the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0">
              <a:spcBef>
                <a:spcPts val="799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7280" indent="-557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epare a sightseeing tour for your English speaking 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0">
              <a:spcBef>
                <a:spcPts val="799"/>
              </a:spcBef>
              <a:buNone/>
              <a:tabLst>
                <a:tab algn="l" pos="0"/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7280" indent="-557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esent your sightseeing tour to the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dur="indefinite" fill="hold">
                      <p:stCondLst>
                        <p:cond delay="indefinite"/>
                      </p:stCondLst>
                      <p:childTnLst>
                        <p:par>
                          <p:cTn id="1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dur="indefinite" fill="hold">
                      <p:stCondLst>
                        <p:cond delay="indefinite"/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dur="indefinite" fill="hold">
                      <p:stCondLst>
                        <p:cond delay="indefinite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r.1 BAUER, Stefan. Wikipedia, The Free Encyclopedia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[online]. 2004-10-23. [cit. 2013-08-13]. Dostupné pod licencí Creative Commons na http://en.wikipedia.org/wiki/File:Hradschin_Prag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r.2 DEMBINIOK, Maciej. Wikipedia, The Free Encyclopedia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[online]. 2004. vyd. [cit. 2013-08-13]. Dostupný pod licencí Creative Commons na: http://en.wikipedia.org/wiki/File:Prague_-_Charles_Bridge.jpg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r.3 YOUNG, Robert. Wikipedia, The Free Encyclopedia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[online]. 2008-09-17. [cit. 2013-08-13]. Dostupný pod licencí Creative Commons na http://en.wikipedia.org/wiki/File:Old_Town_Square,_Prague_-_Starom%C4%9Bstsk%C3%A9_n%C3%A1m%C4%9Bst%C3%AD,_Praha.jp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r.4. SZYMAŃSKI, Krzysiu "Jarzyna". Wikipedia, The Free Encyclopedia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[online]. 2007-07. [cit. 2013-08-13]. Dostupný pod licencí Creative Commons na: http://en.wikipedia.org/wiki/File:Praga_0003.JP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r.5 SCHAEFER, Hans Peter. Wikipedia, The Free Encyclopedia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[online]. 2005. vyd. [cit. 2013-08-13]. Dostupný pod licencí Creative Commons na: http://en.wikipedia.org/wiki/File:Prag_obecni_d%C3%BBm_gemeindehaus.jp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r.6 BARÁNEK, Daniel. Wikipedie, Otevřená encyklopedie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Wikipedi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[online]. 2008-07-10. [cit. 2013-08-13]. Dostupný pod licencí Creative Commons na: http://cs.wikipedia.org/wiki/Soubor:Klementinum,_v%C3%BDchodn%C3%AD_vchod.jp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r.7 ZIVNER, Adam. Wikipedia, The Free oncyclopedia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Wikipedi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[online]. 2008-04-20. [cit. 2013-08-13]. Dostupný pod licencí Creative COmmons na: http://en.wikipedia.org/wiki/File:NationalTheatrePrague.jp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r.8 Wikipedia The Free Encyclopedia. RODGE500. Wikipedia [online]. 2008-08-07. [cit. 2013-12-29]. Dostupný pod licencí Creatice Commons na : http://en.wikipedia.org/wiki/File:PetrinObservationTower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r.9 MIAOW MIAOW. Wikipedie, Otevřená encyklopedie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Wikipedi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[online]. 2005-08. [cit. 2013-08-13]. Dostupný pod lïcencí Creative Commons na: http://cs.wikipedia.org/wiki/Soubor:Prague_Zoo_main_entrance.JP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a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6920" y="1294920"/>
            <a:ext cx="849636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7280" indent="-557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s the capital and largest city of the Czech Re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7280" indent="-557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s situated on the Vltava river in the Central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7280" indent="-557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s widely considered one of the most beautiful cities i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7280" indent="-557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s the cultural, historical, educational, economical and business centre of the Czech Re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7280" indent="-557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s the Seat of the President, Parliament, Government and many others 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ague Cas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largest ancient castle in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place with 4 churches, 4 palaces, 3 halls and other buildings of many architectural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seat of the Czech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4413240" cy="2879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455840" y="61848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harles Bri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stone bridge in the city centre built in 14th c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main pedestrian zone linking the Old Town and the Lesser T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 romantic place connected with street artists and street entertai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279960" cy="4372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56200" y="61135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ld Town Squ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2278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ates from 12th c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sed to be the central marketplace for Pra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 place connected with important historical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rrounded with historical churches, palaces, buildings, Old Town City Hall and Astronomical C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5280" y="4365720"/>
            <a:ext cx="8244000" cy="1812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76200" y="62564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stronomical Cl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44654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third oldest astronomical clock in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nected with many legends about its orig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most famous one is about Master Hanu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very hour hundreds of visitors gather in front of  to see its perform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394080" cy="4524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292720" y="63086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unicipal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most famous Art Nouveau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 magnificent complex of rooms of various functions – Smetana Concert Hall, stylish restaurants and cafés, music sal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8000" y="3429000"/>
            <a:ext cx="5370840" cy="3189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08200" y="61848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lementin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433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largest historic complex of buildings from 13the c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any great astronomers, scientists, musicians and philosophers have worked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mous place for concert, National Galery, Astronomical T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859280" y="1773360"/>
            <a:ext cx="4032360" cy="3028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859280" y="50846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ational Thea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ne of the most important buildings in the country from culture, historical, and architectural point of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he result of the will of the Czech nation for national identity and 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0" y="2276640"/>
            <a:ext cx="4329000" cy="2879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51480" y="5321160"/>
            <a:ext cx="8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09:50:48Z</dcterms:created>
  <dc:creator>jukl</dc:creator>
  <dc:description/>
  <dc:language>en-US</dc:language>
  <cp:lastModifiedBy>zikmundova</cp:lastModifiedBy>
  <dcterms:modified xsi:type="dcterms:W3CDTF">2014-01-06T09:11:20Z</dcterms:modified>
  <cp:revision>8</cp:revision>
  <dc:subject/>
  <dc:title>Snímek 1</dc:title>
</cp:coreProperties>
</file>