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05E-5D90-4A6F-A0A7-607F2D99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5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3440"/>
            <a:ext cx="7685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FAD-50F8-46B1-A2CA-74C57142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344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6120" y="430344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E2D-5D7C-4E19-A861-97CBE65C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6560" y="236196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4680" y="236196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344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6560" y="430344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4680" y="430344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596-5A53-4FFA-BFB9-B26090F9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CB91-7E9D-4793-A4C1-92E23525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8528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13AE-FF2A-4389-88FD-CEBF2450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528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E7E7-9631-4D8A-B350-33238D74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36A4-F9A5-428B-9A3B-A34647A1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30D5-D292-439A-BF20-343C7909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3400" y="750600"/>
            <a:ext cx="777240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3681-3BAD-4E51-B2B4-218BB5D9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344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8741-EA24-4363-8451-0FBD5434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8528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243-47CE-442C-BB4B-EA82CBF9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76120" y="430344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9526-2BCE-49F5-AE0D-B1B9E9D7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3440"/>
            <a:ext cx="7685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DDEC-DCD0-4B18-90E8-B69D724B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5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3440"/>
            <a:ext cx="7685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1AE3-1D61-4123-AF0E-33EE7AB7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344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76120" y="430344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E3D9-548F-4ACC-91C2-DE91D666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6560" y="236196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4680" y="236196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344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6560" y="430344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4680" y="4303440"/>
            <a:ext cx="2474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C808-ADDD-4FB1-8977-5671FB5F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528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165-7CEB-404D-BCC7-51F4B84D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4DF-2A00-42EA-AE8C-9229F1D3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AF0-68BE-43F0-8CEC-43D5DAE2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750600"/>
            <a:ext cx="777240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5A1-CB1F-4EB2-A2F5-6F71C571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344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8EB-474B-4D1D-A072-3600DF4C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6120" y="430344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64F-CFFB-45D2-B086-3D652913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6120" y="2361960"/>
            <a:ext cx="375012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3440"/>
            <a:ext cx="7685280" cy="177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384-3835-4A21-9921-960A8146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3640" cy="6851520"/>
            <a:chOff x="0" y="0"/>
            <a:chExt cx="7613640" cy="685152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3920" cy="6851520"/>
              <a:chOff x="0" y="0"/>
              <a:chExt cx="3193920" cy="685152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55640" cy="685152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36720" cy="1160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85040" cy="312840"/>
              <a:chOff x="228600" y="1981080"/>
              <a:chExt cx="7385040" cy="31284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4160" cy="31140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87360" cy="31284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724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8528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25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89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792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116B3-C2F2-4A33-8BB5-1307EEB0F09A}" type="slidenum">
              <a:rPr b="0" lang="cs-CZ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1160" cy="6851520"/>
            <a:chOff x="0" y="0"/>
            <a:chExt cx="5861160" cy="68515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65520" cy="68515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75360" cy="18986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0080" cy="312840"/>
            <a:chOff x="3632040" y="4889520"/>
            <a:chExt cx="4870080" cy="31284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18080" cy="31104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3440" cy="31284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25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89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6360"/>
            <a:ext cx="5792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871EA6-DC1F-4254-B953-1F58ACB381F6}" type="slidenum">
              <a:rPr b="1" lang="cs-CZ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70080"/>
            <a:ext cx="76644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/index.php" TargetMode="External"/><Relationship Id="rId2" Type="http://schemas.openxmlformats.org/officeDocument/2006/relationships/hyperlink" Target="http://en.wikipedia.org/w/index.php" TargetMode="External"/><Relationship Id="rId3" Type="http://schemas.openxmlformats.org/officeDocument/2006/relationships/hyperlink" Target="http://en.wikipedia.org/w/index.php" TargetMode="External"/><Relationship Id="rId4" Type="http://schemas.openxmlformats.org/officeDocument/2006/relationships/hyperlink" Target="http://en.wikipedia.org/w/index.php" TargetMode="External"/><Relationship Id="rId5" Type="http://schemas.openxmlformats.org/officeDocument/2006/relationships/hyperlink" Target="http://en.wikipedia.org/w/index.php" TargetMode="External"/><Relationship Id="rId6" Type="http://schemas.openxmlformats.org/officeDocument/2006/relationships/hyperlink" Target="http://en.wikipedia.org/w/index.php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55560" y="5778360"/>
            <a:ext cx="78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900" spc="-1" strike="noStrike">
                <a:solidFill>
                  <a:srgbClr val="1c1c1c"/>
                </a:solidFill>
                <a:latin typeface="Arial"/>
              </a:rPr>
              <a:t>Autorem materiálu a všech jeho částí, není-li uvedeno jinak, je  Ing. Helena Zikmundová. Dostupné z Metodického portálu www.rvp.cz, ISSN: 1802-4785. Provozuje Národní ústav pro vzdělávání, školské poradenské zařízení a zařízení pro další vzdělávání pedagogických pracovníků (NÚV).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16000" y="620640"/>
          <a:ext cx="6841800" cy="4532040"/>
        </p:xfrm>
        <a:graphic>
          <a:graphicData uri="http://schemas.openxmlformats.org/drawingml/2006/table">
            <a:tbl>
              <a:tblPr/>
              <a:tblGrid>
                <a:gridCol w="1562040"/>
                <a:gridCol w="1891440"/>
                <a:gridCol w="830160"/>
                <a:gridCol w="136800"/>
                <a:gridCol w="136440"/>
                <a:gridCol w="399960"/>
                <a:gridCol w="1008360"/>
                <a:gridCol w="876600"/>
              </a:tblGrid>
              <a:tr h="811440">
                <a:tc gridSpan="2">
                  <a:txBody>
                    <a:bodyPr lIns="68760" rIns="68760" tIns="1105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137880" bIns="0" anchor="ctr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137880" bIns="0" anchor="ctr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68760" rIns="68760" tIns="137880" bIns="0" anchor="t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37880" bIns="0" anchor="ctr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137880" bIns="0" anchor="ctr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137880" bIns="0" anchor="ctr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137880" bIns="0" anchor="ctr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37880" bIns="0" anchor="ctr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360">
                <a:tc>
                  <a:txBody>
                    <a:bodyPr lIns="68760" rIns="68760" tIns="137880" bIns="0" anchor="t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137880" bIns="0" anchor="t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glický jazyk - konverza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68760" rIns="68760" tIns="137880" bIns="0" anchor="t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137880" bIns="0" anchor="t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á republika a Evropská Uni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68760" rIns="68760" tIns="137880" bIns="0" anchor="t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137880" bIns="0" anchor="t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Czech education syste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68760" rIns="68760" tIns="137880" bIns="0" anchor="t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137880" bIns="0" anchor="t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. Helena Zikmundová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68760" rIns="68760" tIns="137880" bIns="0" anchor="t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37880" bIns="0" anchor="t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nor 20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137880" bIns="0" anchor="t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 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137880" bIns="0" anchor="t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ý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080">
                <a:tc gridSpan="8">
                  <a:txBody>
                    <a:bodyPr lIns="68760" rIns="68760" tIns="137880" bIns="0" anchor="t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k seznámení s vzdělávacím systémem v České republi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3880">
                <a:tc gridSpan="8">
                  <a:txBody>
                    <a:bodyPr lIns="68760" rIns="68760" tIns="137880" bIns="0" anchor="t">
                      <a:noAutofit/>
                    </a:bodyPr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Spusťte prezentaci a vyzvěte studenty, aby odpověděli na úvodní otázk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Vysvětlete jednotlivé snímk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Nechte studenty odpovědět na  závěrečné otázk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1332000" y="765000"/>
            <a:ext cx="3886200" cy="841680"/>
            <a:chOff x="1332000" y="765000"/>
            <a:chExt cx="3886200" cy="84168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332000" y="765000"/>
              <a:ext cx="2898720" cy="8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643280" y="898560"/>
              <a:ext cx="574920" cy="57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785880" y="332424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arming u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w old were you whey you started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w long did you attend the primary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you have to pay for the educ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hat do the date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50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cs-CZ" sz="28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anu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Febru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cs-CZ" sz="28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u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87640" y="2362320"/>
            <a:ext cx="46404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the start of school ye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the end of the first te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the start of the second te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the end of school ye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ducation sta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2362320"/>
            <a:ext cx="835164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-school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réches for children up to 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rsery schools for children 3 to 6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mary school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r pupils from 6 to 1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condary school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r pupils older than 1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rciary school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r the graduates with th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ol Leaving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rtitic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imary schoo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s compulsory fo nine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ide range of schools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ublic, private, clerical, special, alternative (Waldorf, Montessori..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wo stages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mary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5</a:t>
            </a:r>
            <a:r>
              <a:rPr b="0" lang="cs-CZ" sz="24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gr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ower secondar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24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9</a:t>
            </a:r>
            <a:r>
              <a:rPr b="0" lang="cs-CZ" sz="24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gr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 state final examin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0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econdary schoo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08200" y="2034720"/>
            <a:ext cx="768816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riety of secondary school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3984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rammar schools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eral education to prepare students for university stu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3984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al schools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ffer professional education -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al colleges specialised in building,chemistry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ngineering, business academies, agriculture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rsing schools, music and art schoo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3984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cational schools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epare yound people for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practical jo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dur="indefinite" fill="hold">
                      <p:stCondLst>
                        <p:cond delay="0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Terciary schoo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6360" y="2362320"/>
            <a:ext cx="8136000" cy="41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niversities and colle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ublic, state (police and military), priv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rious school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ol of Economics, Architecture, Law, Medical or Science Faculty, Faculty of Journalism, Teachers' Training College, Art School, College of Agriculture, technical universities or polytechn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ree-year courses for a Bachelor’s Degr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ur or five-year courses for a Master’s Degr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dur="indefinite" fill="hold">
                      <p:stCondLst>
                        <p:cond delay="0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Questions and 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2080" y="2376360"/>
            <a:ext cx="794700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at is the name of your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at subjects are you taugh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at is your favourite subject  and 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at school can a 15-year old pupil choo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at can you do after the graduation of secondary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ich subjects will you take in School leaving examin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0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ducation in the Czech Republic. (2014, January 15). In Wikipedia, Th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e Encyclopedia. Retrieved 10:23, February 22, 2014, fr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n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ikipedia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org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w/index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h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itle=Education_in_the_Czech_Republic&amp;oldid=59087013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2:24:12Z</dcterms:created>
  <dc:creator>zikmundova</dc:creator>
  <dc:description/>
  <dc:language>en-US</dc:language>
  <cp:lastModifiedBy>zikmundova</cp:lastModifiedBy>
  <dcterms:modified xsi:type="dcterms:W3CDTF">2014-02-25T10:20:02Z</dcterms:modified>
  <cp:revision>17</cp:revision>
  <dc:subject/>
  <dc:title>The Czech Republic</dc:title>
</cp:coreProperties>
</file>