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C61-9AD3-4E5A-B165-5B68105D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B65-4A93-4B4C-9920-25C96B77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24C-7B1A-4256-9197-BDBD4C62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584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60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584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60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BB6-71B2-40AD-BA95-0B1EDA84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BB6A-27F5-43E6-8737-1C382D21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F762-61C6-45F5-B6D6-DDB061CF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8D02-AAA1-4CAF-82A0-F1D17438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1C94-6A80-46D3-8870-8278D8FF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8696-B4D4-4A3D-BF7A-B8D5DB19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09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CD87-3E89-410C-BE82-CBF49421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0F5B-A1BF-4E57-81FC-959344F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D19-7200-4247-8BBE-48529EBA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1436-7224-48C2-AF7D-4EDCE1E5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2B21-23BE-4438-BB14-4386BE33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8673-1A9D-41BE-A67B-1B9ABEE5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1E44-F67C-4241-B461-5326EF9C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584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360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772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584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360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E572-A2B2-4ADE-BA1D-63C7E391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5CA-CCE5-4280-9B3C-CB63579B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8FC-7F2C-4EF8-BEE3-684D86B4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D24-4F8D-417F-810E-E38B2918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09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745-478F-45B7-8082-780087D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52D-070A-4C4C-A25D-E0B4413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1E4-BC38-44EA-8202-CE9A1E1D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250-A399-4697-9ED4-4C0D364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2200" cy="6850080"/>
            <a:chOff x="0" y="0"/>
            <a:chExt cx="7612200" cy="685008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2480" cy="6850080"/>
              <a:chOff x="0" y="0"/>
              <a:chExt cx="3192480" cy="68500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54200" cy="685008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35280" cy="11588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83600" cy="311400"/>
              <a:chOff x="228600" y="1981080"/>
              <a:chExt cx="7383600" cy="31140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2720" cy="30960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85920" cy="31140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09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11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87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77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56F63-C04A-498A-BB33-95D913AF3CEF}" type="slidenum">
              <a:rPr b="0" lang="cs-CZ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59360" cy="6850080"/>
            <a:chOff x="0" y="0"/>
            <a:chExt cx="5859360" cy="685008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64080" cy="68500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73560" cy="18968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69000" cy="311040"/>
            <a:chOff x="3632040" y="4889520"/>
            <a:chExt cx="4869000" cy="31104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16640" cy="30960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2360" cy="31104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11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87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77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CD5305-8F27-40CF-BB6D-2D4BE171A976}" type="slidenum">
              <a:rPr b="1" lang="cs-CZ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629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55560" y="5778360"/>
            <a:ext cx="78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900" spc="-1" strike="noStrike">
                <a:solidFill>
                  <a:srgbClr val="1c1c1c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6000" y="620640"/>
          <a:ext cx="6841800" cy="4536720"/>
        </p:xfrm>
        <a:graphic>
          <a:graphicData uri="http://schemas.openxmlformats.org/drawingml/2006/table">
            <a:tbl>
              <a:tblPr/>
              <a:tblGrid>
                <a:gridCol w="1562040"/>
                <a:gridCol w="1891440"/>
                <a:gridCol w="830160"/>
                <a:gridCol w="136800"/>
                <a:gridCol w="136440"/>
                <a:gridCol w="399960"/>
                <a:gridCol w="1008360"/>
                <a:gridCol w="876600"/>
              </a:tblGrid>
              <a:tr h="712800">
                <a:tc gridSpan="2"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186120" bIns="0" anchor="ctr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186120" bIns="0" anchor="ctr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86120" bIns="0" anchor="ctr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186120" bIns="0" anchor="ctr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186120" bIns="0" anchor="ctr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186120" bIns="0" anchor="ctr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86120" bIns="0" anchor="ctr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480">
                <a:tc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á republika a Evropská Uni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Czech traditional food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200">
                <a:tc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480">
                <a:tc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nor 20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ý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600">
                <a:tc gridSpan="8"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k seznámení s tradiční českou kuchyní a rozlišení pojmů meal, food a dis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9280">
                <a:tc gridSpan="8">
                  <a:txBody>
                    <a:bodyPr lIns="68760" rIns="68760" tIns="186120" bIns="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ický pokyn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Vyzvěte studenty, aby odpověděli na úvodní otázk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Nechte přiřadit definice a národnosti k daným výrazů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Vyzvěte je k vytvoření tradičních českých jídel z dané slovní zásob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Nechte studenty odpovědět na závěrečné otázk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1332000" y="765000"/>
            <a:ext cx="3884400" cy="839880"/>
            <a:chOff x="1332000" y="765000"/>
            <a:chExt cx="3884400" cy="83988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332000" y="765000"/>
              <a:ext cx="289728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643280" y="898560"/>
              <a:ext cx="573120" cy="57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785880" y="332424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750960"/>
            <a:ext cx="810432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is your favourite foo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w many meals do you have a d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does the word dish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3040" y="744120"/>
            <a:ext cx="7774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atch the expressions to the 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0280" y="2430360"/>
            <a:ext cx="37512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me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f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) d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) dish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) kitc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) cuis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952360" y="2361960"/>
            <a:ext cx="575964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) cooked food prepared in a p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) a special style of cooking f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) pans a plates you have to wa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) a room where you cook f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) a situation when you 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) things that people 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3040" y="750600"/>
            <a:ext cx="77742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156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me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f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) d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) dish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) kitc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) cuis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24360" y="2361960"/>
            <a:ext cx="575928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) a situation when you 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) things that people 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) cooked food prepared in a p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) pans a plates you have to wa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) a room where you cook f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) a special style of cooking f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0000" y="502920"/>
            <a:ext cx="84963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ich cuisines are the dish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156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sh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sh and c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ruit-filled dumpl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ng pa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120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Japane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tal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Mexic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ze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hine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6000" y="750600"/>
            <a:ext cx="8031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Create the traditional Czech dish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156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umpl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ato sa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ef goula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auerkrau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ato sal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ruit-fill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e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12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oasted du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eef sirl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ried chee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ork schnitz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egetable cream sauc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roast por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tato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tuffed peppe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3040" y="431640"/>
            <a:ext cx="77742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Traditional Czech dish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6000" y="1851120"/>
            <a:ext cx="86407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ast pork, dumplings and sauerkraut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eef sirloin with dumplings and vegetable cream sauc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asted duck with sauerkraut and dumpling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eef goulash with dumpling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k schnitzel with potatoes sala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ruit-filled dumplings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asted chicken with potato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ried cheese and potato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uffed peppers with tomato sauce and dumpling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3040" y="750600"/>
            <a:ext cx="77742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Questions to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is your favourite Czech dis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food do you have to buy to prepare your favourite dis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ich meals does your family eat togeth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w often do you wash the dis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ich cuisine do you like mos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dish can you coo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cmillan English dictionary: for advanced learners. Oxfor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cmillan Publishers, 2002. ISBN 03-339-9093-5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2:24:12Z</dcterms:created>
  <dc:creator>zikmundova</dc:creator>
  <dc:description/>
  <dc:language>en-US</dc:language>
  <cp:lastModifiedBy>zikmundova</cp:lastModifiedBy>
  <dcterms:modified xsi:type="dcterms:W3CDTF">2014-02-25T10:20:02Z</dcterms:modified>
  <cp:revision>17</cp:revision>
  <dc:subject/>
  <dc:title>The Czech Republic</dc:title>
</cp:coreProperties>
</file>