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D3163-5F05-4D06-97EA-C90E4E4D0E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4C29E-7ED8-45F8-999B-AE8744A592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424A-7171-4657-88E3-04991511E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CEBE-F2DE-429C-A68B-9BD338BCE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D202-6260-4063-B7F2-30D106824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E6DF-6358-4607-847F-A9A6FD5077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0604-60C4-48FC-BDB7-ECB604AE8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4FB4-158C-44A5-ADB3-BB5504A6E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206C-3CD8-4B9B-886F-04E76EF4E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D3E9-A354-448C-AC97-7A58D5A67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3643-D3DF-498B-B4FB-F128C5CF0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A33D-F90E-486A-A7FD-073A781FD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64A2-FEE6-4E79-A3AB-69FFD7DC3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D624-E5FF-48DD-BEC2-B4A792EF0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D8C3F-FE47-4E7E-82BA-FABDD86E83B6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87280" y="826920"/>
          <a:ext cx="7059600" cy="4636800"/>
        </p:xfrm>
        <a:graphic>
          <a:graphicData uri="http://schemas.openxmlformats.org/drawingml/2006/table">
            <a:tbl>
              <a:tblPr/>
              <a:tblGrid>
                <a:gridCol w="1634040"/>
                <a:gridCol w="1980000"/>
                <a:gridCol w="871920"/>
                <a:gridCol w="155520"/>
                <a:gridCol w="155520"/>
                <a:gridCol w="392040"/>
                <a:gridCol w="1054800"/>
                <a:gridCol w="815760"/>
              </a:tblGrid>
              <a:tr h="811440">
                <a:tc gridSpan="2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52560" bIns="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412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á republika, Evropská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itical system of 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. Helena Zikmund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pen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52560" bIns="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et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760">
                <a:tc gridSpan="8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k seznámení se základním rozdělením politické moci v České republ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0">
                <a:tc gridSpan="8">
                  <a:txBody>
                    <a:bodyPr lIns="68760" rIns="68760" tIns="52560" bIns="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Spusťte prezentaci a seznamte studenty s  pojmem  nejvyšší záko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 Vysvětlete systém politické moci v České republ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4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Vyzvěte žáky, aby odpověděli na závěrečné otáz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52" name=""/>
          <p:cNvGrpSpPr/>
          <p:nvPr/>
        </p:nvGrpSpPr>
        <p:grpSpPr>
          <a:xfrm>
            <a:off x="1476360" y="838080"/>
            <a:ext cx="3889440" cy="844560"/>
            <a:chOff x="1476360" y="838080"/>
            <a:chExt cx="3889440" cy="8445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90196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788000" y="971640"/>
              <a:ext cx="57780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1258920" y="6093000"/>
            <a:ext cx="684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 Ing. Helena Zikmundová. Dostupné z Metodického portálu www.rvp.cz, ISSN: 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 Cze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s established on 1st January 1993 as the result of separation of Czechoslovak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s a multi-party parlamentary representative  democratic repub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24000" y="260280"/>
            <a:ext cx="8205480" cy="5973840"/>
            <a:chOff x="324000" y="260280"/>
            <a:chExt cx="8205480" cy="5973840"/>
          </a:xfrm>
        </p:grpSpPr>
        <p:cxnSp>
          <p:nvCxnSpPr>
            <p:cNvPr id="60" name=""/>
            <p:cNvCxnSpPr>
              <a:stCxn id="61" idx="0"/>
              <a:endCxn id="62" idx="2"/>
            </p:cNvCxnSpPr>
            <p:nvPr/>
          </p:nvCxnSpPr>
          <p:spPr>
            <a:xfrm flipV="1" rot="16200000">
              <a:off x="6262920" y="4367160"/>
              <a:ext cx="748440" cy="1080"/>
            </a:xfrm>
            <a:prstGeom prst="bentConnector2">
              <a:avLst/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63" name=""/>
            <p:cNvCxnSpPr>
              <a:stCxn id="64" idx="0"/>
              <a:endCxn id="65" idx="2"/>
            </p:cNvCxnSpPr>
            <p:nvPr/>
          </p:nvCxnSpPr>
          <p:spPr>
            <a:xfrm flipV="1" rot="16200000">
              <a:off x="1843200" y="4367160"/>
              <a:ext cx="748440" cy="1080"/>
            </a:xfrm>
            <a:prstGeom prst="bentConnector2">
              <a:avLst/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66" name=""/>
            <p:cNvCxnSpPr>
              <a:stCxn id="62" idx="0"/>
              <a:endCxn id="67" idx="2"/>
            </p:cNvCxnSpPr>
            <p:nvPr/>
          </p:nvCxnSpPr>
          <p:spPr>
            <a:xfrm flipV="1" rot="16200000">
              <a:off x="5156280" y="1020960"/>
              <a:ext cx="750240" cy="2212200"/>
            </a:xfrm>
            <a:prstGeom prst="bentConnector3">
              <a:avLst>
                <a:gd name="adj1" fmla="val 49927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68" name=""/>
            <p:cNvCxnSpPr>
              <a:stCxn id="65" idx="0"/>
              <a:endCxn id="67" idx="2"/>
            </p:cNvCxnSpPr>
            <p:nvPr/>
          </p:nvCxnSpPr>
          <p:spPr>
            <a:xfrm flipH="1" flipV="1" rot="5400000">
              <a:off x="2946600" y="1022760"/>
              <a:ext cx="750240" cy="2208960"/>
            </a:xfrm>
            <a:prstGeom prst="bentConnector3">
              <a:avLst>
                <a:gd name="adj1" fmla="val 49927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sp>
          <p:nvSpPr>
            <p:cNvPr id="67" name=""/>
            <p:cNvSpPr/>
            <p:nvPr/>
          </p:nvSpPr>
          <p:spPr>
            <a:xfrm>
              <a:off x="2533680" y="260280"/>
              <a:ext cx="3786120" cy="149220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r>
                <a:rPr b="0" lang="cs-CZ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Arial"/>
                </a:rPr>
                <a:t>supreme</a:t>
              </a:r>
              <a:r>
                <a:rPr b="0" lang="cs-CZ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Arial"/>
                </a:rPr>
                <a:t>law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4000" y="2502000"/>
              <a:ext cx="3786120" cy="149220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The Constit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43360" y="2502000"/>
              <a:ext cx="3786120" cy="149220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harter of Fundamen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Righfs and Basic Freed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4000" y="4741920"/>
              <a:ext cx="3786120" cy="149220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743040" indent="-282600" algn="ctr">
                <a:lnSpc>
                  <a:spcPct val="100000"/>
                </a:lnSpc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2600" algn="ctr">
                <a:lnSpc>
                  <a:spcPct val="100000"/>
                </a:lnSpc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concerned with state sovereign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2600" algn="ctr">
                <a:lnSpc>
                  <a:spcPct val="100000"/>
                </a:lnSpc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territorial integri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2600" algn="ctr">
                <a:lnSpc>
                  <a:spcPct val="100000"/>
                </a:lnSpc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s the institutio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2600" algn="ctr">
                <a:lnSpc>
                  <a:spcPct val="100000"/>
                </a:lnSpc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verning the 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2600" algn="ctr">
                <a:lnSpc>
                  <a:spcPct val="100000"/>
                </a:lnSpc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43360" y="4741920"/>
              <a:ext cx="3786120" cy="149220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743040" indent="-28260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erts human and civic righ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5280" y="836640"/>
            <a:ext cx="8205840" cy="4460760"/>
            <a:chOff x="395280" y="836640"/>
            <a:chExt cx="8205840" cy="4460760"/>
          </a:xfrm>
        </p:grpSpPr>
        <p:cxnSp>
          <p:nvCxnSpPr>
            <p:cNvPr id="71" name=""/>
            <p:cNvCxnSpPr>
              <a:stCxn id="72" idx="0"/>
              <a:endCxn id="73" idx="2"/>
            </p:cNvCxnSpPr>
            <p:nvPr/>
          </p:nvCxnSpPr>
          <p:spPr>
            <a:xfrm flipV="1" rot="16200000">
              <a:off x="5485680" y="1629720"/>
              <a:ext cx="896040" cy="2873880"/>
            </a:xfrm>
            <a:prstGeom prst="bentConnector3">
              <a:avLst>
                <a:gd name="adj1" fmla="val 49959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74" name=""/>
            <p:cNvCxnSpPr>
              <a:stCxn id="75" idx="0"/>
              <a:endCxn id="73" idx="2"/>
            </p:cNvCxnSpPr>
            <p:nvPr/>
          </p:nvCxnSpPr>
          <p:spPr>
            <a:xfrm flipV="1" rot="16200000">
              <a:off x="4050720" y="3066120"/>
              <a:ext cx="896040" cy="1080"/>
            </a:xfrm>
            <a:prstGeom prst="bentConnector2">
              <a:avLst/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76" name=""/>
            <p:cNvCxnSpPr>
              <a:stCxn id="77" idx="0"/>
              <a:endCxn id="73" idx="2"/>
            </p:cNvCxnSpPr>
            <p:nvPr/>
          </p:nvCxnSpPr>
          <p:spPr>
            <a:xfrm flipH="1" flipV="1" rot="5400000">
              <a:off x="2615040" y="1630440"/>
              <a:ext cx="896040" cy="2872440"/>
            </a:xfrm>
            <a:prstGeom prst="bentConnector3">
              <a:avLst>
                <a:gd name="adj1" fmla="val 49959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sp>
          <p:nvSpPr>
            <p:cNvPr id="73" name=""/>
            <p:cNvSpPr/>
            <p:nvPr/>
          </p:nvSpPr>
          <p:spPr>
            <a:xfrm>
              <a:off x="3268800" y="836640"/>
              <a:ext cx="2460600" cy="178272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Arial"/>
                </a:rPr>
                <a:t>The powe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Arial"/>
                </a:rPr>
                <a:t>of C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280" y="3514680"/>
              <a:ext cx="2460600" cy="178272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Executive p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68800" y="3514680"/>
              <a:ext cx="2460600" cy="178272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Legislative p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3514680"/>
              <a:ext cx="2460600" cy="178272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Judicial p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31640" y="-147960"/>
            <a:ext cx="8205840" cy="6194520"/>
            <a:chOff x="431640" y="-147960"/>
            <a:chExt cx="8205840" cy="6194520"/>
          </a:xfrm>
        </p:grpSpPr>
        <p:cxnSp>
          <p:nvCxnSpPr>
            <p:cNvPr id="80" name=""/>
            <p:cNvCxnSpPr>
              <a:stCxn id="81" idx="1"/>
              <a:endCxn id="82" idx="2"/>
            </p:cNvCxnSpPr>
            <p:nvPr/>
          </p:nvCxnSpPr>
          <p:spPr>
            <a:xfrm rot="10800000">
              <a:off x="2323440" y="2223360"/>
              <a:ext cx="633960" cy="3400200"/>
            </a:xfrm>
            <a:prstGeom prst="bentConnector2">
              <a:avLst/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83" name=""/>
            <p:cNvCxnSpPr>
              <a:stCxn id="84" idx="1"/>
              <a:endCxn id="82" idx="2"/>
            </p:cNvCxnSpPr>
            <p:nvPr/>
          </p:nvCxnSpPr>
          <p:spPr>
            <a:xfrm rot="10800000">
              <a:off x="2323440" y="2221560"/>
              <a:ext cx="633960" cy="2128320"/>
            </a:xfrm>
            <a:prstGeom prst="bentConnector2">
              <a:avLst/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85" name=""/>
            <p:cNvCxnSpPr>
              <a:stCxn id="86" idx="1"/>
              <a:endCxn id="82" idx="2"/>
            </p:cNvCxnSpPr>
            <p:nvPr/>
          </p:nvCxnSpPr>
          <p:spPr>
            <a:xfrm rot="10800000">
              <a:off x="2323440" y="2221560"/>
              <a:ext cx="633960" cy="853200"/>
            </a:xfrm>
            <a:prstGeom prst="bentConnector2">
              <a:avLst/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87" name=""/>
            <p:cNvCxnSpPr>
              <a:stCxn id="88" idx="0"/>
              <a:endCxn id="89" idx="2"/>
            </p:cNvCxnSpPr>
            <p:nvPr/>
          </p:nvCxnSpPr>
          <p:spPr>
            <a:xfrm flipV="1" rot="16200000">
              <a:off x="5425920" y="55440"/>
              <a:ext cx="426960" cy="2212200"/>
            </a:xfrm>
            <a:prstGeom prst="bentConnector5">
              <a:avLst>
                <a:gd name="adj1" fmla="val 356962"/>
                <a:gd name="adj2" fmla="val 196158"/>
                <a:gd name="adj3" fmla="val 43206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90" name=""/>
            <p:cNvCxnSpPr>
              <a:stCxn id="82" idx="0"/>
              <a:endCxn id="89" idx="2"/>
            </p:cNvCxnSpPr>
            <p:nvPr/>
          </p:nvCxnSpPr>
          <p:spPr>
            <a:xfrm flipH="1" flipV="1" rot="5400000">
              <a:off x="3216240" y="57240"/>
              <a:ext cx="426960" cy="2208960"/>
            </a:xfrm>
            <a:prstGeom prst="bentConnector5">
              <a:avLst>
                <a:gd name="adj1" fmla="val 356962"/>
                <a:gd name="adj2" fmla="val 196169"/>
                <a:gd name="adj3" fmla="val 43206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sp>
          <p:nvSpPr>
            <p:cNvPr id="89" name=""/>
            <p:cNvSpPr/>
            <p:nvPr/>
          </p:nvSpPr>
          <p:spPr>
            <a:xfrm>
              <a:off x="2641680" y="101520"/>
              <a:ext cx="3786120" cy="84708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r>
                <a:rPr b="0" lang="cs-CZ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Executive</a:t>
              </a:r>
              <a:r>
                <a:rPr b="0" lang="cs-CZ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1640" y="1374840"/>
              <a:ext cx="3786480" cy="84708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r>
                <a:rPr b="0" lang="cs-C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51360" y="1374840"/>
              <a:ext cx="3786120" cy="84708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The Presi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57400" y="2650320"/>
              <a:ext cx="3786480" cy="84708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The Prime Minis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57400" y="3925800"/>
              <a:ext cx="3786480" cy="84708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Deputy Prime Minis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57400" y="5199120"/>
              <a:ext cx="3786480" cy="84744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he Legislative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1413000"/>
            <a:ext cx="8205840" cy="4676760"/>
            <a:chOff x="468360" y="1413000"/>
            <a:chExt cx="8205840" cy="4676760"/>
          </a:xfrm>
        </p:grpSpPr>
        <p:cxnSp>
          <p:nvCxnSpPr>
            <p:cNvPr id="93" name=""/>
            <p:cNvCxnSpPr>
              <a:stCxn id="94" idx="0"/>
              <a:endCxn id="95" idx="2"/>
            </p:cNvCxnSpPr>
            <p:nvPr/>
          </p:nvCxnSpPr>
          <p:spPr>
            <a:xfrm flipV="1" rot="16200000">
              <a:off x="5207760" y="2645280"/>
              <a:ext cx="937440" cy="2211480"/>
            </a:xfrm>
            <a:prstGeom prst="bentConnector3">
              <a:avLst>
                <a:gd name="adj1" fmla="val 49980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96" name=""/>
            <p:cNvCxnSpPr>
              <a:stCxn id="97" idx="0"/>
              <a:endCxn id="95" idx="2"/>
            </p:cNvCxnSpPr>
            <p:nvPr/>
          </p:nvCxnSpPr>
          <p:spPr>
            <a:xfrm flipH="1" flipV="1" rot="5400000">
              <a:off x="2997720" y="2646720"/>
              <a:ext cx="937440" cy="2208960"/>
            </a:xfrm>
            <a:prstGeom prst="bentConnector3">
              <a:avLst>
                <a:gd name="adj1" fmla="val 49980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sp>
          <p:nvSpPr>
            <p:cNvPr id="95" name=""/>
            <p:cNvSpPr/>
            <p:nvPr/>
          </p:nvSpPr>
          <p:spPr>
            <a:xfrm>
              <a:off x="2678040" y="1413000"/>
              <a:ext cx="3786120" cy="186984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Parlia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60" y="4219560"/>
              <a:ext cx="3786120" cy="187020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The Sen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81 senators elected wi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a six-year term off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88080" y="4219560"/>
              <a:ext cx="3786120" cy="187020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The Hous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of Parlia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200 members elect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every 4 yea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udicial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1585800"/>
            <a:ext cx="8566200" cy="4461120"/>
            <a:chOff x="250920" y="1585800"/>
            <a:chExt cx="8566200" cy="4461120"/>
          </a:xfrm>
        </p:grpSpPr>
        <p:cxnSp>
          <p:nvCxnSpPr>
            <p:cNvPr id="100" name=""/>
            <p:cNvCxnSpPr>
              <a:stCxn id="101" idx="0"/>
              <a:endCxn id="102" idx="2"/>
            </p:cNvCxnSpPr>
            <p:nvPr/>
          </p:nvCxnSpPr>
          <p:spPr>
            <a:xfrm flipV="1" rot="16200000">
              <a:off x="5584320" y="2315520"/>
              <a:ext cx="896400" cy="3000960"/>
            </a:xfrm>
            <a:prstGeom prst="bentConnector3">
              <a:avLst>
                <a:gd name="adj1" fmla="val 49939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103" name=""/>
            <p:cNvCxnSpPr>
              <a:stCxn id="104" idx="0"/>
              <a:endCxn id="102" idx="2"/>
            </p:cNvCxnSpPr>
            <p:nvPr/>
          </p:nvCxnSpPr>
          <p:spPr>
            <a:xfrm flipV="1" rot="16200000">
              <a:off x="4085640" y="3815640"/>
              <a:ext cx="896400" cy="1080"/>
            </a:xfrm>
            <a:prstGeom prst="bentConnector2">
              <a:avLst/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105" name=""/>
            <p:cNvCxnSpPr>
              <a:stCxn id="106" idx="0"/>
              <a:endCxn id="102" idx="2"/>
            </p:cNvCxnSpPr>
            <p:nvPr/>
          </p:nvCxnSpPr>
          <p:spPr>
            <a:xfrm flipH="1" flipV="1" rot="5400000">
              <a:off x="2585520" y="2317320"/>
              <a:ext cx="896400" cy="2998080"/>
            </a:xfrm>
            <a:prstGeom prst="bentConnector3">
              <a:avLst>
                <a:gd name="adj1" fmla="val 49939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sp>
          <p:nvSpPr>
            <p:cNvPr id="102" name=""/>
            <p:cNvSpPr/>
            <p:nvPr/>
          </p:nvSpPr>
          <p:spPr>
            <a:xfrm>
              <a:off x="3249720" y="1585800"/>
              <a:ext cx="2568600" cy="178272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900" spc="-1" strike="noStrike">
                  <a:solidFill>
                    <a:srgbClr val="000000"/>
                  </a:solidFill>
                  <a:latin typeface="Arial"/>
                </a:rPr>
                <a:t>Kinds of court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0920" y="4264200"/>
              <a:ext cx="2568600" cy="178272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our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general jurisdi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49720" y="4264200"/>
              <a:ext cx="2568600" cy="178272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Administra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ou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48520" y="4264200"/>
              <a:ext cx="2568600" cy="178272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The Constitut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ourt of C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vels of cou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31640" y="1341360"/>
            <a:ext cx="8020080" cy="4602240"/>
            <a:chOff x="431640" y="1341360"/>
            <a:chExt cx="8020080" cy="4602240"/>
          </a:xfrm>
        </p:grpSpPr>
        <p:sp>
          <p:nvSpPr>
            <p:cNvPr id="109" name=""/>
            <p:cNvSpPr/>
            <p:nvPr/>
          </p:nvSpPr>
          <p:spPr>
            <a:xfrm>
              <a:off x="431640" y="1341360"/>
              <a:ext cx="3516480" cy="85428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200" spc="-1" strike="noStrike">
                  <a:solidFill>
                    <a:srgbClr val="000000"/>
                  </a:solidFill>
                  <a:latin typeface="Arial"/>
                </a:rPr>
                <a:t>The Supreme Cour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05080" y="2565360"/>
              <a:ext cx="3508200" cy="77616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200" spc="-1" strike="noStrike">
                  <a:solidFill>
                    <a:srgbClr val="000000"/>
                  </a:solidFill>
                  <a:latin typeface="Arial"/>
                </a:rPr>
                <a:t>High cour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790800"/>
              <a:ext cx="3519360" cy="84636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200" spc="-1" strike="noStrike">
                  <a:solidFill>
                    <a:srgbClr val="000000"/>
                  </a:solidFill>
                  <a:latin typeface="Arial"/>
                </a:rPr>
                <a:t>Regional cour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30920" y="5083200"/>
              <a:ext cx="3520800" cy="860400"/>
            </a:xfrm>
            <a:prstGeom prst="roundRect">
              <a:avLst>
                <a:gd name="adj" fmla="val 16667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2200" spc="-1" strike="noStrike">
                  <a:solidFill>
                    <a:srgbClr val="000000"/>
                  </a:solidFill>
                  <a:latin typeface="Arial"/>
                </a:rPr>
                <a:t>District cour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en was the Czech Republic establi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the supreme laws are there in C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w is the political power in CR divi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does the Executive power consist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does the Parliament consist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kind of courts are there in C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at levels of courts are there in C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dur="indefinite" fill="hold">
                      <p:stCondLst>
                        <p:cond delay="indefinite"/>
                      </p:stCondLst>
                      <p:childTnLst>
                        <p:par>
                          <p:cTn id="2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9:50:48Z</dcterms:created>
  <dc:creator>jukl</dc:creator>
  <dc:description/>
  <dc:language>en-US</dc:language>
  <cp:lastModifiedBy>zikmundova</cp:lastModifiedBy>
  <dcterms:modified xsi:type="dcterms:W3CDTF">2013-08-09T08:44:34Z</dcterms:modified>
  <cp:revision>8</cp:revision>
  <dc:subject/>
  <dc:title>Snímek 1</dc:title>
</cp:coreProperties>
</file>