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D0A936-BC7D-4DDA-B271-7A078BD20E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  <a:ea typeface="WenQuanYi Zen Hei"/>
            </a:endParaRPr>
          </a:p>
        </p:txBody>
      </p:sp>
      <p:sp>
        <p:nvSpPr>
          <p:cNvPr id="8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14BC5C-7F59-4BF0-BA6D-1E7071BCDE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567B-47FD-45CA-B6D4-8E29D5394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E735-5CCA-45A4-8B97-3DA0BA45D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F6B8-C772-450B-AAB2-2FBCF9950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FCE7-8BFB-4924-A582-D8ECB270C9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E997-92AB-4EC5-9A26-7F8633B9B3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50D1-F770-4BF6-98FA-779A6716A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31FE-8086-40AE-B623-BB6609830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B731-2EED-44BA-B03D-DB413F0BF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5D22-A69A-40B3-9140-1B61214B4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C513-AF85-4D5C-85D7-208C83F20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5760-0CF1-409F-9599-B6DB21A4A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6728-730B-4101-9512-F021FB4AF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9544FE-2130-4738-AD75-CC7CEB40C1E9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87280" y="826920"/>
          <a:ext cx="7058160" cy="4632480"/>
        </p:xfrm>
        <a:graphic>
          <a:graphicData uri="http://schemas.openxmlformats.org/drawingml/2006/table">
            <a:tbl>
              <a:tblPr/>
              <a:tblGrid>
                <a:gridCol w="1633680"/>
                <a:gridCol w="1979640"/>
                <a:gridCol w="871560"/>
                <a:gridCol w="155520"/>
                <a:gridCol w="155520"/>
                <a:gridCol w="392040"/>
                <a:gridCol w="1054440"/>
                <a:gridCol w="815760"/>
              </a:tblGrid>
              <a:tr h="816120">
                <a:tc gridSpan="2">
                  <a:txBody>
                    <a:bodyPr lIns="68760" rIns="68760" tIns="10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104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8760" rIns="68760" tIns="104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68760" rIns="68760" tIns="10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104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104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104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104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88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68760" rIns="68760" tIns="10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10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glický jazyk - konverz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920">
                <a:tc>
                  <a:txBody>
                    <a:bodyPr lIns="68760" rIns="68760" tIns="10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10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ská republika, Evropská U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68760" rIns="68760" tIns="10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10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Czech customs and tradi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160">
                <a:tc>
                  <a:txBody>
                    <a:bodyPr lIns="68760" rIns="68760" tIns="10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10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g. Helena Zikmundov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560">
                <a:tc>
                  <a:txBody>
                    <a:bodyPr lIns="68760" rIns="68760" tIns="10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10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pen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10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104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gridSpan="8">
                  <a:txBody>
                    <a:bodyPr lIns="68760" rIns="68760" tIns="10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k seznámení s některými tradicemi a zvyky v České republ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0640">
                <a:tc gridSpan="8">
                  <a:txBody>
                    <a:bodyPr lIns="68760" rIns="68760" tIns="10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50" name=""/>
          <p:cNvGrpSpPr/>
          <p:nvPr/>
        </p:nvGrpSpPr>
        <p:grpSpPr>
          <a:xfrm>
            <a:off x="1476360" y="838080"/>
            <a:ext cx="3890880" cy="846360"/>
            <a:chOff x="1476360" y="838080"/>
            <a:chExt cx="3890880" cy="8463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76360" y="838080"/>
              <a:ext cx="2903400" cy="8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4788000" y="971640"/>
              <a:ext cx="579240" cy="57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1258920" y="6093000"/>
            <a:ext cx="684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 Ing. Helena Zikmundová. Dostupné z Metodického portálu www.rvp.cz, ISSN: 1802-4785. 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ime of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4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origin of the titul – K.H. Mácha – Má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 1st May – lovers come to put flowers to the Macha´s statue and spend a nice time  on Petřín Hill in Prag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iss under a blossomed cherry tree – so that gir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dn´t get d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6520" y="2516040"/>
            <a:ext cx="4038840" cy="2691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52920" y="5321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r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p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147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decorated top of a high tree built by men in the middle of a vil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ight guarding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maypole again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ighb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great shame in cas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utting or falling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140360" y="2349360"/>
            <a:ext cx="4790880" cy="3210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41800" y="5805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j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dition from the 15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celebration of students´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cessive parades and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adays connected with music festivals and entertaining com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zech Easter Food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ster lamb from sweet dought as a symbol real roast mutton after the f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azanec – sweet bread with raisins, slices of almonds and the cross on the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24520" y="3938760"/>
            <a:ext cx="3281400" cy="2185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913280" y="3521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5080" y="6165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aint Martin Fe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gastromonic holi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sting young wine from the autumn harw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ating St. Martin´s goose specialities such as roasted goose, roasted goose l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uck and goose 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tradition from the 18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zech Christmas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ristmas Eve Day used to be a lent day with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h Christmas dinner in the 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 present not all people keep the tradition of f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ditional Christmas din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sh s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ied carp with potatos sa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ne sau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ristmas cookies and c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ristmas menu varies according to a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Questions to disc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hat is your favourite Czech cust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an you recite the beginning the poem Máj by K.H. Mách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you know how a maypole is buil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hen is Easter celebr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hat does your family eat on E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hat traditional activities do people do before Christ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2 ZIVNER, Adam. Wikipedie, otevřená encyklopedie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Wikiped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[online]. 009-05-01. [cit. 2013-08-08]. Dostupné pod licencí Creative Commons na : http://cs.wikipedia.org/wiki/Soubor:CzMayPoleBuilding03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3 CHMEE2. Wikipedie, otevřená encyklopedie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Wikiped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[online]. 2007-04-08. [cit. 2013-08-08]. Dostupný pod licencí Creative Commons na: http://cs.wikipedia.org/wiki/Soubor:Easter_lamb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.4 CHMEE2. Wikipedie, otevřená encyklopedie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Wikiped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[online]. 2011-04-24. [cit. 2013-08-08]. Dostupný pod licencí Creative Commons na: http://cs.wikipedia.org/wiki/Soubor:Nakrajeny_mazanec_(5)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9:50:48Z</dcterms:created>
  <dc:creator>jukl</dc:creator>
  <dc:description/>
  <dc:language>en-US</dc:language>
  <cp:lastModifiedBy>zikmundova</cp:lastModifiedBy>
  <dcterms:modified xsi:type="dcterms:W3CDTF">2013-08-08T07:45:48Z</dcterms:modified>
  <cp:revision>8</cp:revision>
  <dc:subject/>
  <dc:title>Snímek 1</dc:title>
</cp:coreProperties>
</file>