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020840" y="-36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07320" cy="383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A53F8472-CE19-4129-8DF6-197B2D72A26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6D994DC6-1831-4227-B0DE-6DEC4510C61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FEB33783-8AC2-44A4-B4B6-BC25EEBD5FD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33E3B183-2CDA-4E1B-9C43-66105E1AA25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A61F157B-7372-48C3-8627-6880E2A6102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25D98E49-1D58-4FB9-9B93-AF9A367A14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9E248238-621D-4406-81E3-B5280AAF22E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B3F7BC68-40B8-42FE-A7A2-D1EF140B442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2AF4A0D3-15A3-425E-814F-8DCC173C131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9F40BB0B-5ACD-4237-ABE8-182EEA609F3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4E2B635B-0D8B-40E9-8AC7-1C50CEA4C5C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16BBE0DA-AD37-45FA-AD21-7D7DD80050F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3440"/>
                <a:tab algn="l" pos="3890880"/>
                <a:tab algn="l" pos="4376880"/>
                <a:tab algn="l" pos="4863960"/>
                <a:tab algn="l" pos="5349960"/>
                <a:tab algn="l" pos="5837400"/>
                <a:tab algn="l" pos="6324480"/>
                <a:tab algn="l" pos="6810480"/>
                <a:tab algn="l" pos="7297560"/>
                <a:tab algn="l" pos="7783560"/>
                <a:tab algn="l" pos="8271000"/>
                <a:tab algn="l" pos="8756640"/>
                <a:tab algn="l" pos="9244080"/>
                <a:tab algn="l" pos="9729720"/>
                <a:tab algn="l" pos="9883800"/>
                <a:tab algn="l" pos="10333080"/>
                <a:tab algn="l" pos="10782360"/>
              </a:tabLst>
            </a:pPr>
            <a:fld id="{8B882AA5-E26F-4D18-9140-5B499B9FE12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B7D-F6FB-4BE5-A818-3778828D0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528D-67CA-498D-80BF-BF76CA53F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B56A-20EC-4FE9-B192-9BD8BAC69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D837-AADD-437B-A261-169CE0C2B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A8D8-6316-4D48-AB85-ABB8CE55A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065F-57AE-49F5-A1CB-5FD94711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D5DE-9E8C-4176-BE76-8F7A2DCD4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9494-3291-4A20-9F17-B63654C5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708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5353-9D48-4B22-B341-4F7D0DBF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4D59-3105-48C6-ACFA-F8CECF517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B9B0-F8E0-4788-B232-8A10D415B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0B65-EE42-4C02-BB08-AD5CD20AC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708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F556D-9455-4BE2-879E-6345AC0732D6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826920"/>
          <a:ext cx="7059960" cy="4586400"/>
        </p:xfrm>
        <a:graphic>
          <a:graphicData uri="http://schemas.openxmlformats.org/drawingml/2006/table">
            <a:tbl>
              <a:tblPr/>
              <a:tblGrid>
                <a:gridCol w="1633680"/>
                <a:gridCol w="1981080"/>
                <a:gridCol w="871560"/>
                <a:gridCol w="155880"/>
                <a:gridCol w="155520"/>
                <a:gridCol w="392040"/>
                <a:gridCol w="1054080"/>
                <a:gridCol w="816120"/>
              </a:tblGrid>
              <a:tr h="1089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u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řezen 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k poznání zajímavých míst a kulturních akcí okolí Lo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0">
                <a:tc gridSpan="8"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hte žáky odpovědět na úvodní otázk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znamte je se zajímavými místy a kulturními akcemi okolí Lou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8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zvěte žáky, aby vytvořili prezentaci a přednesli ji před třído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2" name="Group 88"/>
          <p:cNvGrpSpPr/>
          <p:nvPr/>
        </p:nvGrpSpPr>
        <p:grpSpPr>
          <a:xfrm>
            <a:off x="1476360" y="838080"/>
            <a:ext cx="3886200" cy="841320"/>
            <a:chOff x="1476360" y="838080"/>
            <a:chExt cx="3886200" cy="841320"/>
          </a:xfrm>
        </p:grpSpPr>
        <p:pic>
          <p:nvPicPr>
            <p:cNvPr id="53" name="Picture 89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8987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0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4560" cy="57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91"/>
          <p:cNvSpPr/>
          <p:nvPr/>
        </p:nvSpPr>
        <p:spPr>
          <a:xfrm>
            <a:off x="133200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Ing. Helena Zikmundová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 Provozováno Výzkumným ústavem pedagogickým v Praz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82281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ouny famous people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o was wh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8920" y="163188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Kamil Hilb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Václav Hlavat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) Emil Holár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) Karel Konr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) Jaroslav Vrchl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) Zdeněk Sýk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58920" y="1600200"/>
            <a:ext cx="489564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a poet, dramatist, 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a painter, the prominent representative of the world computer-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a painter, graphic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world famous mathematic, after WWII lived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an architect, finished the St.Vitus  Cathedral in Pr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a poet, journalist, a member of the association Devět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82281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ouny famous people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o was wh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920" y="1177560"/>
            <a:ext cx="401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il Hilb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clav Hlavat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il Holár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el Konr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roslav Vrchl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Sýk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58920" y="1440000"/>
            <a:ext cx="489564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architect, finished the St.Vitus  Cathedral in Pr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world famous mathematic, after WWII lived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ainter, graphic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oet, journalist, a member of the association Devět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oet, dramatist, 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ainter, a prominent representative of the world computer-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Where is Louny situ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Who founded Louny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What schools, offices and institutions can you find in Lou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What are the most famous buildings in Lou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Who are the famous people born in Lou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) What places in Louny were named after Louny famous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1Louny. (22. 03. 2014). Wikipedie: Otevřená encyklopedie. Získáno 15:07, 25. 03. 2014 z http://cs.wikipedia.org/w/index.php?title=Louny&amp;oldid=113283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2 PAUEROVÁ, Martina. Wikipedia The Free Encyclopedia. Wikipedia [online]. 2008-03-28. [cit. 2014-03-25]. Dostupné pod licencí Creative Common na: </a:t>
            </a:r>
            <a:r>
              <a:rPr b="0" lang="cs-CZ" sz="1400" spc="-1" strike="noStrike">
                <a:solidFill>
                  <a:srgbClr val="ccccff"/>
                </a:solidFill>
                <a:latin typeface="Arial"/>
              </a:rPr>
              <a:t>http://en.wikipedia.org/wiki/File:Louny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3 GORTYNA. Wikipedia Commons. Wikipedia [online]. 2014-02-15. [cit. 2014-03-25]. Dostupné pod licencí Creative Commons na : </a:t>
            </a:r>
            <a:r>
              <a:rPr b="0" lang="cs-CZ" sz="1400" spc="-1" strike="noStrike">
                <a:solidFill>
                  <a:srgbClr val="ccccff"/>
                </a:solidFill>
                <a:latin typeface="Arial"/>
              </a:rPr>
              <a:t>http://commons.wikimedia.org/wiki/File:Louny_radnice_45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4 HORAKVLADO. Wikipedia Commons. Wikipedia [online]. 2010-06-05. [cit. 2014-03-25]. Dostupné pod licencí Creative Commons na: </a:t>
            </a:r>
            <a:r>
              <a:rPr b="0" lang="cs-CZ" sz="1400" spc="-1" strike="noStrike">
                <a:solidFill>
                  <a:srgbClr val="ccccff"/>
                </a:solidFill>
                <a:latin typeface="Arial"/>
              </a:rPr>
              <a:t>http://commons.wikimedia.org/wiki/File:Louny,_m%C4%9Bstsk%C3%A9_opevn%C4%9Bn%C3%AD,_%C5%BDateck%C3%A1_br%C3%A1na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, 5 NADOR. Wikipedia Commons. Wikipedia [online]. 2009-05-17. [cit. 2014-03-25]. Dostupné z: </a:t>
            </a:r>
            <a:r>
              <a:rPr b="0" lang="cs-CZ" sz="1400" spc="-1" strike="noStrike">
                <a:solidFill>
                  <a:srgbClr val="ccccff"/>
                </a:solidFill>
                <a:latin typeface="Arial"/>
              </a:rPr>
              <a:t>http://commons.wikimedia.org/wiki/File:D%C5%AFm_Daliborka_Louny.jpg?uselang=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6 ONDŘEJ.KONICEK. Wikipedia Commons. Wikipedia [online]. 2010-04-04. [cit. 2014-03-25]. Dostupné z: http://commons.wikimedia.org/wiki/File:D%C5%AFm_Daliborka_Louny.jpg?uselang=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16000"/>
            <a:ext cx="56624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s situated in Ústecký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out 60 km north-west from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 the Ohř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832360" y="1403280"/>
            <a:ext cx="2735280" cy="298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616720" y="446400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-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founded by Premysl II in the middle of the 13</a:t>
            </a:r>
            <a:r>
              <a:rPr b="0" lang="cs-CZ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entury on the place where the setlement Luna already ex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 an important traffic road on the way from Prague to Leip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ring centuries many historical events took place and important buildings were built in Gothic, Baroque and Renaissenc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-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4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small town with about 20 000 inhabi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veral close villages belong to Lou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historic centre and several modern quarters and resident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sic schools, a secondary school,                a gramma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1520" indent="-55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nicipal Office, Czech Police, Job Center, Financial Office, Land Register, District Court and other offices and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ights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6920" y="1600200"/>
            <a:ext cx="5489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0" algn="ctr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urch of St Nic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t in 15</a:t>
            </a:r>
            <a:r>
              <a:rPr b="0" lang="cs-CZ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y the royal architect Benedikt Re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late Gothic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woodcarved mai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78360" y="1511280"/>
            <a:ext cx="3006720" cy="452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759280" y="6191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ights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7440" y="1600200"/>
            <a:ext cx="419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wn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t in 19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 the place of the former inn U tří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o- Reneissan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913280" y="2376360"/>
            <a:ext cx="4014720" cy="3011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680000" y="5616720"/>
            <a:ext cx="1398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ights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1440" y="1955520"/>
            <a:ext cx="46972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Žatec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late Gothic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t in 15</a:t>
            </a:r>
            <a:r>
              <a:rPr b="0" lang="cs-CZ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 of town fo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 of two former g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984920" y="2316240"/>
            <a:ext cx="4014720" cy="3011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721400" y="5616720"/>
            <a:ext cx="1398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ights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360" y="1655640"/>
            <a:ext cx="47354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libork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Renaissanc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t in 16</a:t>
            </a:r>
            <a:r>
              <a:rPr b="0" lang="cs-CZ" sz="3200" spc="-1" strike="noStrike" baseline="33000">
                <a:solidFill>
                  <a:srgbClr val="000000"/>
                </a:solidFill>
                <a:latin typeface="Arial"/>
              </a:rPr>
              <a:t>t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 present – an archive housing all history about Louny and its sur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400720" y="1600200"/>
            <a:ext cx="3394080" cy="4524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256360" y="626256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uny sights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528560"/>
            <a:ext cx="43909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aroqu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t in 15</a:t>
            </a:r>
            <a:r>
              <a:rPr b="0" lang="cs-CZ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 a mediev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er converted into flats for poor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 present a hotel with a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4015080" cy="3011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649760" y="554364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Václav Jukl</cp:lastModifiedBy>
  <cp:lastPrinted>2014-05-05T17:33:38Z</cp:lastPrinted>
  <dcterms:modified xsi:type="dcterms:W3CDTF">2014-05-05T17:40:55Z</dcterms:modified>
  <cp:revision>8</cp:revision>
  <dc:subject/>
  <dc:title>Snímek 1</dc:title>
</cp:coreProperties>
</file>