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12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DCF2-8562-4A20-94A2-60E7AAFE1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3040" y="750960"/>
            <a:ext cx="7775640" cy="10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7688520" cy="177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7720" y="4305240"/>
            <a:ext cx="7688520" cy="177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B494-8831-40CA-819A-9F8BB5224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3040" y="750960"/>
            <a:ext cx="7775640" cy="10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1920" cy="177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77560" y="2362320"/>
            <a:ext cx="3751920" cy="177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7720" y="4305240"/>
            <a:ext cx="3751920" cy="177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77560" y="4305240"/>
            <a:ext cx="3751920" cy="177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C57C-78B7-49B9-A561-694800AFC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3040" y="750960"/>
            <a:ext cx="7775640" cy="10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2475360" cy="177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7280" y="2362320"/>
            <a:ext cx="2475360" cy="177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36840" y="2362320"/>
            <a:ext cx="2475360" cy="177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7720" y="4305240"/>
            <a:ext cx="2475360" cy="177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7280" y="4305240"/>
            <a:ext cx="2475360" cy="177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36840" y="4305240"/>
            <a:ext cx="2475360" cy="177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5D7B-CC99-4444-ACAD-43A61E238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7C149-04DB-447A-8A44-4964BA0B8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3040" y="750960"/>
            <a:ext cx="7775640" cy="10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837720" y="2362320"/>
            <a:ext cx="7688520" cy="37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D3823-EE04-4B70-BFA8-8208D214D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3040" y="750960"/>
            <a:ext cx="7775640" cy="10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7688520" cy="37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0C66B-6ADA-4C4C-8045-65BE7EA0E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3040" y="750960"/>
            <a:ext cx="7775640" cy="10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1920" cy="37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77560" y="2362320"/>
            <a:ext cx="3751920" cy="37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6110E-DA53-4E86-B4C8-A9D113519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3040" y="750960"/>
            <a:ext cx="7775640" cy="10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4F809-DB1D-41B8-A7A8-5FF914833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833040" y="750960"/>
            <a:ext cx="7775640" cy="499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DECF9-A475-43B5-841D-E1490F0AC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3040" y="750960"/>
            <a:ext cx="7775640" cy="10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1920" cy="177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77560" y="2362320"/>
            <a:ext cx="3751920" cy="37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7720" y="4305240"/>
            <a:ext cx="3751920" cy="177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3D6E6-7336-41A3-B088-4CFD191E9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3040" y="750960"/>
            <a:ext cx="7775640" cy="10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7720" y="2362320"/>
            <a:ext cx="7688520" cy="37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EE1C-3B8A-47BE-B18B-71FB95EAD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3040" y="750960"/>
            <a:ext cx="7775640" cy="10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1920" cy="37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77560" y="2362320"/>
            <a:ext cx="3751920" cy="177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77560" y="4305240"/>
            <a:ext cx="3751920" cy="177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3B593-5880-444F-A7FC-725969E96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3040" y="750960"/>
            <a:ext cx="7775640" cy="10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1920" cy="177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77560" y="2362320"/>
            <a:ext cx="3751920" cy="177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7720" y="4305240"/>
            <a:ext cx="7688520" cy="177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FCB97-0DE0-477F-B162-7073E7381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3040" y="750960"/>
            <a:ext cx="7775640" cy="10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7688520" cy="177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837720" y="4305240"/>
            <a:ext cx="7688520" cy="177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9FAA1-871B-4C2B-9554-B2262DF0A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3040" y="750960"/>
            <a:ext cx="7775640" cy="10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1920" cy="177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77560" y="2362320"/>
            <a:ext cx="3751920" cy="177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37720" y="4305240"/>
            <a:ext cx="3751920" cy="177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77560" y="4305240"/>
            <a:ext cx="3751920" cy="177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8B5F3-113C-4E5C-91E0-0C0066FA5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3040" y="750960"/>
            <a:ext cx="7775640" cy="10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2475360" cy="177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37280" y="2362320"/>
            <a:ext cx="2475360" cy="177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36840" y="2362320"/>
            <a:ext cx="2475360" cy="177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837720" y="4305240"/>
            <a:ext cx="2475360" cy="177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437280" y="4305240"/>
            <a:ext cx="2475360" cy="177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36840" y="4305240"/>
            <a:ext cx="2475360" cy="177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8BAFF-ABF0-4DF6-9632-76847EC90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3040" y="750960"/>
            <a:ext cx="7775640" cy="10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7688520" cy="37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E8B0-81A1-417B-A2AF-3D72A3DE7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3040" y="750960"/>
            <a:ext cx="7775640" cy="10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1920" cy="37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77560" y="2362320"/>
            <a:ext cx="3751920" cy="37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1ACD-9F80-4FF1-979D-8ADE5E6A6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3040" y="750960"/>
            <a:ext cx="7775640" cy="10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8919-A045-453A-BFA4-CC4ADFDB3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3040" y="750960"/>
            <a:ext cx="7775640" cy="499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23A5-2B4B-4102-BA40-4FF1BF809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3040" y="750960"/>
            <a:ext cx="7775640" cy="10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1920" cy="177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77560" y="2362320"/>
            <a:ext cx="3751920" cy="37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7720" y="4305240"/>
            <a:ext cx="3751920" cy="177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51BA-61F2-42F8-A25C-AE3F345A9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3040" y="750960"/>
            <a:ext cx="7775640" cy="10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1920" cy="37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77560" y="2362320"/>
            <a:ext cx="3751920" cy="177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77560" y="4305240"/>
            <a:ext cx="3751920" cy="177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8D88-2530-49E5-BC6E-137C0C929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3040" y="750960"/>
            <a:ext cx="7775640" cy="10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1920" cy="177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77560" y="2362320"/>
            <a:ext cx="3751920" cy="177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7720" y="4305240"/>
            <a:ext cx="7688520" cy="177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4A7C-712E-4585-AF37-6F0D0FF6F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16880" cy="6854760"/>
            <a:chOff x="0" y="0"/>
            <a:chExt cx="7616880" cy="685476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197160" cy="6854760"/>
              <a:chOff x="0" y="0"/>
              <a:chExt cx="3197160" cy="68547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58880" cy="68547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39960" cy="116352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240" y="1981080"/>
              <a:ext cx="7388640" cy="316080"/>
              <a:chOff x="228240" y="1981080"/>
              <a:chExt cx="7388640" cy="31608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07400" cy="3142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7880" y="1981080"/>
                <a:ext cx="390600" cy="3160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3040" y="750960"/>
            <a:ext cx="7775640" cy="10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7720" y="2362320"/>
            <a:ext cx="7688520" cy="37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7920" y="6248160"/>
            <a:ext cx="212580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8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1320" y="6248160"/>
            <a:ext cx="289224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8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41680"/>
            <a:ext cx="58248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8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7E9A57-38E7-4066-BEA8-8DE2B29C9054}" type="slidenum">
              <a:rPr b="0" lang="en-GB" sz="18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4400" cy="6854760"/>
            <a:chOff x="0" y="0"/>
            <a:chExt cx="5864400" cy="685476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68760" cy="685476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78600" cy="190188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3680" cy="315720"/>
            <a:chOff x="3632040" y="4889520"/>
            <a:chExt cx="4873680" cy="31572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3120" cy="31428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57040" cy="3157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7920" y="6248160"/>
            <a:ext cx="212580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1320" y="6248160"/>
            <a:ext cx="289224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3366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6320" y="6246720"/>
            <a:ext cx="58248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GB" sz="26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27C2361-CA31-4BBA-B4D1-6A9B50D44D3B}" type="slidenum">
              <a:rPr b="1" lang="en-GB" sz="26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70080"/>
            <a:ext cx="7667640" cy="13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55560" y="5778360"/>
            <a:ext cx="783432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cs-CZ" sz="900" spc="-1" strike="noStrike">
                <a:solidFill>
                  <a:srgbClr val="1c1c1c"/>
                </a:solidFill>
                <a:latin typeface="Arial"/>
              </a:rPr>
              <a:t>Autorem materiálu a všech jeho částí, není-li uvedeno jinak, je  Ing. Helena Zikmundová. Dostupné z Metodického portálu www.rvp.cz, ISSN: 1802-4785. Provozuje Národní ústav pro vzdělávání, školské poradenské zařízení a zařízení pro další vzdělávání pedagogických pracovníků (NÚV).</a:t>
            </a:r>
            <a:endParaRPr b="0" lang="en-US" sz="9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116000" y="620640"/>
          <a:ext cx="6841800" cy="4757400"/>
        </p:xfrm>
        <a:graphic>
          <a:graphicData uri="http://schemas.openxmlformats.org/drawingml/2006/table">
            <a:tbl>
              <a:tblPr/>
              <a:tblGrid>
                <a:gridCol w="1562040"/>
                <a:gridCol w="1891440"/>
                <a:gridCol w="830160"/>
                <a:gridCol w="136800"/>
                <a:gridCol w="136440"/>
                <a:gridCol w="399960"/>
                <a:gridCol w="1008360"/>
                <a:gridCol w="876600"/>
              </a:tblGrid>
              <a:tr h="1009080">
                <a:tc gridSpan="2">
                  <a:txBody>
                    <a:bodyPr lIns="68760" rIns="68760" tIns="59040" bIns="0" anchor="t">
                      <a:noAutofit/>
                    </a:bodyPr>
                    <a:p>
                      <a:pPr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59040" bIns="0" anchor="ctr">
                      <a:noAutofit/>
                    </a:bodyPr>
                    <a:p>
                      <a:pPr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68760" rIns="68760" tIns="59040" bIns="0" anchor="ctr">
                      <a:noAutofit/>
                    </a:bodyPr>
                    <a:p>
                      <a:pPr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bchodní akademie a Střední odborná škola, gen. F. Fajtla, Louny, p.o.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svoboditelů 380, Louny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4840">
                <a:tc>
                  <a:txBody>
                    <a:bodyPr lIns="68760" rIns="68760" tIns="59040" bIns="0" anchor="t">
                      <a:noAutofit/>
                    </a:bodyPr>
                    <a:p>
                      <a:pPr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Číslo projektu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59040" bIns="0" anchor="ctr">
                      <a:noAutofit/>
                    </a:bodyPr>
                    <a:p>
                      <a:pPr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Z.1.07/1.5.00/34.005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59040" bIns="0" anchor="ctr">
                      <a:noAutofit/>
                    </a:bodyPr>
                    <a:p>
                      <a:pPr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Číslo sady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59040" bIns="0" anchor="ctr">
                      <a:noAutofit/>
                    </a:bodyPr>
                    <a:p>
                      <a:pPr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59040" bIns="0" anchor="ctr">
                      <a:noAutofit/>
                    </a:bodyPr>
                    <a:p>
                      <a:pPr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Číslo DUM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59040" bIns="0" anchor="ctr">
                      <a:noAutofit/>
                    </a:bodyPr>
                    <a:p>
                      <a:pPr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160">
                <a:tc>
                  <a:txBody>
                    <a:bodyPr lIns="68760" rIns="68760" tIns="59040" bIns="0" anchor="t">
                      <a:noAutofit/>
                    </a:bodyPr>
                    <a:p>
                      <a:pPr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ředmět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68760" rIns="68760" tIns="59040" bIns="0" anchor="t">
                      <a:noAutofit/>
                    </a:bodyPr>
                    <a:p>
                      <a:pPr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glický jazyk - konverzace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0160">
                <a:tc>
                  <a:txBody>
                    <a:bodyPr lIns="68760" rIns="68760" tIns="59040" bIns="0" anchor="t">
                      <a:noAutofit/>
                    </a:bodyPr>
                    <a:p>
                      <a:pPr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matický okruh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68760" rIns="68760" tIns="59040" bIns="0" anchor="t">
                      <a:noAutofit/>
                    </a:bodyPr>
                    <a:p>
                      <a:pPr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Česká republika a Evropská Unie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0960">
                <a:tc>
                  <a:txBody>
                    <a:bodyPr lIns="68760" rIns="68760" tIns="59040" bIns="0" anchor="t">
                      <a:noAutofit/>
                    </a:bodyPr>
                    <a:p>
                      <a:pPr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ázev materiálu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68760" rIns="68760" tIns="59040" bIns="0" anchor="t">
                      <a:noAutofit/>
                    </a:bodyPr>
                    <a:p>
                      <a:pPr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amous Czechs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0160">
                <a:tc>
                  <a:txBody>
                    <a:bodyPr lIns="68760" rIns="68760" tIns="59040" bIns="0" anchor="t">
                      <a:noAutofit/>
                    </a:bodyPr>
                    <a:p>
                      <a:pPr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utor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68760" rIns="68760" tIns="59040" bIns="0" anchor="t">
                      <a:noAutofit/>
                    </a:bodyPr>
                    <a:p>
                      <a:pPr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en-GB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I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g. Helena Zikmundová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0160">
                <a:tc>
                  <a:txBody>
                    <a:bodyPr lIns="68760" rIns="68760" tIns="59040" bIns="0" anchor="t">
                      <a:noAutofit/>
                    </a:bodyPr>
                    <a:p>
                      <a:pPr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tum tvorby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59040" bIns="0" anchor="t">
                      <a:noAutofit/>
                    </a:bodyPr>
                    <a:p>
                      <a:pPr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stopad 20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59040" bIns="0" anchor="t">
                      <a:noAutofit/>
                    </a:bodyPr>
                    <a:p>
                      <a:pPr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očník  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59040" bIns="0" anchor="t">
                      <a:noAutofit/>
                    </a:bodyPr>
                    <a:p>
                      <a:pPr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řetí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48800">
                <a:tc gridSpan="8">
                  <a:txBody>
                    <a:bodyPr lIns="68760" rIns="68760" tIns="59040" bIns="0" anchor="t">
                      <a:noAutofit/>
                    </a:bodyPr>
                    <a:p>
                      <a:pPr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otace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ezentace k seznámení se slavnými českými osobnostmi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83080">
                <a:tc gridSpan="8">
                  <a:txBody>
                    <a:bodyPr lIns="68760" rIns="68760" tIns="59040" bIns="0" anchor="t">
                      <a:noAutofit/>
                    </a:bodyPr>
                    <a:p>
                      <a:pPr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todický pokyn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 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Nechte studenty vyjmenovat nejvýznamější osobnosti z daných oblastí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 Spusťte prezentaci a nechte studenty poznávat, kdo je na obrázcích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 Po prezentaci vyzvěte studenty, aby o těchto osobnostech hovořili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pSp>
        <p:nvGrpSpPr>
          <p:cNvPr id="96" name=""/>
          <p:cNvGrpSpPr/>
          <p:nvPr/>
        </p:nvGrpSpPr>
        <p:grpSpPr>
          <a:xfrm>
            <a:off x="1332000" y="765000"/>
            <a:ext cx="3889440" cy="844560"/>
            <a:chOff x="1332000" y="765000"/>
            <a:chExt cx="3889440" cy="844560"/>
          </a:xfrm>
        </p:grpSpPr>
        <p:pic>
          <p:nvPicPr>
            <p:cNvPr id="97" name="" descr=""/>
            <p:cNvPicPr/>
            <p:nvPr/>
          </p:nvPicPr>
          <p:blipFill>
            <a:blip r:embed="rId1"/>
            <a:stretch/>
          </p:blipFill>
          <p:spPr>
            <a:xfrm>
              <a:off x="1332000" y="765000"/>
              <a:ext cx="2901960" cy="84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" descr=""/>
            <p:cNvPicPr/>
            <p:nvPr/>
          </p:nvPicPr>
          <p:blipFill>
            <a:blip r:embed="rId2"/>
            <a:stretch/>
          </p:blipFill>
          <p:spPr>
            <a:xfrm>
              <a:off x="4643280" y="898560"/>
              <a:ext cx="578160" cy="577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" name=""/>
          <p:cNvSpPr/>
          <p:nvPr/>
        </p:nvSpPr>
        <p:spPr>
          <a:xfrm>
            <a:off x="785880" y="3324240"/>
            <a:ext cx="1810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Jaroslav Heyerovský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503280" y="2361960"/>
            <a:ext cx="4897440" cy="39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7280" indent="-557280"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728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 physical chemist,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58720" indent="0">
              <a:spcBef>
                <a:spcPts val="700"/>
              </a:spcBef>
              <a:buNone/>
              <a:tabLst>
                <a:tab algn="l" pos="0"/>
                <a:tab algn="l" pos="55728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inventor and the found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58720" indent="0">
              <a:spcBef>
                <a:spcPts val="700"/>
              </a:spcBef>
              <a:buNone/>
              <a:tabLst>
                <a:tab algn="l" pos="0"/>
                <a:tab algn="l" pos="55728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f polarograph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57280" indent="-557280"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728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was awarded th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58720" indent="0">
              <a:spcBef>
                <a:spcPts val="700"/>
              </a:spcBef>
              <a:buNone/>
              <a:tabLst>
                <a:tab algn="l" pos="0"/>
                <a:tab algn="l" pos="55728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obel Prize in 1959 aft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58720" indent="0">
              <a:spcBef>
                <a:spcPts val="700"/>
              </a:spcBef>
              <a:buNone/>
              <a:tabLst>
                <a:tab algn="l" pos="0"/>
                <a:tab algn="l" pos="55728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ighteen nominat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5759280" y="2398680"/>
            <a:ext cx="2737080" cy="36511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5543640" y="6191280"/>
            <a:ext cx="12459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br.4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dur="indefinite" fill="hold">
                      <p:stCondLst>
                        <p:cond delay="indefinite"/>
                      </p:stCondLst>
                      <p:childTnLst>
                        <p:par>
                          <p:cTn id="1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6" dur="2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dur="indefinite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9" dur="2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dur="indefinite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2" dur="2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dur="indefinite" fill="hold">
                      <p:stCondLst>
                        <p:cond delay="indefinite"/>
                      </p:stCondLst>
                      <p:childTnLst>
                        <p:par>
                          <p:cTn id="1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7" dur="2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dur="indefinite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0" dur="20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dur="indefinite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3" dur="20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Who is it?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276720" y="2133720"/>
            <a:ext cx="2427120" cy="38163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1995480" y="560880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br.5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Antonín Dvořák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215640" y="2070000"/>
            <a:ext cx="5903640" cy="44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7280" indent="-557280"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728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one of the greatest composers  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558720" indent="0">
              <a:spcBef>
                <a:spcPts val="700"/>
              </a:spcBef>
              <a:buNone/>
              <a:tabLst>
                <a:tab algn="l" pos="0"/>
                <a:tab algn="l" pos="55728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of all time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557280" indent="-557280"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728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the world's most famous and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558720" indent="0">
              <a:spcBef>
                <a:spcPts val="700"/>
              </a:spcBef>
              <a:buNone/>
              <a:tabLst>
                <a:tab algn="l" pos="0"/>
                <a:tab algn="l" pos="55728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most played Czech composer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557280" indent="-557280"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728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composed symphonies,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558720" indent="0">
              <a:spcBef>
                <a:spcPts val="700"/>
              </a:spcBef>
              <a:buNone/>
              <a:tabLst>
                <a:tab algn="l" pos="0"/>
                <a:tab algn="l" pos="55728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chamber music and operas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557280" indent="-557280"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728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a crater and an asteroid on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558720" indent="0">
              <a:spcBef>
                <a:spcPts val="700"/>
              </a:spcBef>
              <a:buNone/>
              <a:tabLst>
                <a:tab algn="l" pos="0"/>
                <a:tab algn="l" pos="55728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Merkur planet are named after him 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335640" y="2376360"/>
            <a:ext cx="2316240" cy="36403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6264360" y="6335640"/>
            <a:ext cx="1245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br.5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dur="indefinite" fill="hold">
                      <p:stCondLst>
                        <p:cond delay="indefinite"/>
                      </p:stCondLst>
                      <p:childTnLst>
                        <p:par>
                          <p:cTn id="14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0" dur="2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dur="indefinite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3" dur="2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dur="indefinite" fill="hold">
                      <p:stCondLst>
                        <p:cond delay="indefinite"/>
                      </p:stCondLst>
                      <p:childTnLst>
                        <p:par>
                          <p:cTn id="15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8" dur="2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dur="indefinite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1" dur="20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dur="indefinite" fill="hold">
                      <p:stCondLst>
                        <p:cond delay="indefinite"/>
                      </p:stCondLst>
                      <p:childTnLst>
                        <p:par>
                          <p:cTn id="16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6" dur="20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dur="indefinite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9" dur="20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dur="indefinite" fill="hold">
                      <p:stCondLst>
                        <p:cond delay="indefinite"/>
                      </p:stCondLst>
                      <p:childTnLst>
                        <p:par>
                          <p:cTn id="17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4" dur="20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dur="indefinite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7" dur="2000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792000" y="503280"/>
            <a:ext cx="778068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Who is it?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276720" y="1916280"/>
            <a:ext cx="2619360" cy="37908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1819440" y="546588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br.6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Otto Wichterle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287280" y="2361960"/>
            <a:ext cx="4967280" cy="39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7280" indent="-557280"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728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the world renowned scientist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558720" indent="0">
              <a:spcBef>
                <a:spcPts val="700"/>
              </a:spcBef>
              <a:buNone/>
              <a:tabLst>
                <a:tab algn="l" pos="0"/>
                <a:tab algn="l" pos="55728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and inventor in the field of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558720" indent="0">
              <a:spcBef>
                <a:spcPts val="700"/>
              </a:spcBef>
              <a:buNone/>
              <a:tabLst>
                <a:tab algn="l" pos="0"/>
                <a:tab algn="l" pos="55728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macromolecular chemistry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557280" indent="-557280"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728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famous for the discovery of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558720" indent="0">
              <a:spcBef>
                <a:spcPts val="700"/>
              </a:spcBef>
              <a:buNone/>
              <a:tabLst>
                <a:tab algn="l" pos="0"/>
                <a:tab algn="l" pos="55728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synthetic polyamide fibers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558720" indent="0">
              <a:spcBef>
                <a:spcPts val="700"/>
              </a:spcBef>
              <a:buNone/>
              <a:tabLst>
                <a:tab algn="l" pos="0"/>
                <a:tab algn="l" pos="55728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     – 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nylon and contact lenses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557280" indent="-557280"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728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the asteroid Wichterle is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558720" indent="0">
              <a:spcBef>
                <a:spcPts val="700"/>
              </a:spcBef>
              <a:buNone/>
              <a:tabLst>
                <a:tab algn="l" pos="0"/>
                <a:tab algn="l" pos="55728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named after him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5850000" y="2251080"/>
            <a:ext cx="2573280" cy="37242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665680" y="6191280"/>
            <a:ext cx="12463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br.6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dur="indefinite" fill="hold">
                      <p:stCondLst>
                        <p:cond delay="indefinite"/>
                      </p:stCondLst>
                      <p:childTnLst>
                        <p:par>
                          <p:cTn id="18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4" dur="2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dur="indefinite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7" dur="2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dur="indefinite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0" dur="2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dur="indefinite" fill="hold">
                      <p:stCondLst>
                        <p:cond delay="indefinite"/>
                      </p:stCondLst>
                      <p:childTnLst>
                        <p:par>
                          <p:cTn id="19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5" dur="2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dur="indefinite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8" dur="2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dur="indefinite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1" dur="20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dur="indefinite" fill="hold">
                      <p:stCondLst>
                        <p:cond delay="indefinite"/>
                      </p:stCondLst>
                      <p:childTnLst>
                        <p:par>
                          <p:cTn id="20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6" dur="2000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dur="indefinite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9" dur="2000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720720" y="576360"/>
            <a:ext cx="778032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Who is it?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3348000" y="2060640"/>
            <a:ext cx="2666880" cy="3797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1963800" y="568152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br.7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Karel Čapek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576000" y="2376000"/>
            <a:ext cx="5040360" cy="41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7280" indent="-557280"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728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 famous writer, journalist,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58720" indent="0">
              <a:spcBef>
                <a:spcPts val="700"/>
              </a:spcBef>
              <a:buNone/>
              <a:tabLst>
                <a:tab algn="l" pos="0"/>
                <a:tab algn="l" pos="55728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laywright, philosopher,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58720" indent="0">
              <a:spcBef>
                <a:spcPts val="700"/>
              </a:spcBef>
              <a:buNone/>
              <a:tabLst>
                <a:tab algn="l" pos="0"/>
                <a:tab algn="l" pos="55728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hotographer and transato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55728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reated extraordinarily ric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58720" indent="0">
              <a:spcBef>
                <a:spcPts val="700"/>
              </a:spcBef>
              <a:buNone/>
              <a:tabLst>
                <a:tab algn="l" pos="0"/>
                <a:tab algn="l" pos="55728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nd varied wor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57280" indent="-557280"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728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was seven times nominated  for the Nobel Prize for Literatu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6095880" y="2303640"/>
            <a:ext cx="2616480" cy="37242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6119640" y="6264360"/>
            <a:ext cx="12463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br.7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dur="indefinite" fill="hold">
                      <p:stCondLst>
                        <p:cond delay="indefinite"/>
                      </p:stCondLst>
                      <p:childTnLst>
                        <p:par>
                          <p:cTn id="21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6" dur="2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dur="indefinite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9" dur="20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dur="indefinite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2" dur="20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dur="indefinite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5" dur="20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dur="indefinite" fill="hold">
                      <p:stCondLst>
                        <p:cond delay="indefinite"/>
                      </p:stCondLst>
                      <p:childTnLst>
                        <p:par>
                          <p:cTn id="2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0" dur="20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dur="indefinite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3" dur="20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612720" y="47628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Who is it?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556000" y="1916280"/>
            <a:ext cx="4381200" cy="43812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328760" y="596916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br.8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833400" y="51264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Miloš Forman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286920" y="2207880"/>
            <a:ext cx="4778280" cy="39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7280" indent="-557280"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728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 world famous director,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58720" indent="0">
              <a:spcBef>
                <a:spcPts val="700"/>
              </a:spcBef>
              <a:buNone/>
              <a:tabLst>
                <a:tab algn="l" pos="0"/>
                <a:tab algn="l" pos="55728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creenwriter and actor of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58720" indent="0">
              <a:spcBef>
                <a:spcPts val="700"/>
              </a:spcBef>
              <a:buNone/>
              <a:tabLst>
                <a:tab algn="l" pos="0"/>
                <a:tab algn="l" pos="55728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zech origin liv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58720" indent="0">
              <a:spcBef>
                <a:spcPts val="700"/>
              </a:spcBef>
              <a:buNone/>
              <a:tabLst>
                <a:tab algn="l" pos="0"/>
                <a:tab algn="l" pos="55728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in the United Stat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57280" indent="-557280"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728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won two Oscars for Bes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58720" indent="0">
              <a:spcBef>
                <a:spcPts val="700"/>
              </a:spcBef>
              <a:buNone/>
              <a:tabLst>
                <a:tab algn="l" pos="0"/>
                <a:tab algn="l" pos="55728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irector and many oth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58720" indent="0">
              <a:spcBef>
                <a:spcPts val="700"/>
              </a:spcBef>
              <a:buNone/>
              <a:tabLst>
                <a:tab algn="l" pos="0"/>
                <a:tab algn="l" pos="55728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world film award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5111640" y="2251080"/>
            <a:ext cx="3724560" cy="37242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4824360" y="6191280"/>
            <a:ext cx="12463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br.8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dur="indefinite" fill="hold">
                      <p:stCondLst>
                        <p:cond delay="indefinite"/>
                      </p:stCondLst>
                      <p:childTnLst>
                        <p:par>
                          <p:cTn id="2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0" dur="2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dur="indefinite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3" dur="20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dur="indefinite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6" dur="20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dur="indefinite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9" dur="20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dur="indefinite" fill="hold">
                      <p:stCondLst>
                        <p:cond delay="indefinite"/>
                      </p:stCondLst>
                      <p:childTnLst>
                        <p:par>
                          <p:cTn id="25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4" dur="20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dur="indefinite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7" dur="200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dur="indefinite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0" dur="2000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682560" y="26028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Who is it?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2863800" y="1440000"/>
            <a:ext cx="3326040" cy="4601880"/>
            <a:chOff x="2863800" y="1440000"/>
            <a:chExt cx="3326040" cy="4601880"/>
          </a:xfrm>
        </p:grpSpPr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2863800" y="1440000"/>
              <a:ext cx="3326040" cy="460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2863800" y="1440000"/>
              <a:ext cx="3326040" cy="460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1459080" y="574056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br.9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o you know any famous Czech people from the area: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258560" y="2349000"/>
            <a:ext cx="7692840" cy="40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odern music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lasic music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litic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cien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il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literatu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por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h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dur="indefinite" fill="hold">
                      <p:stCondLst>
                        <p:cond delay="indefinite"/>
                      </p:stCondLst>
                      <p:childTnLst>
                        <p:par>
                          <p:cTn id="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" dur="2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dur="indefinite" fill="hold">
                      <p:stCondLst>
                        <p:cond delay="indefinite"/>
                      </p:stCondLst>
                      <p:childTnLst>
                        <p:par>
                          <p:cTn id="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" dur="2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dur="indefinite" fill="hold">
                      <p:stCondLst>
                        <p:cond delay="indefinite"/>
                      </p:stCondLst>
                      <p:childTnLst>
                        <p:par>
                          <p:cTn id="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" dur="2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dur="indefinite" fill="hold">
                      <p:stCondLst>
                        <p:cond delay="indefinite"/>
                      </p:stCondLst>
                      <p:childTnLst>
                        <p:par>
                          <p:cTn id="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7" dur="2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dur="indefinite" fill="hold">
                      <p:stCondLst>
                        <p:cond delay="indefinite"/>
                      </p:stCondLst>
                      <p:childTnLst>
                        <p:par>
                          <p:cTn id="2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2" dur="20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dur="indefinite" fill="hold">
                      <p:stCondLst>
                        <p:cond delay="indefinite"/>
                      </p:stCondLst>
                      <p:childTnLst>
                        <p:par>
                          <p:cTn id="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7" dur="20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dur="indefinite" fill="hold">
                      <p:stCondLst>
                        <p:cond delay="indefinite"/>
                      </p:stCondLst>
                      <p:childTnLst>
                        <p:par>
                          <p:cTn id="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2" dur="2000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dur="indefinite" fill="hold">
                      <p:stCondLst>
                        <p:cond delay="indefinite"/>
                      </p:stCondLst>
                      <p:childTnLst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7" dur="2000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Blanka Matragi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360000" y="2361960"/>
            <a:ext cx="4824360" cy="39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7280" indent="-557280"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728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 world famous fash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58720" indent="0">
              <a:spcBef>
                <a:spcPts val="700"/>
              </a:spcBef>
              <a:buNone/>
              <a:tabLst>
                <a:tab algn="l" pos="0"/>
                <a:tab algn="l" pos="55728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esigner living in Leban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57280" indent="-557280"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728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esignes exclusive fash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58720" indent="0">
              <a:spcBef>
                <a:spcPts val="700"/>
              </a:spcBef>
              <a:buNone/>
              <a:tabLst>
                <a:tab algn="l" pos="0"/>
                <a:tab algn="l" pos="55728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nd art collections fo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58720" indent="0">
              <a:spcBef>
                <a:spcPts val="700"/>
              </a:spcBef>
              <a:buNone/>
              <a:tabLst>
                <a:tab algn="l" pos="0"/>
                <a:tab algn="l" pos="55728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eople of high society and the royal palaces in the Gulf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5730840" y="2376360"/>
            <a:ext cx="2692440" cy="372456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5256360" y="6264360"/>
            <a:ext cx="12459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br.9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dur="indefinite" fill="hold">
                      <p:stCondLst>
                        <p:cond delay="indefinite"/>
                      </p:stCondLst>
                      <p:childTnLst>
                        <p:par>
                          <p:cTn id="2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7" dur="2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dur="indefinite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70" dur="20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dur="indefinite" fill="hold">
                      <p:stCondLst>
                        <p:cond delay="indefinite"/>
                      </p:stCondLst>
                      <p:childTnLst>
                        <p:par>
                          <p:cTn id="2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75" dur="20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dur="indefinite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78" dur="20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dur="indefinite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81" dur="20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833400" y="431640"/>
            <a:ext cx="7780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Who is it?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3240000" y="1689120"/>
            <a:ext cx="2793960" cy="41418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2045160" y="57531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br.1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Karel Gott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287280" y="2376360"/>
            <a:ext cx="5329440" cy="39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7280" indent="-557280"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728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 major Czech pop sing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57280" indent="-557280"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728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he Golden Voice of Pragu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57280" indent="-557280"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728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uring his singing care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58720" indent="0">
              <a:spcBef>
                <a:spcPts val="700"/>
              </a:spcBef>
              <a:buNone/>
              <a:tabLst>
                <a:tab algn="l" pos="0"/>
                <a:tab algn="l" pos="55728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38 times he won the Gold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58720" indent="0">
              <a:spcBef>
                <a:spcPts val="700"/>
              </a:spcBef>
              <a:buNone/>
              <a:tabLst>
                <a:tab algn="l" pos="0"/>
                <a:tab algn="l" pos="55728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ightinga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57280" indent="-557280"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728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evotes his free time t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58720" indent="0">
              <a:spcBef>
                <a:spcPts val="700"/>
              </a:spcBef>
              <a:buNone/>
              <a:tabLst>
                <a:tab algn="l" pos="0"/>
                <a:tab algn="l" pos="55728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aint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5975280" y="2362320"/>
            <a:ext cx="2427480" cy="372420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5327640" y="6335640"/>
            <a:ext cx="12463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br.1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dur="indefinite" fill="hold">
                      <p:stCondLst>
                        <p:cond delay="indefinite"/>
                      </p:stCondLst>
                      <p:childTnLst>
                        <p:par>
                          <p:cTn id="28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88" dur="2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dur="indefinite" fill="hold">
                      <p:stCondLst>
                        <p:cond delay="indefinite"/>
                      </p:stCondLst>
                      <p:childTnLst>
                        <p:par>
                          <p:cTn id="2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93" dur="2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dur="indefinite" fill="hold">
                      <p:stCondLst>
                        <p:cond delay="indefinite"/>
                      </p:stCondLst>
                      <p:childTnLst>
                        <p:par>
                          <p:cTn id="29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98" dur="2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dur="indefinite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01" dur="2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dur="indefinite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04" dur="2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dur="indefinite" fill="hold">
                      <p:stCondLst>
                        <p:cond delay="indefinite"/>
                      </p:stCondLst>
                      <p:childTnLst>
                        <p:par>
                          <p:cTn id="30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09" dur="2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dur="indefinite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12" dur="2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2906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Who is it?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2987640" y="2060640"/>
            <a:ext cx="3830760" cy="409896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1611720" y="58975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br.1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Jaromír Jágr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60360" y="2130120"/>
            <a:ext cx="4896000" cy="43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18040" indent="-518040"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728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one of the best ice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519480" indent="0">
              <a:spcBef>
                <a:spcPts val="700"/>
              </a:spcBef>
              <a:buNone/>
              <a:tabLst>
                <a:tab algn="l" pos="0"/>
                <a:tab algn="l" pos="55728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hockey players on a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519480" indent="0">
              <a:spcBef>
                <a:spcPts val="700"/>
              </a:spcBef>
              <a:buNone/>
              <a:tabLst>
                <a:tab algn="l" pos="0"/>
                <a:tab algn="l" pos="55728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rofessional level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518040" indent="-518040"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728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at present he plays in the NHL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518040" indent="-518040"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728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won two Stanley Cup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518040" indent="-518040"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728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several times won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519480" indent="0">
              <a:spcBef>
                <a:spcPts val="700"/>
              </a:spcBef>
              <a:buNone/>
              <a:tabLst>
                <a:tab algn="l" pos="0"/>
                <a:tab algn="l" pos="55728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Golden Hockey Stick,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519480" indent="0">
              <a:spcBef>
                <a:spcPts val="700"/>
              </a:spcBef>
              <a:buNone/>
              <a:tabLst>
                <a:tab algn="l" pos="0"/>
                <a:tab algn="l" pos="55728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Art Ross Trophy and others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519480" indent="0">
              <a:spcBef>
                <a:spcPts val="700"/>
              </a:spcBef>
              <a:buNone/>
              <a:tabLst>
                <a:tab algn="l" pos="0"/>
                <a:tab algn="l" pos="55728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sport trophies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5184720" y="2311560"/>
            <a:ext cx="3156120" cy="337644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5184720" y="6103800"/>
            <a:ext cx="12463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br.1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dur="indefinite" fill="hold">
                      <p:stCondLst>
                        <p:cond delay="indefinite"/>
                      </p:stCondLst>
                      <p:childTnLst>
                        <p:par>
                          <p:cTn id="3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7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19" dur="2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dur="indefinite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22" dur="20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dur="indefinite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25" dur="20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dur="indefinite" fill="hold">
                      <p:stCondLst>
                        <p:cond delay="indefinite"/>
                      </p:stCondLst>
                      <p:childTnLst>
                        <p:par>
                          <p:cTn id="3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30" dur="20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dur="indefinite" fill="hold">
                      <p:stCondLst>
                        <p:cond delay="indefinite"/>
                      </p:stCondLst>
                      <p:childTnLst>
                        <p:par>
                          <p:cTn id="3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3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35" dur="20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dur="indefinite" fill="hold">
                      <p:stCondLst>
                        <p:cond delay="indefinite"/>
                      </p:stCondLst>
                      <p:childTnLst>
                        <p:par>
                          <p:cTn id="3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40" dur="2000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dur="indefinite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43" dur="2000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dur="indefinite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46" dur="2000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dur="indefinite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49" dur="2000"/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3366"/>
                </a:solidFill>
                <a:latin typeface="Arial"/>
              </a:rPr>
              <a:t>Použité zdroje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826920" y="2133720"/>
            <a:ext cx="7693200" cy="46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4440" indent="-334440"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3366"/>
                </a:solidFill>
                <a:latin typeface="Arial"/>
              </a:rPr>
              <a:t>Obr. 1 Wikipedia, The Free Encyclopedia. HEDNING. [online]. 2005-05-28. [cit. 2013-11-26]. Dostupný pod licencí Public Domain na: http://en.wikipedia.org/wiki/File:Johan_amos_comenius_1592-1671.jpg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34440" indent="-334440"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3366"/>
                </a:solidFill>
                <a:latin typeface="Arial"/>
              </a:rPr>
              <a:t>Obr. 2 RAS67. Wikipedie, Otevřená encyklopedie. </a:t>
            </a:r>
            <a:r>
              <a:rPr b="0" i="1" lang="cs-CZ" sz="1200" spc="-1" strike="noStrike">
                <a:solidFill>
                  <a:srgbClr val="003366"/>
                </a:solidFill>
                <a:latin typeface="Arial"/>
              </a:rPr>
              <a:t>Wikipedie</a:t>
            </a:r>
            <a:r>
              <a:rPr b="0" lang="cs-CZ" sz="1200" spc="-1" strike="noStrike">
                <a:solidFill>
                  <a:srgbClr val="003366"/>
                </a:solidFill>
                <a:latin typeface="Arial"/>
              </a:rPr>
              <a:t> [online]. 2011-03-21. [cit. 2013-11-29]. Dostupné z: http://cs.wikipedia.org/wiki/Soubor:Tom%C3%A1%C5%A1_Garrigue_Masaryk_1925.PNG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3366"/>
                </a:solidFill>
                <a:latin typeface="Arial"/>
              </a:rPr>
              <a:t>Obr.3 SLÁMA, Ondřej. Wikipedie, Otevřená encyklopedie. </a:t>
            </a:r>
            <a:r>
              <a:rPr b="0" i="1" lang="cs-CZ" sz="1200" spc="-1" strike="noStrike">
                <a:solidFill>
                  <a:srgbClr val="003366"/>
                </a:solidFill>
                <a:latin typeface="Arial"/>
              </a:rPr>
              <a:t>Wikipedie</a:t>
            </a:r>
            <a:r>
              <a:rPr b="0" lang="cs-CZ" sz="1200" spc="-1" strike="noStrike">
                <a:solidFill>
                  <a:srgbClr val="003366"/>
                </a:solidFill>
                <a:latin typeface="Arial"/>
              </a:rPr>
              <a:t> [online]. 2009-11-14. [cit. 2013-11-29]. Dostupné z: </a:t>
            </a:r>
            <a:r>
              <a:rPr b="0" lang="cs-CZ" sz="1200" spc="-1" strike="noStrike">
                <a:solidFill>
                  <a:srgbClr val="ccccff"/>
                </a:solidFill>
                <a:latin typeface="Arial"/>
              </a:rPr>
              <a:t>http://cs.wikipedia.org/wiki/Soubor:V%C3%A1clav_Havel_cut_out.jpg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34440" indent="-334440"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3366"/>
                </a:solidFill>
                <a:latin typeface="Arial"/>
              </a:rPr>
              <a:t>Obr.4 ARCHIV ÚFCH J.HEYROVSKÉHO AV ČR, V.V.I. Wikipedie, Otevřená encyklopedie. </a:t>
            </a:r>
            <a:r>
              <a:rPr b="0" i="1" lang="cs-CZ" sz="1200" spc="-1" strike="noStrike">
                <a:solidFill>
                  <a:srgbClr val="003366"/>
                </a:solidFill>
                <a:latin typeface="Arial"/>
              </a:rPr>
              <a:t>Wikipedie</a:t>
            </a:r>
            <a:r>
              <a:rPr b="0" lang="cs-CZ" sz="1200" spc="-1" strike="noStrike">
                <a:solidFill>
                  <a:srgbClr val="003366"/>
                </a:solidFill>
                <a:latin typeface="Arial"/>
              </a:rPr>
              <a:t> [online]. [cit. 2013-11-29]. Dostupné z: http://cs.wikipedia.org/wiki/Soubor:Heyrovsky_Jaroslav.jpg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34440" indent="-334440"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3366"/>
                </a:solidFill>
                <a:latin typeface="Arial"/>
              </a:rPr>
              <a:t>dvořák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34440" indent="-334440"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cs-CZ" sz="1200" spc="-1" strike="noStrike">
                <a:solidFill>
                  <a:srgbClr val="003366"/>
                </a:solidFill>
                <a:latin typeface="Arial"/>
              </a:rPr>
              <a:t>wichterl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34440" indent="-334440"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3366"/>
                </a:solidFill>
                <a:latin typeface="Arial"/>
              </a:rPr>
              <a:t>čapek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34440" indent="-334440"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3366"/>
                </a:solidFill>
                <a:latin typeface="Arial"/>
              </a:rPr>
              <a:t>Obr. 7 NOVÁK, Petr. Wikipedie, Otevřená encyklopedie. NOVÁK, Petr. </a:t>
            </a:r>
            <a:r>
              <a:rPr b="0" i="1" lang="cs-CZ" sz="1200" spc="-1" strike="noStrike">
                <a:solidFill>
                  <a:srgbClr val="003366"/>
                </a:solidFill>
                <a:latin typeface="Arial"/>
              </a:rPr>
              <a:t>Wikipedie</a:t>
            </a:r>
            <a:r>
              <a:rPr b="0" lang="cs-CZ" sz="1200" spc="-1" strike="noStrike">
                <a:solidFill>
                  <a:srgbClr val="003366"/>
                </a:solidFill>
                <a:latin typeface="Arial"/>
              </a:rPr>
              <a:t> [online]. 2009-07-04. [cit. 2013-11-29]. Dostupné z: http://cs.wikipedia.org/wiki/Soubor:Milos_Forman.jpg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34440" indent="-334440"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3366"/>
                </a:solidFill>
                <a:latin typeface="Arial"/>
              </a:rPr>
              <a:t>Obr.8 NOJIN. Wikipedie, Otevřená encyklopedie. NOVÁK, Petr. </a:t>
            </a:r>
            <a:r>
              <a:rPr b="0" i="1" lang="cs-CZ" sz="1200" spc="-1" strike="noStrike">
                <a:solidFill>
                  <a:srgbClr val="003366"/>
                </a:solidFill>
                <a:latin typeface="Arial"/>
              </a:rPr>
              <a:t>Wikipedie</a:t>
            </a:r>
            <a:r>
              <a:rPr b="0" lang="cs-CZ" sz="1200" spc="-1" strike="noStrike">
                <a:solidFill>
                  <a:srgbClr val="003366"/>
                </a:solidFill>
                <a:latin typeface="Arial"/>
              </a:rPr>
              <a:t> [online]. 2012-10-15. [cit. 2013-11-29]. Dostupné z: http://cs.wikipedia.org/wiki/Soubor:Blanka-Matragi.jpg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34440" indent="-334440"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3366"/>
                </a:solidFill>
                <a:latin typeface="Arial"/>
              </a:rPr>
              <a:t>Obr. 9 ORTMANN, František. Wikipedia, Otevřená encyklopedie. </a:t>
            </a:r>
            <a:r>
              <a:rPr b="0" i="1" lang="cs-CZ" sz="1200" spc="-1" strike="noStrike">
                <a:solidFill>
                  <a:srgbClr val="003366"/>
                </a:solidFill>
                <a:latin typeface="Arial"/>
              </a:rPr>
              <a:t>Wikipedie</a:t>
            </a:r>
            <a:r>
              <a:rPr b="0" lang="cs-CZ" sz="1200" spc="-1" strike="noStrike">
                <a:solidFill>
                  <a:srgbClr val="003366"/>
                </a:solidFill>
                <a:latin typeface="Arial"/>
              </a:rPr>
              <a:t> [online]. 2002. vyd. [cit. 2013-11-29]. Dostupné z: http://cs.wikipedia.org/wiki/Soubor:Kg-foto13.jpg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34440" indent="-334440"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3366"/>
                </a:solidFill>
                <a:latin typeface="Arial"/>
              </a:rPr>
              <a:t>Obr. 10 YUME, S. Wikipedia, Otevřená encyklopedie. </a:t>
            </a:r>
            <a:r>
              <a:rPr b="0" i="1" lang="cs-CZ" sz="1200" spc="-1" strike="noStrike">
                <a:solidFill>
                  <a:srgbClr val="003366"/>
                </a:solidFill>
                <a:latin typeface="Arial"/>
              </a:rPr>
              <a:t>Wikipedie</a:t>
            </a:r>
            <a:r>
              <a:rPr b="0" lang="cs-CZ" sz="1200" spc="-1" strike="noStrike">
                <a:solidFill>
                  <a:srgbClr val="003366"/>
                </a:solidFill>
                <a:latin typeface="Arial"/>
              </a:rPr>
              <a:t> [online]. 2010-02-20. [cit. 2013-11-29]. Dostupné z: http://cs.wikipedia.org/wiki/Soubor:Jagr_Czech1.png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37680" indent="0">
              <a:spcBef>
                <a:spcPts val="300"/>
              </a:spcBef>
              <a:buNone/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37680" indent="0">
              <a:spcBef>
                <a:spcPts val="700"/>
              </a:spcBef>
              <a:buNone/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539640" y="62064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Who is it?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771640" y="2060640"/>
            <a:ext cx="3378240" cy="38224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2611440" y="589752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br.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Jan Amos Komenský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16000" y="2325600"/>
            <a:ext cx="3290760" cy="372276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3506760" y="2447640"/>
            <a:ext cx="5400720" cy="37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7280" indent="-557280"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728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he bishop, thinker, philosopher and writ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57280" indent="-557280"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728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he author of many philosophical work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57280" indent="-557280"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728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he founder of modern pedagog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57280" indent="-557280"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728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ickname – Teacher Nat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3280" y="6191280"/>
            <a:ext cx="12463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br.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dur="indefinite" fill="hold">
                      <p:stCondLst>
                        <p:cond delay="indefinite"/>
                      </p:stCondLst>
                      <p:childTnLst>
                        <p:par>
                          <p:cTn id="5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4" dur="2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dur="indefinite" fill="hold">
                      <p:stCondLst>
                        <p:cond delay="indefinite"/>
                      </p:stCondLst>
                      <p:childTnLst>
                        <p:par>
                          <p:cTn id="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9" dur="2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dur="indefinite" fill="hold">
                      <p:stCondLst>
                        <p:cond delay="indefinite"/>
                      </p:stCondLst>
                      <p:childTnLst>
                        <p:par>
                          <p:cTn id="6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4" dur="2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dur="indefinite" fill="hold">
                      <p:stCondLst>
                        <p:cond delay="indefinite"/>
                      </p:stCondLst>
                      <p:childTnLst>
                        <p:par>
                          <p:cTn id="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9" dur="20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Who is it?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368520" y="2362320"/>
            <a:ext cx="2629080" cy="37224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920960" y="6119640"/>
            <a:ext cx="12459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br.2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Tomáš G. Masaryk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68360" y="2254320"/>
            <a:ext cx="2628720" cy="37227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095560" y="596916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br.2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743280" y="2296800"/>
            <a:ext cx="5113440" cy="37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7280" indent="-557280"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728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ne of the most  importa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58720" indent="0">
              <a:spcBef>
                <a:spcPts val="700"/>
              </a:spcBef>
              <a:buNone/>
              <a:tabLst>
                <a:tab algn="l" pos="0"/>
                <a:tab algn="l" pos="55728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ersonalities of our n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57280" indent="-557280"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728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he first president of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58720" indent="0">
              <a:spcBef>
                <a:spcPts val="700"/>
              </a:spcBef>
              <a:buNone/>
              <a:tabLst>
                <a:tab algn="l" pos="0"/>
                <a:tab algn="l" pos="55728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zechoslavak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57280" indent="-557280"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728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was seventeen tim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58720" indent="0">
              <a:spcBef>
                <a:spcPts val="700"/>
              </a:spcBef>
              <a:buNone/>
              <a:tabLst>
                <a:tab algn="l" pos="0"/>
                <a:tab algn="l" pos="55728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ominated for the Nob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58720" indent="0">
              <a:spcBef>
                <a:spcPts val="700"/>
              </a:spcBef>
              <a:buNone/>
              <a:tabLst>
                <a:tab algn="l" pos="0"/>
                <a:tab algn="l" pos="55728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eace Priz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dur="indefinite" fill="hold">
                      <p:stCondLst>
                        <p:cond delay="indefinite"/>
                      </p:stCondLst>
                      <p:childTnLst>
                        <p:par>
                          <p:cTn id="7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6" dur="2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dur="indefinite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9" dur="2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dur="indefinite" fill="hold">
                      <p:stCondLst>
                        <p:cond delay="indefinite"/>
                      </p:stCondLst>
                      <p:childTnLst>
                        <p:par>
                          <p:cTn id="8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4" dur="2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dur="indefinite" fill="hold">
                      <p:stCondLst>
                        <p:cond delay="indefinite"/>
                      </p:stCondLst>
                      <p:childTnLst>
                        <p:par>
                          <p:cTn id="8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9" dur="2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dur="indefinite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2" dur="20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dur="indefinite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5" dur="20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Who is it?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132000" y="2421000"/>
            <a:ext cx="2968920" cy="33955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879560" y="575316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br.3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3400" y="750960"/>
            <a:ext cx="7778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Václav Have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00160" y="2232000"/>
            <a:ext cx="3255840" cy="372276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672000" y="2125800"/>
            <a:ext cx="5254560" cy="41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7280" indent="-557280"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728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 Czech playwright, essayist,critic of the communist regim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57280" indent="-557280"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728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fter the Velvet Revolu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58720" indent="0">
              <a:spcBef>
                <a:spcPts val="700"/>
              </a:spcBef>
              <a:buNone/>
              <a:tabLst>
                <a:tab algn="l" pos="0"/>
                <a:tab algn="l" pos="55728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e become the last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58720" indent="0">
              <a:spcBef>
                <a:spcPts val="700"/>
              </a:spcBef>
              <a:buNone/>
              <a:tabLst>
                <a:tab algn="l" pos="0"/>
                <a:tab algn="l" pos="55728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esident of Czechoslovak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58720" indent="0">
              <a:spcBef>
                <a:spcPts val="700"/>
              </a:spcBef>
              <a:buNone/>
              <a:tabLst>
                <a:tab algn="l" pos="0"/>
                <a:tab algn="l" pos="55728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nd first president of th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58720" indent="0">
              <a:spcBef>
                <a:spcPts val="700"/>
              </a:spcBef>
              <a:buNone/>
              <a:tabLst>
                <a:tab algn="l" pos="0"/>
                <a:tab algn="l" pos="55728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zech Republic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09680" y="6191280"/>
            <a:ext cx="12459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br.3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dur="indefinite" fill="hold">
                      <p:stCondLst>
                        <p:cond delay="indefinite"/>
                      </p:stCondLst>
                      <p:childTnLst>
                        <p:par>
                          <p:cTn id="9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2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dur="indefinite" fill="hold">
                      <p:stCondLst>
                        <p:cond delay="indefinite"/>
                      </p:stCondLst>
                      <p:childTnLst>
                        <p:par>
                          <p:cTn id="10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7" dur="2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dur="indefinite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0" dur="2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dur="indefinite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3" dur="20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dur="indefinite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6" dur="20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dur="indefinite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9" dur="20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Who is it?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316320" y="2398680"/>
            <a:ext cx="2736720" cy="36511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2035080" y="568152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br.4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9T12:24:12Z</dcterms:created>
  <dc:creator>zikmundova</dc:creator>
  <dc:description/>
  <dc:language>en-US</dc:language>
  <cp:lastModifiedBy>zikmundova</cp:lastModifiedBy>
  <dcterms:modified xsi:type="dcterms:W3CDTF">2013-11-29T13:11:41Z</dcterms:modified>
  <cp:revision>16</cp:revision>
  <dc:subject/>
  <dc:title>The Czech Republic</dc:title>
</cp:coreProperties>
</file>