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1BB-23D6-4123-BD56-0A3F7FD0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13E-F58E-4E8A-92FA-D2948970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5A0-CCE8-461A-B3EE-39D61833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656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46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656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46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372-EFBB-4438-AD61-65DBA17C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5C61-088F-4CCD-B348-607BEEB4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9C0-BC07-4485-8064-C146E183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D64A-DC07-45AE-A88C-77C3EE1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7FB1-0F24-41DD-B568-5D7A48B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31B-55F9-47E3-8BF6-871AC499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400" y="833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23C9-3C9E-4A6E-871C-D268819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1421-E03B-4EAA-A446-80DC782E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A5A-8B05-49F0-8E59-1CB22B9F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8C57-F737-4E87-9C14-CC09CE07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797E-F149-47FE-96A0-5D00F65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5DF4-0FC9-497C-B08B-28D552E1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7003-AE64-40F1-847F-707AB429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656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46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656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46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1136-2370-459A-A8E8-F28FF6D1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279-2342-4AA8-B542-1A75FBB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11E-0249-47D9-8E18-F378E1E5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03C-62C1-450F-8866-97CB763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BD9-3F32-4C04-B49D-122B3F04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D9E-D26D-4445-B21C-8F5DFB8F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19E-CCDB-4A88-A789-14907CC7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882-A4B1-4354-A984-152269F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2200" cy="6850080"/>
            <a:chOff x="0" y="0"/>
            <a:chExt cx="761220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2480" cy="6850080"/>
              <a:chOff x="0" y="0"/>
              <a:chExt cx="3192480" cy="68500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4200" cy="685008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5280" cy="11588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83600" cy="311400"/>
              <a:chOff x="228600" y="1981080"/>
              <a:chExt cx="7383600" cy="31140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2720" cy="30960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85920" cy="31140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25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89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792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4EFB2-CDC9-43A5-856B-C699B44A1C6A}" type="slidenum">
              <a:rPr b="0" lang="cs-CZ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59360" cy="6850080"/>
            <a:chOff x="0" y="0"/>
            <a:chExt cx="5859360" cy="685008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64080" cy="68500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73560" cy="18968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69000" cy="311040"/>
            <a:chOff x="3632040" y="4889520"/>
            <a:chExt cx="4869000" cy="31104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16640" cy="3096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2360" cy="31104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25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89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792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277DB2-C712-4F6F-B014-76EB5D348779}" type="slidenum">
              <a: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64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Europe.svg" TargetMode="External"/><Relationship Id="rId2" Type="http://schemas.openxmlformats.org/officeDocument/2006/relationships/hyperlink" Target="http://cs.wikipedia.org/wiki/Soubor:Euro_banknotes.pn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5560" y="5780160"/>
            <a:ext cx="78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900" spc="-1" strike="noStrike">
                <a:solidFill>
                  <a:srgbClr val="003366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620640"/>
          <a:ext cx="6841800" cy="4763880"/>
        </p:xfrm>
        <a:graphic>
          <a:graphicData uri="http://schemas.openxmlformats.org/drawingml/2006/table">
            <a:tbl>
              <a:tblPr/>
              <a:tblGrid>
                <a:gridCol w="1562040"/>
                <a:gridCol w="1891440"/>
                <a:gridCol w="830160"/>
                <a:gridCol w="136800"/>
                <a:gridCol w="136440"/>
                <a:gridCol w="399960"/>
                <a:gridCol w="1008360"/>
                <a:gridCol w="876600"/>
              </a:tblGrid>
              <a:tr h="857160">
                <a:tc gridSpan="2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39320" bIns="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139320" bIns="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160">
                <a:tc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39320" bIns="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139320" bIns="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139320" bIns="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39320" bIns="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39320" bIns="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eská republika a Evropská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120">
                <a:tc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uropean Uni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osinec  20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440">
                <a:tc gridSpan="8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zentace k seznámení s Evropskou unií a jejími cíl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6320">
                <a:tc gridSpan="8">
                  <a:txBody>
                    <a:bodyPr lIns="68760" rIns="68760" tIns="139320" bIns="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usťte prezentac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Vysvětlete jednotlivé snímk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Nechte studenty diskutovat o výhodách a nevýhodách členů Evropské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1332000" y="765000"/>
            <a:ext cx="3884400" cy="839880"/>
            <a:chOff x="1332000" y="765000"/>
            <a:chExt cx="3884400" cy="83988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332000" y="765000"/>
              <a:ext cx="289728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3280" y="898560"/>
              <a:ext cx="573120" cy="573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isadvantages of being EU memb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riminals can cross the frontiers more eas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errorism, prostitutions, drugs, smuggl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anks to the open trade – traffic is heav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increasing pollu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lot of foreign products – little support for the domestic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e are under the control of the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 Wikipedia The Free Encyclopedia. HEITZ, Arsène. Wikipedia [online]. [cit. 2013-12-30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wikipedia.org/wiki/File:Flag_of_Europe.sv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2 NETZLER, Andrew. Wikipedie Otevřená encyklopedie. Wikipedie [online]. 2008-06-28. [cit. 2014-01-05]. Dostupný pod licencí Creative Commons na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s.wikipedia.org/wiki/Soubor:Euro_banknotes.p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3 Member state of the European Union. (2014, January 1). In Wikipedia, The Free Encyclopedia. Retrieved 18:58, January 5, 2014, from http://en.wikipedia.org/w/index.php?title=Member_state_of_the_European_Union&amp;oldid=58869683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European Union (EU) is a family of democratic European countries, committed to working together for peace and prosperity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 Member States remain independent sovereign state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tto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nited in diversity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nthem: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e to Joy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 Ludwig van Beethov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urope Day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cs-CZ" sz="26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May is celebrated as EU´birthday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02920" y="2087640"/>
            <a:ext cx="408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2960" indent="0">
              <a:spcBef>
                <a:spcPts val="700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49720" indent="-548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circle of 12 five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2960" indent="0">
              <a:spcBef>
                <a:spcPts val="700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inted gold (yell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2960" indent="0">
              <a:spcBef>
                <a:spcPts val="700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s on a blue 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49720" indent="-548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bolize the ideals of unity, solidarity and harmory among the peoples of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uropean fla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78280" y="2973240"/>
            <a:ext cx="3753000" cy="2500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64240" y="23385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1280" y="5688000"/>
            <a:ext cx="1551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The Eu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5840" y="2362320"/>
            <a:ext cx="509580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 1999 twelve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cided to share one ty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f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Euro was first used 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tional currency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icipating countries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72000" y="2460600"/>
            <a:ext cx="3527640" cy="286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65680" y="569916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3040" y="431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embers of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1640" y="1510920"/>
            <a:ext cx="76899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52 – Belgium, France, Germany, Italy, Luxemburg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73 – Denmark, Ireland, the 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81 – Gree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86 – Spain, Portug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95 – Austria, Swedene, Finl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4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he Czech Republ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Estoni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tvia, Mal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thuania, Poland, Slovakia, Slovenia, Hunga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Cypr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7 – Romania, Bulg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13 - Croat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66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28720" y="2087640"/>
            <a:ext cx="5543640" cy="4392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6600" y="6119640"/>
            <a:ext cx="124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ims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2376000"/>
            <a:ext cx="8136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33160" indent="-533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work together to make economies work b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160" indent="-533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maintain peace in Europe and other countries in the wor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160" indent="-533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help poor and developing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160" indent="-533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support study and work exchanges betw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160" indent="-533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understand, appreciate and respect 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ulture and traditions to unite Europ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dvantages of being EU member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442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you can travel from one country to other with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ust a passport or identity car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you can study, work or live in any other EU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you can sell or buy goods easier thanks to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ne Single Market and single currenc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5480" indent="-55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54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 small country is getting stronger if it is a part of EU political and economic syste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4:12Z</dcterms:created>
  <dc:creator>zikmundova</dc:creator>
  <dc:description/>
  <dc:language>en-US</dc:language>
  <cp:lastModifiedBy>zikmundova</cp:lastModifiedBy>
  <dcterms:modified xsi:type="dcterms:W3CDTF">2013-11-20T13:11:29Z</dcterms:modified>
  <cp:revision>13</cp:revision>
  <dc:subject/>
  <dc:title>The Czech Republic</dc:title>
</cp:coreProperties>
</file>