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E07E0-44B2-4785-B097-763B046BB6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A9539-B341-4D85-AE15-91DC61BEE9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ED4C2-5C37-4967-8CEE-A71A5D4135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201A2-E588-47A9-92D1-DBC4C09309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9A06D-B0B9-4576-93B1-CE6EC03A94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D57FF-8DC9-4CE9-8068-E09FCEE239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54783-4CFD-4200-A3E0-81316B610D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25F81-1D64-4305-8FD7-A473F6F330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6D8C7-AD22-47AE-906A-5EDA031DE8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F8336-7034-4C2E-9F9A-99BB8C9B3E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DE60-71E1-4CC5-BD2C-34053D4AA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778A-E3A0-4C4A-866C-7005A218B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582D-B6B1-4AC3-8251-E51050015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A115-A408-493B-84B3-8E2405BD6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00AB-E83C-43ED-8FA7-A4A3DD687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DFF7-F7AE-45C6-B005-23FD4F448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9B4C-6F54-417F-8545-B46E7D3A8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E486-D5CD-46E0-8685-C0442C095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27B9-3717-4066-9D54-5CC88588C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C264-388F-45CD-BFE0-ACD030029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6E06-ED60-4273-A29F-6AEFDB968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D73C-04A2-455E-B7A8-51A9A31CF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DAE87-F171-4293-8A80-1B6EFF62D354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187280" y="826920"/>
          <a:ext cx="7059960" cy="4586400"/>
        </p:xfrm>
        <a:graphic>
          <a:graphicData uri="http://schemas.openxmlformats.org/drawingml/2006/table">
            <a:tbl>
              <a:tblPr/>
              <a:tblGrid>
                <a:gridCol w="1633680"/>
                <a:gridCol w="1981080"/>
                <a:gridCol w="871560"/>
                <a:gridCol w="155880"/>
                <a:gridCol w="155520"/>
                <a:gridCol w="392040"/>
                <a:gridCol w="1054080"/>
                <a:gridCol w="816120"/>
              </a:tblGrid>
              <a:tr h="1089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eská republika, Evropská Uni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uny surround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řezen 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řetí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k poznání zajímavých míst a kulturních akcí okolí Lo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0">
                <a:tc gridSpan="8">
                  <a:txBody>
                    <a:bodyPr lIns="68760" rIns="68760" tIns="0" bIns="0" anchor="t">
                      <a:noAutofit/>
                    </a:bodyPr>
                    <a:p>
                      <a:pPr marL="533520" indent="-533520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8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hte žáky odpovědět na úvodní otázk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8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znamte je se zajímavými místy a kulturními akcemi okolí Lou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8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zvěte žáky, aby vytvořili prezentaci a přednesli ji před třído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3" name="Group 88"/>
          <p:cNvGrpSpPr/>
          <p:nvPr/>
        </p:nvGrpSpPr>
        <p:grpSpPr>
          <a:xfrm>
            <a:off x="1476360" y="838080"/>
            <a:ext cx="3886200" cy="841320"/>
            <a:chOff x="1476360" y="838080"/>
            <a:chExt cx="3886200" cy="841320"/>
          </a:xfrm>
        </p:grpSpPr>
        <p:pic>
          <p:nvPicPr>
            <p:cNvPr id="54" name="Picture 89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8987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90" descr=""/>
            <p:cNvPicPr/>
            <p:nvPr/>
          </p:nvPicPr>
          <p:blipFill>
            <a:blip r:embed="rId2"/>
            <a:stretch/>
          </p:blipFill>
          <p:spPr>
            <a:xfrm>
              <a:off x="4788000" y="971640"/>
              <a:ext cx="574560" cy="57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91"/>
          <p:cNvSpPr/>
          <p:nvPr/>
        </p:nvSpPr>
        <p:spPr>
          <a:xfrm>
            <a:off x="1332000" y="6093000"/>
            <a:ext cx="684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Ing. Helena Zikmundová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 1802-4785, financovaného z ESF a státního rozpočtu ČR. Provozováno Výzkumným ústavem pedagogickým v Praz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1 KARELJ. Wikipedia Commons. Wikipedia [online]. 2009 October. [cit. 2014-03-25]. Dostupné pod licencí Creative Commons na http://commons.wikimedia.org/wiki/File:Kounov_kamenn%C3%A9_%C5%99ady_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2 ŠJŮ. Wikipedia Commons. Wikipedia [online]. 2009-01-25. [cit. 2014-03-25]. Dostupné pod licencí Creative Commons na http://commons.wikimedia.org/wiki/File:Pravda,_vstupn%C3%AD_l%C3%A1vka_(01).jpg?uselang=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3 VAVŘÍK, Martin. Wikimedia Commons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medi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09-04-10. [cit. 2014-03-26]. Dostupné pod licenci Creative Commons na: http://commons.wikimedia.org/wiki/File:PanenskyTynec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4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IAOW MIAOW. Wikimedia Commons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medi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04 April. [cit. 2014-03-26]. Dostupné pod licencí Creatice Commons na: http://commons.wikimedia.org/wiki/File:Klobuky_CZ_Zkamenely_pastyr_093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5 BOSQUETE. Wikipedia Commons. Wikipedia [online]. 2010-09-05. [cit. 2014-03-25]. Dostupné po licenc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ublic Domain na : http://commons.wikimedia.org/wiki/File:NovyHrad_vez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6. KRIPLOZOIK. Wikipedia Commons. Wikipedia [online]. 2008-09-14. [cit. 2014-03-25]. Dostupné pod licencí Creative Commons na: http://commons.wikimedia.org/wiki/File:Citoliby_sloup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7 GERETPBELT. Wikipedia Commons. Wikipedia [online]. 2012-06-09. [cit. 2014-03-25]. Dostupné pod licencí Creative Commons na: http://commons.wikimedia.org/wiki/File:Dub_peruc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8 JIRKA DI. Wikipedia Commons. Wikipedia [online]. 2011-04-25. [cit. 2014-03-25]. Dostupné pod licencí Creative Commons na: http://commons.wikimedia.org/wiki/File:Peruc_-_Bo%C5%BEenina_stud%C3%A1nk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9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LF-DRESDEN. Wikimedia Commons. [online]. 2006-05-01. [cit. 2014-03-26]. Dostupné pod licencí Creatice Commons na: http://commons.wikimedia.org/wiki/File:Rana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10 AHZ. Wikipedia Commons. Wikipedia [online]. 2007-07-10. [cit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2014-03-25]. Dostupné pod licencí Creative Commons na: http://commons.wikimedia.org/wiki/File:Oblik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ouny surou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at interesting historical or mysterious places near Louny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ich hills near Louny have you clim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ere would you go for a one-day cycle t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at cultural events would you invite your English speaking fri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cal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191280" y="1224000"/>
            <a:ext cx="2376360" cy="30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295280" y="1455840"/>
            <a:ext cx="3364200" cy="2503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4179600"/>
            <a:ext cx="822492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tle Pravda – ruins of the castle founded in the 15</a:t>
            </a:r>
            <a:r>
              <a:rPr b="0" lang="cs-CZ" sz="28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-historic setlement surrounded by a double wall and stone rows by Kounov – west of Domouš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12680" y="374328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079960" y="374328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ysterious p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PanenskyTynec"/>
          <p:cNvPicPr/>
          <p:nvPr/>
        </p:nvPicPr>
        <p:blipFill>
          <a:blip r:embed="rId1"/>
          <a:stretch/>
        </p:blipFill>
        <p:spPr>
          <a:xfrm>
            <a:off x="900000" y="1511280"/>
            <a:ext cx="3029040" cy="2271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935160"/>
            <a:ext cx="8223120" cy="21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finished gothic cathedral in Panenský Týn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nergy mysterious place with a rich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 biggest Czech menhirs at Klobu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sociated with the legend of Stone Shephe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80720" y="314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4" descr="800px-Klobuky_CZ_Zkamenely_pastyr_093"/>
          <p:cNvPicPr/>
          <p:nvPr/>
        </p:nvPicPr>
        <p:blipFill>
          <a:blip r:embed="rId2"/>
          <a:stretch/>
        </p:blipFill>
        <p:spPr>
          <a:xfrm>
            <a:off x="5364000" y="1413000"/>
            <a:ext cx="3198960" cy="2400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/>
          <p:cNvSpPr/>
          <p:nvPr/>
        </p:nvSpPr>
        <p:spPr>
          <a:xfrm>
            <a:off x="4552920" y="3232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astles and chate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63640" y="1300320"/>
            <a:ext cx="3887640" cy="244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945040" y="1295280"/>
            <a:ext cx="2735280" cy="3368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280" y="4106880"/>
            <a:ext cx="82249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mlín chateaux Nový 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rich cultural and educational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toliby Baroque statues by Matyas B. Bra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toliby masters´s music from 18</a:t>
            </a:r>
            <a:r>
              <a:rPr b="0" lang="cs-CZ" sz="28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1400" y="367200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040360" y="367200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ld Czech leg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368360" y="1295280"/>
            <a:ext cx="1917720" cy="267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5688000" y="1211400"/>
            <a:ext cx="1944720" cy="2676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3960720"/>
            <a:ext cx="822492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ruc Oldřich´s oak and Božena´s d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wo places reminding legendary 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Přemyslid dynasty from extinction by the 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73040" y="324000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464000" y="3384720"/>
            <a:ext cx="119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p to the h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800px-Rana"/>
          <p:cNvPicPr/>
          <p:nvPr/>
        </p:nvPicPr>
        <p:blipFill>
          <a:blip r:embed="rId1"/>
          <a:stretch/>
        </p:blipFill>
        <p:spPr>
          <a:xfrm>
            <a:off x="900000" y="1413000"/>
            <a:ext cx="3173400" cy="238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363640" y="1599840"/>
            <a:ext cx="273708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935160"/>
            <a:ext cx="8223120" cy="21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á - basaltic solitary massif known for for flying gliders, hang gliders and paragli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ík - National Nature Reserve with many rare protected plant and insects speci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183120" cy="2386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4176720" y="332424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44360" y="3384720"/>
            <a:ext cx="1398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ultural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unské vábení - an annual cultural event with several music stages, sport competitions, workshops and many food and beer st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en Air Festival Panenský Týnec – multi-genre festival for all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movka Louny – a restaurant and open-air natural space for small concerts and re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670280" y="1600200"/>
            <a:ext cx="40132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57200" y="3960720"/>
            <a:ext cx="8224920" cy="21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sk -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situ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group of English-speaking friends have come to see you to Lou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pare a nice  culture-sport programme for a wee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plain them what they are going to do and what they are going to see and get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ke a presentation to you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9:50:48Z</dcterms:created>
  <dc:creator>jukl</dc:creator>
  <dc:description/>
  <dc:language>en-US</dc:language>
  <cp:lastModifiedBy>Václav Jukl</cp:lastModifiedBy>
  <dcterms:modified xsi:type="dcterms:W3CDTF">2014-05-05T17:33:13Z</dcterms:modified>
  <cp:revision>8</cp:revision>
  <dc:subject/>
  <dc:title>Snímek 1</dc:title>
</cp:coreProperties>
</file>