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997D-D9B7-4758-9029-F56D69E57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708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FA45-2F25-445E-A043-FD428407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708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05BC-B0B6-41A6-B117-C61A25CF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708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FDDA-1732-4459-9455-EB1BD418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2047-9979-413D-8F7B-7B30D8DAB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708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4EC3-5658-445F-9782-CA259E1C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708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6A68-40E9-4068-9A3E-AD899E56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708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1E7E-CF0B-4B5E-ABC0-77668AA0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708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D8C2-086F-4681-88E1-65AE4BA7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3040" y="750960"/>
            <a:ext cx="777708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F522-6F6F-4506-A5D8-17DE708B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708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E6CB-46CC-4368-904E-A4F801F4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708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F765-7324-449B-BB46-C9DAACB6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708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7122-E717-437B-A960-C8B8F087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708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44C0-AE11-47E2-988A-FB31EC21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708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C8AB-0BF7-47DE-98E6-F7D8CB73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708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4210-E608-4637-8C34-0BA1B64C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708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EDD4-8D06-4B23-A8B3-DFCD6435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708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56AB-0DEC-49D8-B162-8E372C9A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708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1F88-7C04-4201-B636-99FE5E5A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708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5A4B-6349-431B-9CA6-533014F4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3040" y="750960"/>
            <a:ext cx="777708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72B6-25DA-4F29-AFAF-615ED96F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708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064E-79B5-4693-AC86-80D91C92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708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6FCB-EAC1-4B35-ACFC-B1579CBE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708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9FA5-EC46-45A1-9FBA-956F7F4A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18320" cy="6856560"/>
            <a:chOff x="0" y="0"/>
            <a:chExt cx="761832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240" y="1981080"/>
              <a:ext cx="7390080" cy="317520"/>
              <a:chOff x="228240" y="1981080"/>
              <a:chExt cx="7390080" cy="3175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08840" cy="3160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7880" y="1981080"/>
                <a:ext cx="39204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7708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7920" y="6248160"/>
            <a:ext cx="21272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160"/>
            <a:ext cx="2894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41680"/>
            <a:ext cx="583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E2446-09B4-431E-AA06-8D4DC4FD0D28}" type="slidenum">
              <a:rPr b="0" lang="en-GB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5840" cy="6856560"/>
            <a:chOff x="0" y="0"/>
            <a:chExt cx="5865840" cy="685656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0560" cy="68565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0040" cy="1903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5480" cy="317520"/>
            <a:chOff x="3632040" y="4889520"/>
            <a:chExt cx="4875480" cy="31752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4560" cy="3157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58840" cy="3175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7920" y="6248160"/>
            <a:ext cx="21272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160"/>
            <a:ext cx="2894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46720"/>
            <a:ext cx="583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EE45B43-2688-439D-B48E-C71A6D9FA770}" type="slidenum">
              <a:rPr b="1" lang="en-GB" sz="26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720"/>
            <a:ext cx="7669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55560" y="5778360"/>
            <a:ext cx="78343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900" spc="-1" strike="noStrike">
                <a:solidFill>
                  <a:srgbClr val="003366"/>
                </a:solidFill>
                <a:latin typeface="Arial"/>
              </a:rPr>
              <a:t>Autorem materiálu a všech jeho částí, není-li uvedeno jinak, je  Ing. Helena Zikmundová. Dostupné z Metodického portálu www.rvp.cz, ISSN: 1802-4785. Provozuje Národní ústav pro vzdělávání, školské poradenské zařízení a zařízení pro další vzdělávání pedagogických pracovníků (NÚV).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116000" y="620640"/>
          <a:ext cx="6841800" cy="4754160"/>
        </p:xfrm>
        <a:graphic>
          <a:graphicData uri="http://schemas.openxmlformats.org/drawingml/2006/table">
            <a:tbl>
              <a:tblPr/>
              <a:tblGrid>
                <a:gridCol w="1562040"/>
                <a:gridCol w="1891440"/>
                <a:gridCol w="830160"/>
                <a:gridCol w="136800"/>
                <a:gridCol w="136440"/>
                <a:gridCol w="399960"/>
                <a:gridCol w="1008360"/>
                <a:gridCol w="876600"/>
              </a:tblGrid>
              <a:tr h="1042920">
                <a:tc gridSpan="2">
                  <a:txBody>
                    <a:bodyPr lIns="68760" rIns="68760" tIns="3024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30240" bIns="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30240" bIns="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Obchodní akademie a Střední odborná škola, gen. F. Fajtla, Louny, p.o.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Osvoboditelů 380, Louny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6120">
                <a:tc>
                  <a:txBody>
                    <a:bodyPr lIns="68760" rIns="68760" tIns="3024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Číslo projektu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0240" bIns="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CZ.1.07/1.5.00/34.00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30240" bIns="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Číslo sady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30240" bIns="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30240" bIns="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Číslo DUM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0240" bIns="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760" rIns="68760" tIns="3024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Předmět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3024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nglický jazyk - konverzac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68760" rIns="68760" tIns="3024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ematický okruh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3024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Česká republika a Evropská Uni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7440">
                <a:tc>
                  <a:txBody>
                    <a:bodyPr lIns="68760" rIns="68760" tIns="3024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Název materiálu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3024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Mácha lak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>
                  <a:txBody>
                    <a:bodyPr lIns="68760" rIns="68760" tIns="3024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utor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3024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Ing. Helena Zikmundová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>
                  <a:txBody>
                    <a:bodyPr lIns="68760" rIns="68760" tIns="3024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atum tvorby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024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listopad 20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3024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Ročník  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3024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řetí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gridSpan="8">
                  <a:txBody>
                    <a:bodyPr lIns="68760" rIns="68760" tIns="3024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onverzační cvičení k tématu dovolená v České republic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46800">
                <a:tc gridSpan="8">
                  <a:txBody>
                    <a:bodyPr lIns="68760" rIns="68760" tIns="3024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Metodický pokyn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 Uveďte úvodní kvíz o Máchově jezeř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 Nechte studenty rozdělit slovní zásobu podle instrukcí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 Vyzvěte studenty k role -play aktivitě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1332000" y="765000"/>
            <a:ext cx="3890880" cy="846360"/>
            <a:chOff x="1332000" y="765000"/>
            <a:chExt cx="3890880" cy="84636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332000" y="765000"/>
              <a:ext cx="2903400" cy="84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4643280" y="898560"/>
              <a:ext cx="579600" cy="5792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Mácha Lake Quiz tes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Máchovo lake is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1720" indent="0">
              <a:spcBef>
                <a:spcPts val="601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a)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a lak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1720" indent="0">
              <a:spcBef>
                <a:spcPts val="601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b)a large po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1720" indent="0">
              <a:spcBef>
                <a:spcPts val="601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1720" indent="0">
              <a:spcBef>
                <a:spcPts val="601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1720" indent="0">
              <a:spcBef>
                <a:spcPts val="601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b)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a large po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170080" indent="0">
              <a:spcBef>
                <a:spcPts val="400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  <a:ea typeface="Arial Unicode MS"/>
              </a:rPr>
              <a:t>2. It was founded b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  <a:ea typeface="Arial Unicode MS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  <a:ea typeface="Arial Unicode MS"/>
              </a:rPr>
              <a:t>a) Charles IV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3366"/>
                </a:solidFill>
                <a:latin typeface="Arial"/>
                <a:ea typeface="Arial Unicode MS"/>
              </a:rPr>
              <a:t>b) Karel Hynek Mácha</a:t>
            </a:r>
            <a:br>
              <a:rPr sz="18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  <a:ea typeface="Arial Unicode MS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  <a:ea typeface="Arial Unicode MS"/>
              </a:rPr>
              <a:t>a)  Charles I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Mácha Lake Quiz tes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3.It is situa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a)  in Liberecký reg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b) in Ústecký reg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a) in Liberecký reg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8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  <a:ea typeface="Arial Unicode MS"/>
              </a:rPr>
              <a:t>4. It is used f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  <a:ea typeface="Arial Unicode MS"/>
              </a:rPr>
              <a:t>a)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  <a:ea typeface="Arial Unicode MS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  <a:ea typeface="Arial Unicode MS"/>
              </a:rPr>
              <a:t> breeding fis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  <a:ea typeface="Arial Unicode MS"/>
              </a:rPr>
              <a:t>b) recreation and water spor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  <a:ea typeface="Arial Unicode MS"/>
              </a:rPr>
              <a:t>b) recreation and water spor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33400" y="696960"/>
            <a:ext cx="77803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ivide the vocabulary into three groups: </a:t>
            </a:r>
            <a:br>
              <a:rPr sz="2800"/>
            </a:br>
            <a:br>
              <a:rPr sz="2400"/>
            </a:b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activities,  places,  spor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pedal boa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tent campsi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hotel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cross bik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boat hi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cycling rout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sandy beach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slid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nudist bea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mountain bik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restauran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  <a:ea typeface="Arial Unicode MS"/>
              </a:rPr>
              <a:t>changing room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  <a:ea typeface="Arial Unicode MS"/>
              </a:rPr>
              <a:t>fast food stall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  <a:ea typeface="Arial Unicode MS"/>
              </a:rPr>
              <a:t>beach voleybal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  <a:ea typeface="Arial Unicode MS"/>
              </a:rPr>
              <a:t>bike rent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  <a:ea typeface="Arial Unicode MS"/>
              </a:rPr>
              <a:t>windsurfing boa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  <a:ea typeface="Arial Unicode MS"/>
              </a:rPr>
              <a:t>show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  <a:ea typeface="Arial Unicode MS"/>
              </a:rPr>
              <a:t>discothequ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  <a:ea typeface="Arial Unicode MS"/>
              </a:rPr>
              <a:t>big toboga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  <a:ea typeface="Arial Unicode MS"/>
              </a:rPr>
              <a:t>floating water trampoli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  <a:ea typeface="Arial Unicode MS"/>
              </a:rPr>
              <a:t>boat trip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  <a:ea typeface="Arial Unicode MS"/>
              </a:rPr>
              <a:t>life guar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Role play activity – a dialogu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A) You would like to go to Máchovo Lake for two-week holiday. Explaine  your friend that Máchovo Lake is the best place to go and prepare a programme for the sta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  <a:ea typeface="Arial Unicode MS"/>
              </a:rPr>
              <a:t>B) You are going for two-week holiday with your friend. You don´t know Máchovo Lake. Ask questions to your friend about the location, accomodation, food and activities during the sta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2:24:12Z</dcterms:created>
  <dc:creator>zikmundova</dc:creator>
  <dc:description/>
  <dc:language>en-US</dc:language>
  <cp:lastModifiedBy>zikmundova</cp:lastModifiedBy>
  <dcterms:modified xsi:type="dcterms:W3CDTF">2013-11-20T13:11:29Z</dcterms:modified>
  <cp:revision>13</cp:revision>
  <dc:subject/>
  <dc:title>The Czech Republic</dc:title>
</cp:coreProperties>
</file>