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5C6-92A8-4421-AE4B-D399599E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51F-7FA9-4164-90E5-A11AAB48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DAB-DA28-431D-A39C-ABF2CDE2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D81-3B08-43D6-A1C6-F511F05B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CD15-FBAC-4912-8C54-38D849BD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142C-2CA2-425A-A4D5-9DD24B54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3FA7-2FDF-45B6-8373-689A607B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759-EE4D-45ED-86D9-E0FC43B4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0169-ABDC-48AF-9296-4B5AF44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575E-F4CC-4DA7-BA17-CE67C06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BC0-4185-4E39-939D-3923F45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C69-921B-4F55-875F-638112B1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4C6F-6FED-468D-8537-19ECC7E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A723-DE14-44BF-A7DA-475DC1A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42A6-71B2-4653-BD02-0B2284D1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406D-F100-41DA-97E8-17FFB13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B72F-B56C-4D77-B666-F3F4D8F4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ECE-DB73-4859-A2A8-D25E74DF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3BA-1353-459A-946A-92EBEE32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184-E286-4E41-969A-A0F7F70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0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12E-A53B-426E-800C-06084FF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137-3DC5-4BC8-B62B-B9E15BB8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0A0-29D1-41A4-9A6D-D36FCA8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71F-80DD-43A8-B9AA-5F8E69D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0400" cy="6848640"/>
            <a:chOff x="0" y="0"/>
            <a:chExt cx="7610400" cy="684864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1040" cy="6848640"/>
              <a:chOff x="0" y="0"/>
              <a:chExt cx="3191040" cy="684864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2400" cy="684864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3840" cy="115740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2160" cy="309600"/>
              <a:chOff x="228240" y="1981080"/>
              <a:chExt cx="7382160" cy="30960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0920" cy="30816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84120" cy="3096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0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1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87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77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D1D66-271E-4621-A5D2-5D1ACE329F64}" type="slidenum">
              <a:rPr b="0" lang="cs-CZ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57920" cy="6848640"/>
            <a:chOff x="0" y="0"/>
            <a:chExt cx="5857920" cy="684864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2640" cy="68486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2120" cy="1895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67560" cy="309600"/>
            <a:chOff x="3632040" y="4889520"/>
            <a:chExt cx="4867560" cy="30960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15200" cy="3078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0920" cy="309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1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87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160"/>
            <a:ext cx="577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413D2D-EBB9-4A40-B0BB-413DE9013CEC}" type="slidenum">
              <a: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629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European-parliament-brussels-inside.JPG" TargetMode="External"/><Relationship Id="rId2" Type="http://schemas.openxmlformats.org/officeDocument/2006/relationships/hyperlink" Target="http://en.wikipedia.org/wiki/File:Pleniere.JPG" TargetMode="External"/><Relationship Id="rId3" Type="http://schemas.openxmlformats.org/officeDocument/2006/relationships/hyperlink" Target="http://en.wikipedia.org/wiki/File:Pleniere.JPG" TargetMode="External"/><Relationship Id="rId4" Type="http://schemas.openxmlformats.org/officeDocument/2006/relationships/hyperlink" Target="http://en.wikipedia.org/wiki/File:EU_Council_Room.jpg" TargetMode="External"/><Relationship Id="rId5" Type="http://schemas.openxmlformats.org/officeDocument/2006/relationships/hyperlink" Target="http://en.wikipedia.org/wiki/File:European_Commission_Room_(Open_Day)_1.jpg" TargetMode="External"/><Relationship Id="rId6" Type="http://schemas.openxmlformats.org/officeDocument/2006/relationships/hyperlink" Target="http://en.wikipedia.org/wiki/File:European_central_bank_euro_frankfurt_germany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5560" y="5780160"/>
            <a:ext cx="78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900" spc="-1" strike="noStrike">
                <a:solidFill>
                  <a:srgbClr val="003366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620640"/>
          <a:ext cx="6841800" cy="4546440"/>
        </p:xfrm>
        <a:graphic>
          <a:graphicData uri="http://schemas.openxmlformats.org/drawingml/2006/table">
            <a:tbl>
              <a:tblPr/>
              <a:tblGrid>
                <a:gridCol w="1562040"/>
                <a:gridCol w="1891440"/>
                <a:gridCol w="830160"/>
                <a:gridCol w="136800"/>
                <a:gridCol w="136440"/>
                <a:gridCol w="399960"/>
                <a:gridCol w="1008360"/>
                <a:gridCol w="876600"/>
              </a:tblGrid>
              <a:tr h="727200">
                <a:tc gridSpan="2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90800" bIns="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eská republika a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stitutions in E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240"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eden  20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560">
                <a:tc gridSpan="8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ezentace k seznámení s hlavními institucemi Evropské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040">
                <a:tc gridSpan="8">
                  <a:txBody>
                    <a:bodyPr lIns="68760" rIns="68760" tIns="1908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Vysvětlete, co je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Nechte studenty přiřadit české názvy institucí k anglickým výrazů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Prezentujte jednotlivé institu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Vyzvěte studenty k přiřazení činností k jednotlivým institucí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1332000" y="765000"/>
            <a:ext cx="3882960" cy="838440"/>
            <a:chOff x="1332000" y="765000"/>
            <a:chExt cx="3882960" cy="83844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8954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168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European Central Bank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0228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a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ankfurt am 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intains price stability in the Euro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87480" cy="3717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104320" y="597528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Court of Auditor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360" y="2361960"/>
            <a:ext cx="422928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a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ussels &amp;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mbers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4 members 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1520" indent="-551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cks the financing of the EU's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00440" y="2519280"/>
            <a:ext cx="3751560" cy="275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52000" y="496728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1840" y="5538960"/>
            <a:ext cx="270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emises in Luxembour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3040" y="28728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ich i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7280" y="1317600"/>
            <a:ext cx="43005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udits the accounts of EU institutions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dvises in interpretation of the EU laws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as no powers to pass EU laws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poses EU laws and EU budget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72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sses EU laws and approves EU budget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eep inflation under control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5280" y="1279080"/>
            <a:ext cx="43923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The Court of Audito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ropean Court of Justic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European Counci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European Commiss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European Parlia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Council of the European Un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European Central Ban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44360"/>
            <a:ext cx="768672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 WL. Wikipedie Otevřená encyklopedie. Wikipedie [online]. 2006 January. [cit. 2014-01-17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s.wikipedia.org/wiki/Soubor:European-parliament-brussels-inside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2 PPCOE. Wikipedia The Free Encyclopedia. Wikipedia [online]. 2009-03-04. [cit. 2014-01-17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File:Pleniere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3 SSOLBERGJ. Wikipedia The Free Encyclopedia. Wikipedia [online]. 2010-02-12. [cit. 2014-01-17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n.wikipedia.org/wiki/File:Pleniere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4 JLOGAN. Wikipedia The Free Encyclopedia. Wikipedia [online]. 2007-05-05. [cit. 2014-01-17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en.wikipedia.org/wiki/File:EU_Council_Room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5 JLOGAN. Wikipedia The Free Encyclopedia. Wikipedia [online]. 2007-05-05. [cit. 2014-01-17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en.wikipedia.org/wiki/File:European_Commission_Room_(Open_Day)_1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6 ARCCAN. Wikipedia The Free Encyclopedia. Wikipedia [online]. 2010-10-10. [cit. 2014-01-17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en.wikipedia.org/wiki/File:European_central_bank_euro_frankfurt_germany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7 EUSESON. Wikipedia The Free Encyclopedia. Wikipedia [online]. 2007-12-16. [cit. 2014-01-17]. Dostupný pod licencí Creative Commons na: http://en.wikipedia.org/wiki/File:Europ%C3%A4ischer_Rechnungshof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830240"/>
            <a:ext cx="7691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European Union (EU) is a family of democratic European countries, committed to working together for peace and prosperity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core of the institutional framework consists of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v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stitutions of the EU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cept there are other advisory bodies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ch the institution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5640" y="2361960"/>
            <a:ext cx="456084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entral Ba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Court of Audi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Parlia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ounc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Council of European Un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ourt of Just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400680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ý parla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á 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Rada Evropské u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á kom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oudní dvůr Evropské u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á centrální ban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ý účetní dvů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5640" y="2361960"/>
            <a:ext cx="456084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Parlia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ounc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Council of European Un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ourt of Just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European Central Ba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Court of Audi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422280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ý parla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á 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Rada Evropské u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á kom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oudní dvůr Evropské u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á centrální ban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vropský účetní dvů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European Parliamen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1880" y="4895640"/>
            <a:ext cx="72072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at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ussels &amp; Strasbou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mbers: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85 Mps   (EU´s citize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bates and passes European laws and bud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2160" y="1954080"/>
            <a:ext cx="3141720" cy="2355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11640" y="1971720"/>
            <a:ext cx="3456000" cy="22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4360" y="338292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48000" y="3384720"/>
            <a:ext cx="1398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0680" y="431964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1640" y="4387680"/>
            <a:ext cx="139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European Council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015640"/>
            <a:ext cx="768672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a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uss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mber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ads of State or Government of th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mber States and the President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Com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ts the EU's general political direction and prio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22560" y="4422600"/>
            <a:ext cx="3317760" cy="1773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52720" y="6335640"/>
            <a:ext cx="3414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e European Council Lo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8320" y="583092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he Council of European Unio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2361960"/>
            <a:ext cx="431964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23800" indent="-5238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a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3800" indent="-5238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mbers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7 mini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3800" indent="-5238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ses EU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3800" indent="-52380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proves the EU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67280" y="2016000"/>
            <a:ext cx="30765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177040" y="540072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6119640"/>
            <a:ext cx="4686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e main meeting room of the Council of E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156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0360" indent="-5403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a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mbers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7 commissio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540360" indent="-5403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osing new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Parliament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70520" y="1913040"/>
            <a:ext cx="3165480" cy="413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04320" y="5759280"/>
            <a:ext cx="13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36800" y="6119640"/>
            <a:ext cx="5661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e main meeting room of the European Commis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3040" y="833400"/>
            <a:ext cx="7774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European Court of Justic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a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mbers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7 judges, 8 Advocate-Gener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55480" algn="ctr">
              <a:spcBef>
                <a:spcPts val="700"/>
              </a:spcBef>
              <a:tabLst>
                <a:tab algn="l" pos="0"/>
                <a:tab algn="l" pos="55872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542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 algn="ctr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542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es care of the correct interpretation of European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4:12Z</dcterms:created>
  <dc:creator>zikmundova</dc:creator>
  <dc:description/>
  <dc:language>en-US</dc:language>
  <cp:lastModifiedBy>zikmundova</cp:lastModifiedBy>
  <dcterms:modified xsi:type="dcterms:W3CDTF">2013-11-20T13:11:29Z</dcterms:modified>
  <cp:revision>13</cp:revision>
  <dc:subject/>
  <dc:title>The Czech Republic</dc:title>
</cp:coreProperties>
</file>