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E976-60C0-4617-82E6-E7E5AB0F27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1B40A-3B9F-486A-AC09-D449F55882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CCA-5C64-4A55-B2B5-08EF145D0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EFA8-10DB-45B7-A182-26ED873A6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31B4-9FCB-4CDC-8D1B-38F972678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A4B0-7DF0-4907-9521-83289280C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6E9D-B3E5-4ABB-BEB9-964219CE6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C32C-3161-4662-8CB6-564BF032B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40A9-1355-48CC-BE43-39BFFEF54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066C-A005-4F3B-A77A-1D6F8864F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6035-DD71-4D5D-B194-060914F09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B473-4243-4A65-8900-EF47A82F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0CDA-ED7C-4451-B83C-2DF683F6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D4E1-96B5-4DC4-B5AF-BA6F29833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E0121-4B63-4A03-AF0C-22A5EB7D7ECD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187280" y="826920"/>
          <a:ext cx="7059600" cy="4633560"/>
        </p:xfrm>
        <a:graphic>
          <a:graphicData uri="http://schemas.openxmlformats.org/drawingml/2006/table">
            <a:tbl>
              <a:tblPr/>
              <a:tblGrid>
                <a:gridCol w="1634040"/>
                <a:gridCol w="1980000"/>
                <a:gridCol w="871920"/>
                <a:gridCol w="155520"/>
                <a:gridCol w="155520"/>
                <a:gridCol w="392040"/>
                <a:gridCol w="1054800"/>
                <a:gridCol w="815760"/>
              </a:tblGrid>
              <a:tr h="816120">
                <a:tc gridSpan="2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28440" bIns="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mber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íj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284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800">
                <a:tc gridSpan="8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vysvětlující události související s datem 17. listopad  v letech 1939 a 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1000">
                <a:tc gridSpan="8">
                  <a:txBody>
                    <a:bodyPr lIns="68760" rIns="68760" tIns="284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Spusťte prezenta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Vysvětlete sled událostí, které se staly v daných lete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Vyzvěte žáky, aby odpověděli na závěrečné otáz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1332000" y="765000"/>
            <a:ext cx="3889440" cy="844560"/>
            <a:chOff x="1332000" y="765000"/>
            <a:chExt cx="3889440" cy="8445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332000" y="765000"/>
              <a:ext cx="290196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643280" y="898560"/>
              <a:ext cx="57816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ember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s been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ggle for Freedom and Democrac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hon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students demonstration against the Nazi in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protest against the Comunists in 198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 to rev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y is November 17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ich years were student demonstartions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y and where was the first student protest take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was the result of the pro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 to rev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. Why and where was the second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est take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 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 What was the result of the pro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. How has the event changed lives of Czech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national Students' Day. (2013, November 17). In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Retrieved 08:10, November 22, 2013, from http://en.wikipedia.org/w/index.php?title=International_Students%27_Day&amp;oldid=5820391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lvet Revolution. (2013, November 18). In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Retrieved 08:13, November 22, 2013, from http://en.wikipedia.org/w/index.php?title=Velvet_Revolution&amp;oldid=5821651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ember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y is the dat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vet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939    Students´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udents´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October 1939 a quiet demonstration took place in Prague to remind the Czechoslovak Independenc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demonstration was violently  suppressed by the police and SS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medical student Jan Opletal was shot and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udents´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 the day of his funeral – hundreds people and students demonstrated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demonstration changed into the protest against the N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protest culminated on 17th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Germans violently suppressed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udents´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Gestapo and SS units attacked student ho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rested more than 120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ok them to concentration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ne leading students were executed in Ruzyně without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udents´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olf Hitler ordered the closing of college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London in 1941 – an international student meeting took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ational Student´s Day was procla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fty years la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 17 November 19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student march was orga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 remind 50th aniversary student demonstration against the Nazi occu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turned into anti-Comunist and government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eaceful demonstration was violently suppressed by the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xt day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llowing mass protests were held in several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blic discussions were h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Civic Forum was established as a group of speakers of democratic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leader Václav H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elvet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Civic Forum issued a declaration of its demands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5 % of the Czech population supported the demands by the general st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December Václav Havel became the president of free Czechoslovac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3-11-22T08:14:33Z</dcterms:modified>
  <cp:revision>13</cp:revision>
  <dc:subject/>
  <dc:title>Snímek 1</dc:title>
</cp:coreProperties>
</file>