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E1FC-8296-4C99-8E93-A04F7952DF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A509D-0E48-480F-962E-9797018168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E1E5-F2EA-4E48-814B-8E4DE95C7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5217-3A5D-4BD9-93C3-0501647C4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E7A4-98C1-44ED-9E9F-C5D9E7B9F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4FA6-0B34-4C3D-8ADE-58D3C0165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2FF4-562C-4703-A6AA-5106B1316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3B4B-788D-4409-9727-20CC21DCC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D47D-C0B7-43DF-B691-36C2FC711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3424-0255-403F-872E-B737AE0D6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E200-B88E-4839-91AF-D49E41EA4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373C-B0E1-4F42-B6F2-5E218C3D4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525A-80E4-460D-9863-315637FDA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F884-D872-4D3F-9E92-D80E2E3FA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D0FFF-49CA-41D4-816E-B9486B9029EC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7280" y="826920"/>
          <a:ext cx="7059600" cy="4694040"/>
        </p:xfrm>
        <a:graphic>
          <a:graphicData uri="http://schemas.openxmlformats.org/drawingml/2006/table">
            <a:tbl>
              <a:tblPr/>
              <a:tblGrid>
                <a:gridCol w="1634040"/>
                <a:gridCol w="1980000"/>
                <a:gridCol w="871920"/>
                <a:gridCol w="155520"/>
                <a:gridCol w="155520"/>
                <a:gridCol w="392040"/>
                <a:gridCol w="1054800"/>
                <a:gridCol w="815760"/>
              </a:tblGrid>
              <a:tr h="868680">
                <a:tc gridSpan="2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 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412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gue - The Royal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inec 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52560" bIns="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120">
                <a:tc gridSpan="8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k seznámení s Královskou cestou v Pra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0">
                <a:tc gridSpan="8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Vysvětlete význam Královské ces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Spusťte prezentaci a projdětejednotlivé snímky Královské ces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Vyzvěte studenty, aby seřadili místa Královské c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echte studenty zakreslit Královskou cestu do map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1476360" y="838080"/>
            <a:ext cx="3889440" cy="844560"/>
            <a:chOff x="1476360" y="838080"/>
            <a:chExt cx="3889440" cy="8445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196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78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125892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rudova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t used to be much narrower street with timber beans on the steeply sloped ground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med after Jan Neruda who was born and live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t is unique with historic porches, doors, locks and door sig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906720" cy="2930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786720" y="6329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wards Pragu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0360" y="1619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voz – Pohořelec – Loretánsk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ort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road from Nerudova Street leading directly to the Castle was cut out in the stone in 17th centur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gu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ne of the largest castle complexes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St. Vitus Cathedral - the largest and the most significant Prague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t houses the crown jewels, bodily remains of Czech kings, precious religious relics and artefacts, art treasures and historica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664000" cy="2638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49640" y="3521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82000" y="3448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81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ut places in chronological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360" y="1800360"/>
            <a:ext cx="40147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řížovnick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d Town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hořel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et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ublic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es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rudov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00720" y="1800360"/>
            <a:ext cx="41954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Karlov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Ú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radčany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l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lostransk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agu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4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ublic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et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d Town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rlov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řížovnick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19640" y="1618920"/>
            <a:ext cx="41400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arles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lostransk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rudov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Ú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hořel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radčanské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agu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28520"/>
            <a:ext cx="822816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aw the ro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the map of Pr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8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 Wikipedie Otevřená encyklopedia. PETR 1868. Wikipedie [online].  2008-01-24. [cit. 2013-12-26]. Dostupný pod licencí Creative Commons na: http://cs.wikipedia.org/wiki/Soubor:Praha_-_n%C3%A1m%C4%9Bst%C3%AD_Republiky,_Obecn%C3%AD_d%C5%AFm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2Wikipedie Otevřená encyklopedia. SKÁLA, Ben. Wikipedie [online]. 2009-11-17. [cit. 2013-12-26]. Dostupný pod licencí Creative Commons na: 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Views_of_Prague_from_Church_of_Our_Lady_in_front_of_T%C3%BDn_tower2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kipedie Otevřená encyklopedia. JOJAN. Wikipedie [online]. 201-05-23. 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cit. 2013-12-26]. Dostupnýpod licencí Creative Commons na: http://cs.wikipedia.org/wiki/Soubor:Praag_01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4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kipedie Otevřená encyklopedia. ROYAN, Jorge. Wikipedie [online]. 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8. vyd. [cit. 2013-12-26]. Dostupný pod licencí Creative Commons na: 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Malostranske_Namesti,_Prague_-_7833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5 ROLETSCHEK, Ralf. Wikipedie Otevřená encyklopedie. 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[online]. 2011-06-11. [cit. 2013-12-27]. Dostupný pod licencí Creative Commons na : http://cs.wikipedia.org/wiki/Soubor:Malostranske_Namesti,_Prague_-_7833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6 Wikipedie Otevřená encyklopedia. ISLAND, Joker. Wikipedie [online]. 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7-07-08. [cit. 2013-12-26]. Dostupné z: 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U_Dvou_Sluncu.JPG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7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ILESIUS, Petrus. Wikipedie Otevřená encyklopedie. 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[online]. 2008-03. [cit. 2013-12-27]. Dostupný pod licencí Creative Commons na: http://cs.wikipedia.org/wiki/Soubor:Prager_Burg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8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LICKER. Wikipedie Otevřená encyklopedie. 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[online]. 2007-08-01. [cit. 2013-12-27]. Dostupný pod licencí Creative Commons na: http://cs.wikipedia.org/wiki/Soubor:Praha,_Katedr%C3%A1la,_JV_01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Royal Ro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360" y="1619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an you find the Royal Route on the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is the Royal Ro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the most beautiful sightseeing route in the city of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at does the Royal Rout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a route that the Czech kings pa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a procession to their coro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the St. Vitus Cathedral at the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astle, which was the spiritual centre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ing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ere did the route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593360"/>
            <a:ext cx="822816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 Royal Court – used to be a comfortable residence for rullers since the peak period of the Middle 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 the place of current Municipal House in Republic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4176720" cy="2782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86720" y="6040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wards Pragu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letná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nks the Republic Square with the Old Town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 of the oldest streets in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cellars of many buildings there are the foundations of Romanesque and Gothic buil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ld Town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large square in the centre of the Old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t used to be a wide marketpla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ulturally and historically significant plac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place of many celebrations, knights’ tournaments, gatherings and bloody exec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535280" cy="3011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02360" y="625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wards Pragu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quare - Karlova Street  - Křížovnické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a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d to be an important business connection the marketplace of Old Town Square with the stone Judith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wadays – the most frequented tourist routes through Prag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arles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27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stone bridge with 16 arches built in 13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corated with excellent 31 sculp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st of them belong to the best works of Central-European Baroque scul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trio of protective towers is a part of the bridg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3907080" cy="293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42000" y="6184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lostranské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816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t used to be a market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square was divided by the complex of St. Nicholas Church and Jesuits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lower part has a civil character with tram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upper part became a calm aristocratic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02360" y="6329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168720" cy="200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024360" cy="2009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94000" y="3160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26360" y="3160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zikmundova</cp:lastModifiedBy>
  <dcterms:modified xsi:type="dcterms:W3CDTF">2013-12-27T12:06:12Z</dcterms:modified>
  <cp:revision>8</cp:revision>
  <dc:subject/>
  <dc:title>Snímek 1</dc:title>
</cp:coreProperties>
</file>